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1453-A963-428A-893A-AD4D8218D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5FE0-F700-4144-8E1B-877FAC7E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CC81-62FF-49C4-9FBC-85D970FBE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EF0D-0C59-4DF1-B355-A98BED6C6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9B61D-9AE6-4E94-922C-A59FDCA96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25CD-6D63-439C-ADF2-A5485C4D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D21E-3180-4FE7-AB30-BFC47652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5DF7-6DA0-4255-9CBA-6BB4E083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8006-AFF0-4524-8FC1-E13F42A0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28AB-433C-4174-A25C-750F0A5C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AA59-75D5-4A5E-8F40-FF52BE36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040B-2127-4024-ABE5-B3BBC5B5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0EC0-5EA6-406A-96CD-4F22E083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06A7-9F81-4A78-B4D1-59976CF1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EB99-8E0B-4D3E-8097-758DFB04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5351-BD0A-4A96-B5BD-CC8D45A0C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45B2-2F43-4107-8B89-4E6993189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DF6D-621E-4C60-BBD0-1B8ED276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D60B-D96F-4D45-8AE6-BDD7EAF3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5622-9CDB-44AF-82C3-E76CD6CC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B92B-CD59-41DE-9D9A-EB773598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CB96-9B6A-427F-A20A-35155A88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FCC5-AA1C-4A88-A221-B9DE0974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9857-DFA4-4AD5-BED8-33714F22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B4F8-7AC2-4D30-A8D1-B89885F24431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3EB6-CBDD-4668-9950-405317D826A7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2"/>
          <p:cNvSpPr/>
          <p:nvPr/>
        </p:nvSpPr>
        <p:spPr>
          <a:xfrm>
            <a:off x="2401920" y="6095880"/>
            <a:ext cx="47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918240" y="212760"/>
            <a:ext cx="17200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ffffff"/>
                </a:solidFill>
                <a:latin typeface="MT Extra"/>
                <a:ea typeface="MT Extra"/>
              </a:rPr>
              <a:t>雨说</a:t>
            </a:r>
            <a:endParaRPr b="0" lang="en-US" sz="16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3" name="小雨沙沙1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4" name="矩形 1"/>
          <p:cNvSpPr/>
          <p:nvPr/>
        </p:nvSpPr>
        <p:spPr>
          <a:xfrm>
            <a:off x="6338160" y="486900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郑愁予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矩形 3"/>
          <p:cNvSpPr/>
          <p:nvPr/>
        </p:nvSpPr>
        <p:spPr>
          <a:xfrm>
            <a:off x="539640" y="2852640"/>
            <a:ext cx="79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为生活在中国大地上的儿童而歌</a:t>
            </a:r>
            <a:endParaRPr b="0" lang="en-US" sz="6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文本框 1"/>
          <p:cNvSpPr/>
          <p:nvPr/>
        </p:nvSpPr>
        <p:spPr>
          <a:xfrm>
            <a:off x="181080" y="6400800"/>
            <a:ext cx="52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幻灯片之家 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8" name="Picture 4" descr="36-2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2"/>
          <p:cNvSpPr/>
          <p:nvPr/>
        </p:nvSpPr>
        <p:spPr>
          <a:xfrm>
            <a:off x="411120" y="2055960"/>
            <a:ext cx="8732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        </a:t>
            </a:r>
            <a:r>
              <a:rPr b="1" lang="zh-CN" sz="48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听录音，找出自己感受最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深的意象词语，通过联想和想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象，把他描绘成一幅图画。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866600" y="333360"/>
            <a:ext cx="535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在淅淅沥沥的春雨中，田圃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……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牧场上的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新苗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……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池塘的鱼儿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……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还有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……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文本框 1"/>
          <p:cNvSpPr/>
          <p:nvPr/>
        </p:nvSpPr>
        <p:spPr>
          <a:xfrm>
            <a:off x="625320" y="5224320"/>
            <a:ext cx="254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3" name="Picture 4" descr="36-2"/>
          <p:cNvPicPr/>
          <p:nvPr/>
        </p:nvPicPr>
        <p:blipFill>
          <a:blip r:embed="rId1"/>
          <a:stretch/>
        </p:blipFill>
        <p:spPr>
          <a:xfrm>
            <a:off x="0" y="0"/>
            <a:ext cx="4419720" cy="3516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39-1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3505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1016-1"/>
          <p:cNvPicPr/>
          <p:nvPr/>
        </p:nvPicPr>
        <p:blipFill>
          <a:blip r:embed="rId3"/>
          <a:stretch/>
        </p:blipFill>
        <p:spPr>
          <a:xfrm>
            <a:off x="0" y="3505320"/>
            <a:ext cx="9144000" cy="3298680"/>
          </a:xfrm>
          <a:prstGeom prst="rect">
            <a:avLst/>
          </a:prstGeom>
          <a:ln w="0">
            <a:noFill/>
          </a:ln>
        </p:spPr>
      </p:pic>
      <p:pic>
        <p:nvPicPr>
          <p:cNvPr id="106" name="geq.MPG" descr=""/>
          <p:cNvPicPr/>
          <p:nvPr/>
        </p:nvPicPr>
        <p:blipFill>
          <a:blip r:embed="rId4"/>
          <a:stretch/>
        </p:blipFill>
        <p:spPr>
          <a:xfrm>
            <a:off x="1066680" y="380880"/>
            <a:ext cx="6934320" cy="56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6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2748960" y="1312920"/>
            <a:ext cx="3909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1.</a:t>
            </a:r>
            <a:r>
              <a:rPr b="0" i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细腻精巧的语言美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cc00cc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cc00cc"/>
                </a:solidFill>
                <a:latin typeface="华文新魏"/>
                <a:ea typeface="华文新魏"/>
              </a:rPr>
              <a:t>我的爱心像丝缕那样把天地织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华文新魏"/>
                <a:ea typeface="华文新魏"/>
              </a:rPr>
              <a:t>    </a:t>
            </a:r>
            <a:r>
              <a:rPr b="0" lang="zh-CN" sz="3200" spc="-1" strike="noStrike">
                <a:solidFill>
                  <a:srgbClr val="cc00cc"/>
                </a:solidFill>
                <a:latin typeface="华文新魏"/>
                <a:ea typeface="华文新魏"/>
              </a:rPr>
              <a:t>在一起</a:t>
            </a:r>
            <a:r>
              <a:rPr b="0" lang="zh-CN" sz="32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2.</a:t>
            </a:r>
            <a:r>
              <a:rPr b="0" i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拟人化手法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cc00cc"/>
                </a:solidFill>
                <a:latin typeface="华文新魏"/>
                <a:ea typeface="华文新魏"/>
              </a:rPr>
              <a:t>我来了，我走得很轻，而且温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cc00cc"/>
                </a:solidFill>
                <a:latin typeface="华文新魏"/>
                <a:ea typeface="华文新魏"/>
              </a:rPr>
              <a:t>细语的</a:t>
            </a:r>
            <a:r>
              <a:rPr b="0" lang="zh-CN" sz="32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cc00cc"/>
                </a:solidFill>
                <a:latin typeface="华文新魏"/>
                <a:ea typeface="华文新魏"/>
              </a:rPr>
              <a:t>柳条儿见了我笑弯了腰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华文新魏"/>
                <a:ea typeface="华文新魏"/>
              </a:rPr>
              <a:t>石狮子见了我笑出了泪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华文新魏"/>
                <a:ea typeface="华文新魏"/>
              </a:rPr>
              <a:t>小燕子见了我笑斜了翅膀啊</a:t>
            </a:r>
            <a:r>
              <a:rPr b="0" lang="zh-CN" sz="32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600200" y="609480"/>
            <a:ext cx="1828800" cy="581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欣赏品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304920" y="990720"/>
            <a:ext cx="86104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9900"/>
                </a:solidFill>
                <a:latin typeface="Times New Roman"/>
              </a:rPr>
              <a:t>家庭作业：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Times New Roman"/>
              </a:rPr>
              <a:t>诵读诗歌，与</a:t>
            </a:r>
            <a:r>
              <a:rPr b="1" lang="en-US" sz="5400" spc="-1" strike="noStrike">
                <a:solidFill>
                  <a:srgbClr val="ff00ff"/>
                </a:solidFill>
                <a:latin typeface="Times New Roman"/>
              </a:rPr>
              <a:t>《</a:t>
            </a:r>
            <a:r>
              <a:rPr b="1" lang="zh-CN" sz="5400" spc="-1" strike="noStrike">
                <a:solidFill>
                  <a:srgbClr val="ff00ff"/>
                </a:solidFill>
                <a:latin typeface="Times New Roman"/>
              </a:rPr>
              <a:t>再别康桥</a:t>
            </a:r>
            <a:r>
              <a:rPr b="1" lang="en-US" sz="5400" spc="-1" strike="noStrike">
                <a:solidFill>
                  <a:srgbClr val="ff00ff"/>
                </a:solidFill>
                <a:latin typeface="Times New Roman"/>
              </a:rPr>
              <a:t>》</a:t>
            </a:r>
            <a:r>
              <a:rPr b="1" lang="zh-CN" sz="5400" spc="-1" strike="noStrike">
                <a:solidFill>
                  <a:srgbClr val="ff00ff"/>
                </a:solidFill>
                <a:latin typeface="Times New Roman"/>
              </a:rPr>
              <a:t>、</a:t>
            </a:r>
            <a:r>
              <a:rPr b="1" lang="en-US" sz="5400" spc="-1" strike="noStrike">
                <a:solidFill>
                  <a:srgbClr val="ff00ff"/>
                </a:solidFill>
                <a:latin typeface="Times New Roman"/>
              </a:rPr>
              <a:t>《</a:t>
            </a:r>
            <a:r>
              <a:rPr b="1" lang="zh-CN" sz="5400" spc="-1" strike="noStrike">
                <a:solidFill>
                  <a:srgbClr val="ff00ff"/>
                </a:solidFill>
                <a:latin typeface="Times New Roman"/>
              </a:rPr>
              <a:t>田野</a:t>
            </a:r>
            <a:r>
              <a:rPr b="1" lang="en-US" sz="5400" spc="-1" strike="noStrike">
                <a:solidFill>
                  <a:srgbClr val="ff00ff"/>
                </a:solidFill>
                <a:latin typeface="Times New Roman"/>
              </a:rPr>
              <a:t>》</a:t>
            </a:r>
            <a:r>
              <a:rPr b="1" lang="zh-CN" sz="5400" spc="-1" strike="noStrike">
                <a:solidFill>
                  <a:srgbClr val="ff00ff"/>
                </a:solidFill>
                <a:latin typeface="Times New Roman"/>
              </a:rPr>
              <a:t>作比较，看有何异同。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文本框 1"/>
          <p:cNvSpPr/>
          <p:nvPr/>
        </p:nvSpPr>
        <p:spPr>
          <a:xfrm>
            <a:off x="304920" y="5956200"/>
            <a:ext cx="699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4" name="Picture 3" descr="c033"/>
          <p:cNvPicPr/>
          <p:nvPr/>
        </p:nvPicPr>
        <p:blipFill>
          <a:blip r:embed="rId1"/>
          <a:stretch/>
        </p:blipFill>
        <p:spPr>
          <a:xfrm>
            <a:off x="-228600" y="-380880"/>
            <a:ext cx="9372600" cy="72388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2"/>
          <p:cNvSpPr/>
          <p:nvPr/>
        </p:nvSpPr>
        <p:spPr>
          <a:xfrm>
            <a:off x="1143000" y="2438280"/>
            <a:ext cx="6781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让我们做诗的知己吧，让无数珍贵的生命的花朵，带着灵魂的闪光思想的色彩、感情的汁液，融入我们的生命，使我们的精神世界永不成为沙漠和荒原吧！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         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邵燕祥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7" name="Picture 4" descr="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1143000" y="1219320"/>
            <a:ext cx="67816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华文新魏"/>
                <a:ea typeface="华文新魏"/>
              </a:rPr>
              <a:t>       </a:t>
            </a:r>
            <a:r>
              <a:rPr b="1" lang="zh-CN" sz="4000" spc="-1" strike="noStrike">
                <a:solidFill>
                  <a:srgbClr val="6600ff"/>
                </a:solidFill>
                <a:latin typeface="华文新魏"/>
                <a:ea typeface="华文新魏"/>
              </a:rPr>
              <a:t>让我们做诗的知己吧，让无数珍贵的生命的花朵，带着灵魂的闪光思想的色彩、感情的汁液，融入我们的生命，使我们的精神世界永不成为沙漠和荒原吧！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华文新魏"/>
                <a:ea typeface="华文新魏"/>
              </a:rPr>
              <a:t>                               </a:t>
            </a:r>
            <a:r>
              <a:rPr b="1" lang="en-US" sz="40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——</a:t>
            </a:r>
            <a:r>
              <a:rPr b="1" lang="zh-CN" sz="4000" spc="-1" strike="noStrike">
                <a:solidFill>
                  <a:srgbClr val="6600ff"/>
                </a:solidFill>
                <a:latin typeface="华文新魏"/>
                <a:ea typeface="华文新魏"/>
              </a:rPr>
              <a:t>邵燕祥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b0ae6a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b5249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8DE2-4A30-4A5A-8861-CD58501BB72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6T07:12:4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12:18Z</dcterms:modified>
  <cp:revision>1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