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gif" ContentType="image/gif"/>
  <Override PartName="/ppt/media/image7.jpeg" ContentType="image/jpeg"/>
  <Override PartName="/ppt/media/camera.wav" ContentType="audio/x-wav"/>
  <Override PartName="/ppt/media/image8.png" ContentType="image/png"/>
  <Override PartName="/ppt/media/chimes.wav" ContentType="audio/x-wav"/>
  <Override PartName="/ppt/media/image9.jpeg" ContentType="image/jpeg"/>
  <Override PartName="/ppt/media/image11.jpeg" ContentType="image/jpeg"/>
  <Override PartName="/ppt/media/type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6E4B0-0E5A-49FE-B986-85D2CB84467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11.xml"/><Relationship Id="rId24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669E7-191A-4E4B-BB0C-1BF23C99B42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DC22-498B-42B2-8108-A06B61B33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A00A-6BC9-4E9E-89FD-17A1C6663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E364-C187-4A77-A736-1AABE9D42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E552-A284-43C2-B571-1B5309079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F538-5700-48F7-A904-18BAF6763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5237-8A44-483D-8FF0-F0A9FAC6B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6A89-583E-45CC-B918-E8A713CB1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F878-A229-4783-A3FB-01FA38590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26A6-C699-45C3-9FC2-F6A4141A8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DC3E-D9D6-49DA-ADEB-5C9EC190E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1D77-88E0-4603-9E5E-288111FCA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7CD1-795F-4D3F-9314-C6344D591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1A6A9-4D52-4B38-A976-792A36EAF51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type.wav"/><Relationship Id="rId3" Type="http://schemas.openxmlformats.org/officeDocument/2006/relationships/audio" Target="../media/chimes.wav"/><Relationship Id="rId4" Type="http://schemas.openxmlformats.org/officeDocument/2006/relationships/audio" Target="../media/type.wav"/><Relationship Id="rId5" Type="http://schemas.openxmlformats.org/officeDocument/2006/relationships/audio" Target="../media/chimes.wav"/><Relationship Id="rId6" Type="http://schemas.openxmlformats.org/officeDocument/2006/relationships/audio" Target="../media/type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camera.wav"/><Relationship Id="rId3" Type="http://schemas.openxmlformats.org/officeDocument/2006/relationships/audio" Target="../media/type.wav"/><Relationship Id="rId4" Type="http://schemas.openxmlformats.org/officeDocument/2006/relationships/audio" Target="../media/camera.wav"/><Relationship Id="rId5" Type="http://schemas.openxmlformats.org/officeDocument/2006/relationships/audio" Target="../media/type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10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038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WordArt 4"/>
          <p:cNvSpPr txBox="1"/>
          <p:nvPr/>
        </p:nvSpPr>
        <p:spPr>
          <a:xfrm>
            <a:off x="2000160" y="1219320"/>
            <a:ext cx="5143680" cy="101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华文中宋"/>
              </a:rPr>
              <a:t>海滨仲夏夜</a:t>
            </a:r>
            <a:endParaRPr b="1" lang="en-US" sz="80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华文中宋"/>
              <a:ea typeface="华文中宋"/>
            </a:endParaRPr>
          </a:p>
        </p:txBody>
      </p:sp>
      <p:sp>
        <p:nvSpPr>
          <p:cNvPr id="50" name="矩形 4"/>
          <p:cNvSpPr/>
          <p:nvPr/>
        </p:nvSpPr>
        <p:spPr>
          <a:xfrm>
            <a:off x="1827000" y="571500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ffff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-605520" y="2133720"/>
            <a:ext cx="139932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宋体"/>
              </a:rPr>
              <a:t>五幅图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3"/>
          <p:cNvSpPr/>
          <p:nvPr/>
        </p:nvSpPr>
        <p:spPr>
          <a:xfrm>
            <a:off x="762120" y="457200"/>
            <a:ext cx="457200" cy="5715000"/>
          </a:xfrm>
          <a:custGeom>
            <a:avLst/>
            <a:gdLst>
              <a:gd name="textAreaLeft" fmla="*/ 292320 w 457200"/>
              <a:gd name="textAreaRight" fmla="*/ 457560 w 457200"/>
              <a:gd name="textAreaTop" fmla="*/ 148680 h 5715000"/>
              <a:gd name="textAreaBottom" fmla="*/ 5566320 h 5715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1143000" y="2919240"/>
            <a:ext cx="8001000" cy="35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第三幅：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色彩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：夜色加深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         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光线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：天上的明灯多起来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海港周围                                  的灯光也亮起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第四幅：霞光、大海、星斗、灯光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绚丽多彩                 劳动者的欢声笑语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丰收喜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第五幅：月色：皎洁明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               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海滩景色：谈笑、睡觉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1295280" y="304920"/>
            <a:ext cx="701064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第一幅：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色彩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：橘红色、红色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        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光线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：“闪烁”“消失”“滚动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第二幅：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色彩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：深红色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—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绯红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—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浅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         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光线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：红光消失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—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启明星出现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" descr="book1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620120" y="5410080"/>
            <a:ext cx="1218960" cy="10652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8" dur="1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3" dur="10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0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5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5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矩形 6"/>
          <p:cNvSpPr/>
          <p:nvPr/>
        </p:nvSpPr>
        <p:spPr>
          <a:xfrm>
            <a:off x="2133720" y="259092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041"/>
          <p:cNvPicPr/>
          <p:nvPr/>
        </p:nvPicPr>
        <p:blipFill>
          <a:blip r:embed="rId1"/>
          <a:stretch/>
        </p:blipFill>
        <p:spPr>
          <a:xfrm>
            <a:off x="0" y="228600"/>
            <a:ext cx="8839080" cy="3808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041"/>
          <p:cNvPicPr/>
          <p:nvPr/>
        </p:nvPicPr>
        <p:blipFill>
          <a:blip r:embed="rId2"/>
          <a:stretch/>
        </p:blipFill>
        <p:spPr>
          <a:xfrm>
            <a:off x="0" y="6477120"/>
            <a:ext cx="8839080" cy="380880"/>
          </a:xfrm>
          <a:prstGeom prst="rect">
            <a:avLst/>
          </a:prstGeom>
          <a:ln w="0">
            <a:noFill/>
          </a:ln>
        </p:spPr>
      </p:pic>
      <p:sp>
        <p:nvSpPr>
          <p:cNvPr id="94" name="WordArt 6"/>
          <p:cNvSpPr txBox="1"/>
          <p:nvPr/>
        </p:nvSpPr>
        <p:spPr>
          <a:xfrm>
            <a:off x="457200" y="533520"/>
            <a:ext cx="44197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761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面临海滨领略美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228600" y="2227320"/>
            <a:ext cx="8458200" cy="24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请同学们再读课文，找出你最喜欢的句子，按下面的句式说话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我喜欢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Arial"/>
              </a:rPr>
              <a:t>           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，因为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Arial"/>
              </a:rPr>
              <a:t>    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提示：可从词语的运用、修辞、景物特征、作者感情等方面来谈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4"/>
          <p:cNvSpPr/>
          <p:nvPr/>
        </p:nvSpPr>
        <p:spPr>
          <a:xfrm>
            <a:off x="533520" y="685800"/>
            <a:ext cx="84582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例句分析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喜欢“</a:t>
            </a:r>
            <a:r>
              <a:rPr b="1" lang="zh-CN" sz="3600" spc="-1" strike="noStrike" u="sng">
                <a:solidFill>
                  <a:srgbClr val="0000cc"/>
                </a:solidFill>
                <a:uFillTx/>
                <a:latin typeface="Arial"/>
              </a:rPr>
              <a:t>那映照在浪峰上的霞光，又红又亮，简直像一片片霍霍燃烧的火焰，闪烁着，消失了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457200" y="335268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因为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</a:rPr>
              <a:t>作者把“又红又亮的霞光”比喻成“一片片霍霍燃烧着的火焰”。“火焰”写出了霞光的色彩和光亮，“燃烧着的火焰”突出了霞光的动态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8" descr="041"/>
          <p:cNvPicPr/>
          <p:nvPr/>
        </p:nvPicPr>
        <p:blipFill>
          <a:blip r:embed="rId1"/>
          <a:stretch/>
        </p:blipFill>
        <p:spPr>
          <a:xfrm>
            <a:off x="0" y="0"/>
            <a:ext cx="8839080" cy="3808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9" descr="041"/>
          <p:cNvPicPr/>
          <p:nvPr/>
        </p:nvPicPr>
        <p:blipFill>
          <a:blip r:embed="rId2"/>
          <a:stretch/>
        </p:blipFill>
        <p:spPr>
          <a:xfrm>
            <a:off x="0" y="6477120"/>
            <a:ext cx="883908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1676520" y="22860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找出文中的比喻句，看看这些比喻句用来写什么？有什么效果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1447920" y="1447920"/>
            <a:ext cx="739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、那映照在浪峰上的霞光，又红又亮，简直像一片片霍霍燃烧的火焰。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BD14578_"/>
          <p:cNvPicPr/>
          <p:nvPr/>
        </p:nvPicPr>
        <p:blipFill>
          <a:blip r:embed="rId1"/>
          <a:stretch/>
        </p:blipFill>
        <p:spPr>
          <a:xfrm>
            <a:off x="1371600" y="380880"/>
            <a:ext cx="314280" cy="31428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5"/>
          <p:cNvSpPr/>
          <p:nvPr/>
        </p:nvSpPr>
        <p:spPr>
          <a:xfrm>
            <a:off x="1600200" y="2514600"/>
            <a:ext cx="693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把霞光比作火焰，表现一种动态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1523880" y="3200400"/>
            <a:ext cx="716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、整个广漠的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······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活像一盏高挂的明灯。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1600200" y="388620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把启明星比作明灯，突出它的大和亮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1523880" y="457200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、那一片灯光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······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像一串流动着的珍珠。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1676520" y="533412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把波浪上面的灯光比作流动的珍珠，形象，富有动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WordArt 10"/>
          <p:cNvSpPr txBox="1"/>
          <p:nvPr/>
        </p:nvSpPr>
        <p:spPr>
          <a:xfrm rot="5400000">
            <a:off x="-1143000" y="1981080"/>
            <a:ext cx="3505320" cy="9144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9360">
                  <a:solidFill>
                    <a:srgbClr val="800000"/>
                  </a:solidFill>
                  <a:round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品读语言</a:t>
            </a:r>
            <a:endParaRPr b="1" i="1" lang="en-US" sz="1800" spc="1" strike="noStrike">
              <a:ln w="9360">
                <a:solidFill>
                  <a:srgbClr val="800000"/>
                </a:solidFill>
                <a:round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1371600" y="38088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4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、愉快的笑声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······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像平静的海面上不断的从这儿那儿涌起的波浪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1600200" y="1600200"/>
            <a:ext cx="693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表现笑声的此起彼伏，源源不断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1447920" y="2438280"/>
            <a:ext cx="693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5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、它像一面光辉四射的银盘似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1600200" y="3200400"/>
            <a:ext cx="624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表现明月的圆和亮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1447920" y="4114800"/>
            <a:ext cx="693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6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、闪烁着一片鱼鳞似的银波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1600200" y="495288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表现它层次分明而又闪闪发亮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WordArt 8"/>
          <p:cNvSpPr txBox="1"/>
          <p:nvPr/>
        </p:nvSpPr>
        <p:spPr>
          <a:xfrm rot="5400000">
            <a:off x="-1143000" y="1981080"/>
            <a:ext cx="3505320" cy="9144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9360">
                  <a:solidFill>
                    <a:srgbClr val="800000"/>
                  </a:solidFill>
                  <a:round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品读语言</a:t>
            </a:r>
            <a:endParaRPr b="1" i="1" lang="en-US" sz="1800" spc="1" strike="noStrike">
              <a:ln w="9360">
                <a:solidFill>
                  <a:srgbClr val="800000"/>
                </a:solidFill>
                <a:round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6" name="文本框 1"/>
          <p:cNvSpPr/>
          <p:nvPr/>
        </p:nvSpPr>
        <p:spPr>
          <a:xfrm>
            <a:off x="60480" y="6072120"/>
            <a:ext cx="719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4"/>
          <p:cNvSpPr/>
          <p:nvPr/>
        </p:nvSpPr>
        <p:spPr>
          <a:xfrm>
            <a:off x="685800" y="2286000"/>
            <a:ext cx="784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0000cc"/>
                </a:solidFill>
                <a:latin typeface="Arial"/>
              </a:rPr>
              <a:t>本单元从</a:t>
            </a:r>
            <a:r>
              <a:rPr b="1" lang="en-US" sz="4400" spc="-1" strike="noStrike">
                <a:solidFill>
                  <a:srgbClr val="0000cc"/>
                </a:solidFill>
                <a:latin typeface="Arial"/>
              </a:rPr>
              <a:t>13</a:t>
            </a:r>
            <a:r>
              <a:rPr b="1" lang="zh-CN" sz="4400" spc="-1" strike="noStrike">
                <a:solidFill>
                  <a:srgbClr val="0000cc"/>
                </a:solidFill>
                <a:latin typeface="Arial"/>
              </a:rPr>
              <a:t>课到</a:t>
            </a:r>
            <a:r>
              <a:rPr b="1" lang="en-US" sz="4400" spc="-1" strike="noStrike">
                <a:solidFill>
                  <a:srgbClr val="0000cc"/>
                </a:solidFill>
                <a:latin typeface="Arial"/>
              </a:rPr>
              <a:t>15</a:t>
            </a:r>
            <a:r>
              <a:rPr b="1" lang="zh-CN" sz="4400" spc="-1" strike="noStrike">
                <a:solidFill>
                  <a:srgbClr val="0000cc"/>
                </a:solidFill>
                <a:latin typeface="Arial"/>
              </a:rPr>
              <a:t>课都是写景的美文，通过学习，同学们能总结出那些写景的方法呢？结合课文，四人一小组总结归纳。（举出实例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WordArt 5"/>
          <p:cNvSpPr txBox="1"/>
          <p:nvPr/>
        </p:nvSpPr>
        <p:spPr>
          <a:xfrm>
            <a:off x="2286000" y="533520"/>
            <a:ext cx="44956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总结拓展</a:t>
            </a:r>
            <a:endParaRPr b="1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5" descr="花飞扬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隶书"/>
              </a:rPr>
              <a:t>写景方法小结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380880" y="1701720"/>
            <a:ext cx="853452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抓住景物特征，运用多种修辞方法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调动多种感官，全身心感受景物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移步换景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描写变化的景色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注意写景的顺序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4"/>
          <p:cNvSpPr/>
          <p:nvPr/>
        </p:nvSpPr>
        <p:spPr>
          <a:xfrm>
            <a:off x="2514600" y="685800"/>
            <a:ext cx="3962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课后作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533520" y="2057400"/>
            <a:ext cx="80769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宋体"/>
                <a:ea typeface="宋体"/>
              </a:rPr>
              <a:t>1</a:t>
            </a:r>
            <a:r>
              <a:rPr b="1" lang="zh-CN" sz="4400" spc="-1" strike="noStrike">
                <a:solidFill>
                  <a:srgbClr val="ffff00"/>
                </a:solidFill>
                <a:latin typeface="宋体"/>
                <a:ea typeface="宋体"/>
              </a:rPr>
              <a:t>、结合</a:t>
            </a:r>
            <a:r>
              <a:rPr b="1" lang="en-US" sz="4400" spc="-1" strike="noStrike">
                <a:solidFill>
                  <a:srgbClr val="ffff00"/>
                </a:solidFill>
                <a:latin typeface="宋体"/>
                <a:ea typeface="宋体"/>
              </a:rPr>
              <a:t>13—15</a:t>
            </a:r>
            <a:r>
              <a:rPr b="1" lang="zh-CN" sz="4400" spc="-1" strike="noStrike">
                <a:solidFill>
                  <a:srgbClr val="ffff00"/>
                </a:solidFill>
                <a:latin typeface="宋体"/>
                <a:ea typeface="宋体"/>
              </a:rPr>
              <a:t>课的写景方法，写一篇</a:t>
            </a:r>
            <a:r>
              <a:rPr b="1" lang="en-US" sz="4400" spc="-1" strike="noStrike">
                <a:solidFill>
                  <a:srgbClr val="ffff00"/>
                </a:solidFill>
                <a:latin typeface="宋体"/>
                <a:ea typeface="宋体"/>
              </a:rPr>
              <a:t>200</a:t>
            </a:r>
            <a:r>
              <a:rPr b="1" lang="zh-CN" sz="4400" spc="-1" strike="noStrike">
                <a:solidFill>
                  <a:srgbClr val="ffff00"/>
                </a:solidFill>
                <a:latin typeface="宋体"/>
                <a:ea typeface="宋体"/>
              </a:rPr>
              <a:t>字左右的写景小短文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宋体"/>
                <a:ea typeface="宋体"/>
              </a:rPr>
              <a:t>2</a:t>
            </a:r>
            <a:r>
              <a:rPr b="1" lang="zh-CN" sz="4400" spc="-1" strike="noStrike">
                <a:solidFill>
                  <a:srgbClr val="ffff00"/>
                </a:solidFill>
                <a:latin typeface="宋体"/>
                <a:ea typeface="宋体"/>
              </a:rPr>
              <a:t>、预习</a:t>
            </a:r>
            <a:r>
              <a:rPr b="1" lang="en-US" sz="4400" spc="-1" strike="noStrike">
                <a:solidFill>
                  <a:srgbClr val="ffff00"/>
                </a:solidFill>
                <a:latin typeface="宋体"/>
                <a:ea typeface="宋体"/>
              </a:rPr>
              <a:t>16</a:t>
            </a:r>
            <a:r>
              <a:rPr b="1" lang="zh-CN" sz="4400" spc="-1" strike="noStrike">
                <a:solidFill>
                  <a:srgbClr val="ffff00"/>
                </a:solidFill>
                <a:latin typeface="宋体"/>
                <a:ea typeface="宋体"/>
              </a:rPr>
              <a:t>课</a:t>
            </a:r>
            <a:r>
              <a:rPr b="1" lang="en-US" sz="4400" spc="-1" strike="noStrike">
                <a:solidFill>
                  <a:srgbClr val="ffff00"/>
                </a:solidFill>
                <a:latin typeface="宋体"/>
                <a:ea typeface="宋体"/>
              </a:rPr>
              <a:t>《</a:t>
            </a:r>
            <a:r>
              <a:rPr b="1" lang="zh-CN" sz="4400" spc="-1" strike="noStrike">
                <a:solidFill>
                  <a:srgbClr val="ffff00"/>
                </a:solidFill>
                <a:latin typeface="宋体"/>
                <a:ea typeface="宋体"/>
              </a:rPr>
              <a:t>秋天</a:t>
            </a:r>
            <a:r>
              <a:rPr b="1" lang="en-US" sz="4400" spc="-1" strike="noStrike">
                <a:solidFill>
                  <a:srgbClr val="ffff00"/>
                </a:solidFill>
                <a:latin typeface="宋体"/>
                <a:ea typeface="宋体"/>
              </a:rPr>
              <a:t>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AED5D-C6BF-4B00-AB2D-92157717B7E4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036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037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2666880" y="228600"/>
            <a:ext cx="4038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学习目标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990720" y="1600200"/>
            <a:ext cx="73911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、熟读课文，了解作者并掌握基础字词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、学习抓住景物特征写景的手法和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情景交融的写法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，领会比喻修辞的妙处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作者及作品简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914400" y="1447920"/>
            <a:ext cx="7772400" cy="31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作者：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峻青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，原名孙俊卿，生于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92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年，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山东海阳人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当代作家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。主要作品有：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短篇小说集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《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黎明的河边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》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，散文集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《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秋色赋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》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宋体"/>
              </a:rPr>
              <a:t>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海滨仲夏夜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写于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96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年。本文节选的是文章的开头、中间、结尾几个描写海滨仲夏夜景色的片段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WordArt 4"/>
          <p:cNvSpPr txBox="1"/>
          <p:nvPr/>
        </p:nvSpPr>
        <p:spPr>
          <a:xfrm rot="5400000">
            <a:off x="-457200" y="761760"/>
            <a:ext cx="2133720" cy="9144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ChevronInverted">
              <a:avLst>
                <a:gd name="adj" fmla="val 7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00ff"/>
                </a:solidFill>
                <a:latin typeface="宋体"/>
              </a:rPr>
              <a:t>检查预习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00ff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隶书"/>
              </a:rPr>
              <a:t>检查预习：读准字音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609480" y="1905120"/>
            <a:ext cx="800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宋体"/>
              </a:rPr>
              <a:t>霍霍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       闪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宋体"/>
              </a:rPr>
              <a:t>烁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宋体"/>
              </a:rPr>
              <a:t>绯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红      肃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宋体"/>
              </a:rPr>
              <a:t>穆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609480" y="3657600"/>
            <a:ext cx="800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苍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宋体"/>
              </a:rPr>
              <a:t>穹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      休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宋体"/>
              </a:rPr>
              <a:t>憩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宋体"/>
              </a:rPr>
              <a:t>徘 徊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宋体"/>
              </a:rPr>
              <a:t>皎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762120" y="5562720"/>
            <a:ext cx="800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宋体"/>
              </a:rPr>
              <a:t>酣 畅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宋体"/>
              </a:rPr>
              <a:t>炙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晒      广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1219320" y="129528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  <a:ea typeface="宋体"/>
              </a:rPr>
              <a:t>hu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3276720" y="129528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  <a:ea typeface="宋体"/>
              </a:rPr>
              <a:t>shu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4876920" y="129528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  <a:ea typeface="宋体"/>
              </a:rPr>
              <a:t>fē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0"/>
          <p:cNvSpPr/>
          <p:nvPr/>
        </p:nvSpPr>
        <p:spPr>
          <a:xfrm>
            <a:off x="7467480" y="129528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  <a:ea typeface="宋体"/>
              </a:rPr>
              <a:t>m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1"/>
          <p:cNvSpPr/>
          <p:nvPr/>
        </p:nvSpPr>
        <p:spPr>
          <a:xfrm>
            <a:off x="1066680" y="312408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  <a:ea typeface="宋体"/>
              </a:rPr>
              <a:t>qió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2"/>
          <p:cNvSpPr/>
          <p:nvPr/>
        </p:nvSpPr>
        <p:spPr>
          <a:xfrm>
            <a:off x="3352680" y="312408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  <a:ea typeface="宋体"/>
              </a:rPr>
              <a:t>q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3"/>
          <p:cNvSpPr/>
          <p:nvPr/>
        </p:nvSpPr>
        <p:spPr>
          <a:xfrm>
            <a:off x="4572000" y="312408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  <a:ea typeface="宋体"/>
              </a:rPr>
              <a:t>pá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4"/>
          <p:cNvSpPr/>
          <p:nvPr/>
        </p:nvSpPr>
        <p:spPr>
          <a:xfrm>
            <a:off x="5486400" y="312408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  <a:ea typeface="宋体"/>
              </a:rPr>
              <a:t>huá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5"/>
          <p:cNvSpPr/>
          <p:nvPr/>
        </p:nvSpPr>
        <p:spPr>
          <a:xfrm>
            <a:off x="7086600" y="312408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  <a:ea typeface="宋体"/>
              </a:rPr>
              <a:t>jiǎ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6"/>
          <p:cNvSpPr/>
          <p:nvPr/>
        </p:nvSpPr>
        <p:spPr>
          <a:xfrm>
            <a:off x="457200" y="502920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  <a:ea typeface="宋体"/>
              </a:rPr>
              <a:t>hā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7"/>
          <p:cNvSpPr/>
          <p:nvPr/>
        </p:nvSpPr>
        <p:spPr>
          <a:xfrm>
            <a:off x="2895480" y="502920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  <a:ea typeface="宋体"/>
              </a:rPr>
              <a:t>zh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8"/>
          <p:cNvSpPr/>
          <p:nvPr/>
        </p:nvSpPr>
        <p:spPr>
          <a:xfrm>
            <a:off x="1371600" y="502920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  <a:ea typeface="宋体"/>
              </a:rPr>
              <a:t>chà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2"/>
          <p:cNvSpPr/>
          <p:nvPr/>
        </p:nvSpPr>
        <p:spPr>
          <a:xfrm>
            <a:off x="0" y="304920"/>
            <a:ext cx="3200400" cy="542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解释下列词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(1)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肃穆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(2)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炙晒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(3)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休憩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(4)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徘徊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(5)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酣畅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1905120" y="990720"/>
            <a:ext cx="6858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严肃恭敬，引申为严肃安静。穆：恭敬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3323160" y="2506680"/>
            <a:ext cx="6256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烤晒。炙：烤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5"/>
          <p:cNvSpPr/>
          <p:nvPr/>
        </p:nvSpPr>
        <p:spPr>
          <a:xfrm>
            <a:off x="3720600" y="3147840"/>
            <a:ext cx="8344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休息。休、憩同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6"/>
          <p:cNvSpPr/>
          <p:nvPr/>
        </p:nvSpPr>
        <p:spPr>
          <a:xfrm>
            <a:off x="1905120" y="3886200"/>
            <a:ext cx="6858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一个地方来回地走。还比喻犹豫不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1828800" y="5105520"/>
            <a:ext cx="73152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酣：原指饮酒尽兴，泛指尽兴、畅快。畅：痛快、尽情。畅快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指饮酒或睡眠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本课指畅快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休息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4"/>
          <p:cNvSpPr/>
          <p:nvPr/>
        </p:nvSpPr>
        <p:spPr>
          <a:xfrm>
            <a:off x="457200" y="99072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读课文思考：课文共描写了几幅海滨仲夏夜的画面。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WordArt 5"/>
          <p:cNvSpPr txBox="1"/>
          <p:nvPr/>
        </p:nvSpPr>
        <p:spPr>
          <a:xfrm>
            <a:off x="2971800" y="380880"/>
            <a:ext cx="2666880" cy="5335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Button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ff"/>
                </a:solidFill>
                <a:latin typeface="宋体"/>
              </a:rPr>
              <a:t>初读感知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ff"/>
              </a:solidFill>
              <a:latin typeface="宋体"/>
              <a:ea typeface="宋体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685800" y="2743200"/>
            <a:ext cx="79246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一）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入夜海滨景色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第一自然段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二）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霞光渐消失，启明星闪烁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第二自然段）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三）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灯光与星光辉映景色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第三自然段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四）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月夜海滩景色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---7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自然段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五）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深夜海滩佳境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----1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自然段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WordArt 4"/>
          <p:cNvSpPr txBox="1"/>
          <p:nvPr/>
        </p:nvSpPr>
        <p:spPr>
          <a:xfrm>
            <a:off x="990720" y="380880"/>
            <a:ext cx="342900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问题探究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4" name="Text Box 5">
            <a:hlinkClick r:id="rId2" action="ppaction://hlinksldjump"/>
          </p:cNvPr>
          <p:cNvSpPr/>
          <p:nvPr/>
        </p:nvSpPr>
        <p:spPr>
          <a:xfrm>
            <a:off x="533520" y="1828800"/>
            <a:ext cx="807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、细读文章，抓住景物的特点：请画出文中描绘霞光和色彩变化的语句，思考这样写的妙处。（分析前三幅画面，简要总结后两幅画面的内容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609480" y="426708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、文中有几处描写了人的活动？人的活动有什么共同特点？作者意在表现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13T05:59:58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49:11Z</dcterms:modified>
  <cp:revision>49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  <property fmtid="{D5CDD505-2E9C-101B-9397-08002B2CF9AE}" pid="3" name="Version">
    <vt:r8>1</vt:r8>
  </property>
</Properties>
</file>