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type.wav" ContentType="audio/x-wav"/>
  <Override PartName="/ppt/media/image12.gif" ContentType="image/gif"/>
  <Override PartName="/ppt/media/chimes.wav" ContentType="audio/x-wav"/>
  <Override PartName="/ppt/media/image13.png" ContentType="image/png"/>
  <Override PartName="/ppt/media/cashreg.wav" ContentType="audio/x-wav"/>
  <Override PartName="/ppt/media/glass.wav" ContentType="audio/x-wav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239-DAFE-4AB3-80F5-70B8ED37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7A7-D00A-4546-B84A-9F363D73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069-A33C-499E-9F52-310E6A94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242-0069-486C-81A5-693B5D0A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429-293F-482E-90BC-E8F1087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8C4-0D04-4EA7-BE36-0F6D78F8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F7A-14E1-4511-8F1B-DD7934E1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75E-AB7C-4E70-963C-9F1261B8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04E-19A1-4F69-A967-DB8C5D92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944-162A-4812-B09A-A2FD799E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234-49FE-4C0B-BDCD-A49895A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1EA-27B4-48BE-B182-3B0545AA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FC2D-F63C-43E7-B528-2B084C931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3 副本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745640" y="-431640"/>
            <a:ext cx="139932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回乡偶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557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28200" y="2590920"/>
            <a:ext cx="91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ff"/>
                </a:solidFill>
                <a:latin typeface="Times New Roman"/>
                <a:ea typeface="隶书"/>
              </a:rPr>
              <a:t>贺知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2"/>
          <a:stretch/>
        </p:blipFill>
        <p:spPr>
          <a:xfrm>
            <a:off x="1387440" y="5991120"/>
            <a:ext cx="6572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4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694240" y="281952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儿童相见不相识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362320" y="220932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886040" y="1295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小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6477120" y="213336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000840" y="1371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认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269960" y="4724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孩见了我都不认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324320" y="2895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笑问客从何处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296960" y="46483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笑着问我，是从哪儿来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7"/>
          <p:cNvSpPr/>
          <p:nvPr/>
        </p:nvSpPr>
        <p:spPr>
          <a:xfrm flipV="1">
            <a:off x="5486400" y="236196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284800" y="137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什么地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3492360" y="234900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633760" y="1557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指作者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7650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自己的角度说明离乡时间很长的诗句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2637000"/>
            <a:ext cx="8686800" cy="28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少小离家老大回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乡音无改鬓毛衰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4360" y="404640"/>
            <a:ext cx="7772400" cy="3168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写诗人置身于熟悉而又陌生的故乡，心情难以平静的诗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虽写自己，却从儿童的角度着笔，极富生活情趣的诗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906000" y="2209680"/>
            <a:ext cx="16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把整首诗的意思说一说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2280" y="152280"/>
            <a:ext cx="649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</a:rPr>
              <a:t>中心思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9680" y="2276640"/>
            <a:ext cx="900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这是一首久客异乡、返回故里的感怀诗。全诗抒发了作者对山河依旧，人事不同，人生易老，世事沧桑的感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1660680" y="5337000"/>
            <a:ext cx="64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98640" y="3049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楷体_GB2312"/>
              </a:rPr>
              <a:t>练习检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861200" y="1600200"/>
            <a:ext cx="53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楷体_GB2312"/>
              </a:rPr>
              <a:t>（ </a:t>
            </a:r>
            <a:r>
              <a:rPr b="0" lang="en-US" sz="4000" spc="-1" strike="noStrike">
                <a:solidFill>
                  <a:srgbClr val="cc00cc"/>
                </a:solidFill>
                <a:latin typeface="楷体_GB2312"/>
              </a:rPr>
              <a:t>1 </a:t>
            </a:r>
            <a:r>
              <a:rPr b="0" lang="zh-CN" sz="4000" spc="-1" strike="noStrike">
                <a:solidFill>
                  <a:srgbClr val="cc00cc"/>
                </a:solidFill>
                <a:latin typeface="楷体_GB2312"/>
              </a:rPr>
              <a:t>）试着把这首诗编个故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楷体_GB2312"/>
              </a:rPr>
              <a:t>     </a:t>
            </a:r>
            <a:r>
              <a:rPr b="0" lang="zh-CN" sz="4000" spc="-1" strike="noStrike">
                <a:solidFill>
                  <a:srgbClr val="cc00cc"/>
                </a:solidFill>
                <a:latin typeface="楷体_GB2312"/>
              </a:rPr>
              <a:t>再演一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4600" y="3200400"/>
            <a:ext cx="8836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2 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）从诗中摘录两组反义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      ）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—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      ）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—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</a:rPr>
              <a:t>（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719440" y="441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少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234040" y="4343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老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846520" y="563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284800" y="563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7240680" y="330192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2120" y="1143000"/>
            <a:ext cx="87278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981080" y="2286000"/>
            <a:ext cx="74455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少小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(                 )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乡音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(                 )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儿童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(                 )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笑问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(                 )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176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179280" y="304920"/>
            <a:ext cx="7391520" cy="2361600"/>
            <a:chOff x="179280" y="304920"/>
            <a:chExt cx="7391520" cy="2361600"/>
          </a:xfrm>
        </p:grpSpPr>
        <p:grpSp>
          <p:nvGrpSpPr>
            <p:cNvPr id="149" name="Group 7"/>
            <p:cNvGrpSpPr/>
            <p:nvPr/>
          </p:nvGrpSpPr>
          <p:grpSpPr>
            <a:xfrm>
              <a:off x="179280" y="304920"/>
              <a:ext cx="7391520" cy="2361600"/>
              <a:chOff x="179280" y="304920"/>
              <a:chExt cx="7391520" cy="2361600"/>
            </a:xfrm>
          </p:grpSpPr>
          <p:pic>
            <p:nvPicPr>
              <p:cNvPr id="150" name="Picture 8" descr="天使"/>
              <p:cNvPicPr/>
              <p:nvPr/>
            </p:nvPicPr>
            <p:blipFill>
              <a:blip r:embed="rId2"/>
              <a:stretch/>
            </p:blipFill>
            <p:spPr>
              <a:xfrm>
                <a:off x="179280" y="304920"/>
                <a:ext cx="2681280" cy="23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AutoShape 9"/>
              <p:cNvSpPr/>
              <p:nvPr/>
            </p:nvSpPr>
            <p:spPr>
              <a:xfrm>
                <a:off x="3227400" y="385560"/>
                <a:ext cx="4343400" cy="1609920"/>
              </a:xfrm>
              <a:prstGeom prst="cloudCallout">
                <a:avLst>
                  <a:gd name="adj1" fmla="val -64546"/>
                  <a:gd name="adj2" fmla="val 12083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WordArt 10"/>
            <p:cNvSpPr txBox="1"/>
            <p:nvPr/>
          </p:nvSpPr>
          <p:spPr>
            <a:xfrm>
              <a:off x="3608280" y="304920"/>
              <a:ext cx="304812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000000"/>
                    </a:solidFill>
                    <a:round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华文行楷"/>
                </a:rPr>
                <a:t>拼接连读</a:t>
              </a:r>
              <a:endParaRPr b="0" lang="en-US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881E-EEE3-4D58-8373-32032A3BFC4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1052640" y="220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（约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659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约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744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年）唐代著名诗人字季真，自号“四名狂客”。他写的诗清新通俗，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回乡偶书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咏柳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等都是脍炙人口，千古传颂的不朽名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" descr="天使"/>
          <p:cNvPicPr/>
          <p:nvPr/>
        </p:nvPicPr>
        <p:blipFill>
          <a:blip r:embed="rId2"/>
          <a:stretch/>
        </p:blipFill>
        <p:spPr>
          <a:xfrm>
            <a:off x="8047080" y="594360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3948840" y="126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贺知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58716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  <a:ea typeface="宋体"/>
              </a:rPr>
              <a:t>了解诗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1549440" y="4892760"/>
            <a:ext cx="68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521640" y="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学习提纲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62120" y="26478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1 .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请你大声正确朗读古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2 .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同桌相互试着说一说每句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的意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天使"/>
          <p:cNvPicPr/>
          <p:nvPr/>
        </p:nvPicPr>
        <p:blipFill>
          <a:blip r:embed="rId2"/>
          <a:stretch/>
        </p:blipFill>
        <p:spPr>
          <a:xfrm>
            <a:off x="8047080" y="5943600"/>
            <a:ext cx="1096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3200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-228600" y="476280"/>
            <a:ext cx="9144000" cy="6381000"/>
            <a:chOff x="-228600" y="476280"/>
            <a:chExt cx="9144000" cy="6381000"/>
          </a:xfrm>
        </p:grpSpPr>
        <p:sp>
          <p:nvSpPr>
            <p:cNvPr id="56" name="AutoShape 4"/>
            <p:cNvSpPr/>
            <p:nvPr/>
          </p:nvSpPr>
          <p:spPr>
            <a:xfrm>
              <a:off x="1066680" y="476280"/>
              <a:ext cx="7848720" cy="4452120"/>
            </a:xfrm>
            <a:prstGeom prst="wedgeEllipseCallout">
              <a:avLst>
                <a:gd name="adj1" fmla="val -39018"/>
                <a:gd name="adj2" fmla="val 52777"/>
              </a:avLst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5"/>
            <p:cNvGrpSpPr/>
            <p:nvPr/>
          </p:nvGrpSpPr>
          <p:grpSpPr>
            <a:xfrm>
              <a:off x="-228600" y="1811880"/>
              <a:ext cx="9144000" cy="5045400"/>
              <a:chOff x="-228600" y="1811880"/>
              <a:chExt cx="9144000" cy="5045400"/>
            </a:xfrm>
          </p:grpSpPr>
          <p:pic>
            <p:nvPicPr>
              <p:cNvPr id="58" name="Picture 6" descr="老爷爷"/>
              <p:cNvPicPr/>
              <p:nvPr/>
            </p:nvPicPr>
            <p:blipFill>
              <a:blip r:embed="rId2"/>
              <a:stretch/>
            </p:blipFill>
            <p:spPr>
              <a:xfrm>
                <a:off x="-228600" y="3889080"/>
                <a:ext cx="2428920" cy="29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 Box 7"/>
              <p:cNvSpPr/>
              <p:nvPr/>
            </p:nvSpPr>
            <p:spPr>
              <a:xfrm>
                <a:off x="990720" y="1811880"/>
                <a:ext cx="7924680" cy="170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Text Box 8"/>
          <p:cNvSpPr/>
          <p:nvPr/>
        </p:nvSpPr>
        <p:spPr>
          <a:xfrm>
            <a:off x="1752480" y="2209680"/>
            <a:ext cx="64929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</a:rPr>
              <a:t>衰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195640" y="1484280"/>
            <a:ext cx="20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  <a:ea typeface="宋体"/>
              </a:rPr>
              <a:t>shuā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286160" y="1413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  <a:ea typeface="宋体"/>
              </a:rPr>
              <a:t>bì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乡偶书</a:t>
            </a:r>
            <a:br>
              <a:rPr sz="55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贺知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少小离家老大回，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音无改鬓毛衰。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儿童相见不相识，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笑问客从何处来。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H="1">
            <a:off x="2514600" y="1752480"/>
            <a:ext cx="457200" cy="7621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H="1">
            <a:off x="4267080" y="1676520"/>
            <a:ext cx="609840" cy="9144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2666520" y="3124080"/>
            <a:ext cx="304920" cy="6098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4419720" y="3009960"/>
            <a:ext cx="304560" cy="8380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4419720" y="4343400"/>
            <a:ext cx="304560" cy="6858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2666520" y="4343400"/>
            <a:ext cx="304920" cy="6094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666520" y="5562720"/>
            <a:ext cx="228600" cy="8380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572000" y="2514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4952880" y="251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5867280" y="24382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6629400" y="24382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1447920" y="380988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2362320" y="380988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3200400" y="373392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4038480" y="38098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4"/>
          <p:cNvSpPr/>
          <p:nvPr/>
        </p:nvSpPr>
        <p:spPr>
          <a:xfrm>
            <a:off x="6156360" y="3500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0" y="952560"/>
            <a:ext cx="9144000" cy="5887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736800" y="22320"/>
            <a:ext cx="549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210960"/>
            <a:ext cx="5257800" cy="42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少小离家老大回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乡音无改鬓毛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儿童相见不相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笑问客从何处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5"/>
          <p:cNvSpPr/>
          <p:nvPr/>
        </p:nvSpPr>
        <p:spPr>
          <a:xfrm>
            <a:off x="1582560" y="210960"/>
            <a:ext cx="2808360" cy="7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6"/>
          <p:cNvSpPr/>
          <p:nvPr/>
        </p:nvSpPr>
        <p:spPr>
          <a:xfrm>
            <a:off x="503280" y="1074600"/>
            <a:ext cx="1008000" cy="71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2592360" y="1003320"/>
            <a:ext cx="180036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8"/>
          <p:cNvSpPr/>
          <p:nvPr/>
        </p:nvSpPr>
        <p:spPr>
          <a:xfrm>
            <a:off x="1655640" y="1866960"/>
            <a:ext cx="2664000" cy="72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9"/>
          <p:cNvSpPr/>
          <p:nvPr/>
        </p:nvSpPr>
        <p:spPr>
          <a:xfrm>
            <a:off x="503280" y="2730600"/>
            <a:ext cx="1008000" cy="64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2664000" y="2730600"/>
            <a:ext cx="1008000" cy="64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7" descr="0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1227240" y="533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理解诗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735360" y="29718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回乡偶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5181480" y="2362320"/>
            <a:ext cx="0" cy="83808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4695480" y="1447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偶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809000" y="4086360"/>
            <a:ext cx="554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作者辞官回家后，感慨很深，于是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于偶然写了这首诗，写了自己还乡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的感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2907000" y="25210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少小离家老大回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 flipV="1">
            <a:off x="2514600" y="198072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664640" y="10666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轻的时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2"/>
          <p:cNvSpPr/>
          <p:nvPr/>
        </p:nvSpPr>
        <p:spPr>
          <a:xfrm flipV="1">
            <a:off x="5638680" y="198072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865040" y="10666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老的时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2122560" y="411480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自己）年轻的时候离开家乡，老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才回到家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6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4400280" y="26668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乡音无改鬓毛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 flipV="1">
            <a:off x="2438280" y="205704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388520" y="762120"/>
            <a:ext cx="152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家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的口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4038480" y="198072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659040" y="76212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没有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么改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 flipV="1">
            <a:off x="6659640" y="206028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767560" y="685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疏落的意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106720" y="423072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自己）说话的口音没有什么改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可是两鬓头发已经斑白稀疏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07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0:55Z</dcterms:modified>
  <cp:revision>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