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gif" ContentType="image/gi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B55B-256E-480C-BADB-7FC8BF00392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DF8B-8C18-4B31-827B-32C8E7A4D1A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830-FD9A-4A16-8EEF-34504015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BFD0-217D-458B-BB5C-7CD0990B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BCFD-97FB-4C5A-A119-F5934C50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B22-63A0-4240-AF62-44A3EBD7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69D-9FA3-42F1-B984-381A602E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8621-9DEC-4EF5-AB52-42CA117D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98AF-2899-4926-9A64-46341A6E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E39F-E6A2-4003-BD7C-65DB22BA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3293-0CD9-4B0C-9958-D8A414C9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8C92-1012-400E-AFBC-F2B0D771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6A4E-EF94-4E11-9D83-8BB0E24C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E1D8-1DB7-43B9-B097-B0A337D7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CAD6-2B07-43D5-8CF1-7DD83BEC91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images.asp/?url=http://py.sucaiw.com/&#21160;&#30011;&#31867;/&#19968;&#33324;&#21160;&#30011;/30X30&#23567;&#28857;//&amp;pic=gif&amp;num=030&amp;ext=.gif&amp;picall=37" TargetMode="External"/><Relationship Id="rId7" Type="http://schemas.openxmlformats.org/officeDocument/2006/relationships/image" Target="../media/image6.gif"/><Relationship Id="rId8" Type="http://schemas.openxmlformats.org/officeDocument/2006/relationships/hyperlink" Target="http://images.asp/?url=http://py.sucaiw.com/&#21160;&#30011;&#31867;/&#19968;&#33324;&#21160;&#30011;/30X30&#23567;&#28857;//&amp;pic=gif&amp;num=030&amp;ext=.gif&amp;picall=37" TargetMode="External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images.asp/?url=http://py.sucaiw.com/&#21160;&#30011;&#31867;/&#19968;&#33324;&#21160;&#30011;/30X30&#23567;&#28857;//&amp;pic=gif&amp;num=030&amp;ext=.gif&amp;picall=37" TargetMode="External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images.asp/?url=http://py.sucaiw.com/&#21160;&#30011;&#31867;/&#19968;&#33324;&#21160;&#30011;/30X30&#23567;&#28857;//&amp;pic=gif&amp;num=012&amp;ext=.gif&amp;picall=37" TargetMode="External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images.asp/?url=http://py.sucaiw.com/&#21160;&#30011;&#31867;/&#19968;&#33324;&#21160;&#30011;/30X30&#23567;&#28857;//&amp;pic=gif&amp;num=030&amp;ext=.gif&amp;picall=37" TargetMode="External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yurib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147680" y="2641680"/>
            <a:ext cx="705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华文新魏"/>
                <a:ea typeface="华文新魏"/>
              </a:rPr>
              <a:t>送给盲婆婆的蝈蝈</a:t>
            </a:r>
            <a:r>
              <a:rPr b="0" lang="zh-CN" sz="1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矩形 10"/>
          <p:cNvSpPr/>
          <p:nvPr/>
        </p:nvSpPr>
        <p:spPr>
          <a:xfrm>
            <a:off x="1810800" y="5300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12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693240" y="380880"/>
            <a:ext cx="35337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婆婆，婆婆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这是一只会唱歌的蝈蝈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在我上学的时候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就让它替我给您唱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婆婆，婆婆，</a:t>
            </a:r>
            <a:r>
              <a:rPr b="1" lang="zh-CN" sz="44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这是一只会唱歌的蝈蝈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您听，它唱的多好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咯咯，咯咯，咯咯</a:t>
            </a:r>
            <a:r>
              <a:rPr b="1" lang="zh-CN" sz="4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5" descr="点击放大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00200" y="457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点击放大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3880" y="3809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1066680" y="533520"/>
            <a:ext cx="77724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</a:rPr>
              <a:t>根据课文内容填空。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）、（   ）地提回了一只（   ）的蝈蝈，      （  ）滋滋地送给了（   ）家的（  ）婆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）、歌声会领您走进（   ），（    ）小溪流淌的（   ）。歌声会把您带回（   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想起往日（    ）的（    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）、婆婆，婆婆，这是一只会（    ）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蝈蝈，在我（    ）的时候，就让它（      ）我给您（    ）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5" descr="点击放大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143000" y="6094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2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2152440" y="533520"/>
            <a:ext cx="4594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1" lang="zh-CN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  </a:t>
            </a:r>
            <a:r>
              <a:rPr b="1" lang="zh-CN" sz="4800" spc="-1" strike="noStrike">
                <a:solidFill>
                  <a:srgbClr val="336600"/>
                </a:solidFill>
                <a:latin typeface="Times New Roman"/>
              </a:rPr>
              <a:t>组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</a:rPr>
              <a:t>你（      ）  邻（      ）</a:t>
            </a:r>
            <a:br>
              <a:rPr sz="4800"/>
            </a:br>
            <a:r>
              <a:rPr b="1" lang="zh-CN" sz="4800" spc="-1" strike="noStrike">
                <a:solidFill>
                  <a:srgbClr val="336600"/>
                </a:solidFill>
                <a:latin typeface="Times New Roman"/>
              </a:rPr>
              <a:t>您（      ）  领（      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</a:rPr>
              <a:t>野（      ）  尾（      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</a:rPr>
              <a:t>里（      ）  居（      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5" descr="点击放大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38080" y="228600"/>
            <a:ext cx="1600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2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4808520" y="496800"/>
            <a:ext cx="5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Times New Roman"/>
              </a:rPr>
              <a:t>把词语组成句子写下来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1296720" y="1600200"/>
            <a:ext cx="738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婆婆  一只  我  绿色  送给  蝈蝈  的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cc"/>
                </a:solidFill>
                <a:uFillTx/>
                <a:latin typeface="Times New Roman"/>
              </a:rPr>
              <a:t>                                                             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 </a:t>
            </a:r>
            <a:r>
              <a:rPr b="0" lang="zh-CN" sz="36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1295280" y="3124080"/>
            <a:ext cx="76359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想起  让  欢乐  婆婆   了 歌声 童年  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cc"/>
                </a:solidFill>
                <a:uFillTx/>
                <a:latin typeface="Times New Roman"/>
              </a:rPr>
              <a:t>                                                              </a:t>
            </a:r>
            <a:r>
              <a:rPr b="1" lang="zh-CN" sz="3600" spc="-1" strike="noStrike" u="sng">
                <a:solidFill>
                  <a:srgbClr val="336600"/>
                </a:solidFill>
                <a:uFillTx/>
                <a:latin typeface="Comic Sans MS"/>
              </a:rPr>
              <a:t>  </a:t>
            </a:r>
            <a:r>
              <a:rPr b="1" lang="zh-CN" sz="3600" spc="-1" strike="noStrike" u="sng">
                <a:solidFill>
                  <a:srgbClr val="336600"/>
                </a:solidFill>
                <a:uFillTx/>
                <a:latin typeface="Times New Roman"/>
              </a:rPr>
              <a:t>                                                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7" descr="点击放大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47920" y="533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6" descr="yuri03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yuriln"/>
          <p:cNvPicPr/>
          <p:nvPr/>
        </p:nvPicPr>
        <p:blipFill>
          <a:blip r:embed="rId2"/>
          <a:stretch/>
        </p:blipFill>
        <p:spPr>
          <a:xfrm>
            <a:off x="1066680" y="457200"/>
            <a:ext cx="5486400" cy="11397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3" descr="yuri03"/>
          <p:cNvPicPr/>
          <p:nvPr/>
        </p:nvPicPr>
        <p:blipFill>
          <a:blip r:embed="rId3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yuri03"/>
          <p:cNvPicPr/>
          <p:nvPr/>
        </p:nvPicPr>
        <p:blipFill>
          <a:blip r:embed="rId4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yuri03"/>
          <p:cNvPicPr/>
          <p:nvPr/>
        </p:nvPicPr>
        <p:blipFill>
          <a:blip r:embed="rId5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yuri03"/>
          <p:cNvPicPr/>
          <p:nvPr/>
        </p:nvPicPr>
        <p:blipFill>
          <a:blip r:embed="rId6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2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1447920" y="1600200"/>
            <a:ext cx="708660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</a:rPr>
              <a:t>盲     呵   滋    淌   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婆  绿  邻  居  替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您  领  童  难  忘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2167200" y="3808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</a:rPr>
              <a:t>还记得我们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12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14" descr="yuriln"/>
          <p:cNvPicPr/>
          <p:nvPr/>
        </p:nvPicPr>
        <p:blipFill>
          <a:blip r:embed="rId6"/>
          <a:stretch/>
        </p:blipFill>
        <p:spPr>
          <a:xfrm>
            <a:off x="1163520" y="846000"/>
            <a:ext cx="4621320" cy="12924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3"/>
          <p:cNvSpPr/>
          <p:nvPr/>
        </p:nvSpPr>
        <p:spPr>
          <a:xfrm>
            <a:off x="2715480" y="685800"/>
            <a:ext cx="453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Times New Roman"/>
              </a:rPr>
              <a:t>你会读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</a:rPr>
              <a:t>绿色   唱歌   邻居   田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</a:rPr>
              <a:t>童年   往日   难忘   欢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文本框 1"/>
          <p:cNvSpPr/>
          <p:nvPr/>
        </p:nvSpPr>
        <p:spPr>
          <a:xfrm>
            <a:off x="-39600" y="5638680"/>
            <a:ext cx="70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12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Object 13" descr=""/>
          <p:cNvPicPr/>
          <p:nvPr/>
        </p:nvPicPr>
        <p:blipFill>
          <a:blip r:embed="rId6"/>
          <a:stretch/>
        </p:blipFill>
        <p:spPr>
          <a:xfrm>
            <a:off x="1371600" y="1676520"/>
            <a:ext cx="7086600" cy="4572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4"/>
          <p:cNvSpPr/>
          <p:nvPr/>
        </p:nvSpPr>
        <p:spPr>
          <a:xfrm>
            <a:off x="2984400" y="609480"/>
            <a:ext cx="55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</a:rPr>
              <a:t>按笔顺描红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1187280" y="692280"/>
            <a:ext cx="7561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婆  婆婆 外婆 老婆   绿 绿色 绿叶 绿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邻 邻里 近邻 邻国    居 居住 邻居 居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替 代替 替代  替换   您  您好 喊您  欢迎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领  领子 衣领  领 军 童  童年 儿童 女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难 难事 难忘  难 看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A7E9-FD82-4CBA-87D4-0826803DC25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2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523880" y="696960"/>
            <a:ext cx="6324840" cy="48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nɡ  hē  zī  tǎnɡ  ɡ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盲  呵  滋  淌  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lǜ   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n   jū   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ì</a:t>
            </a:r>
            <a:r>
              <a:rPr b="1" lang="en-US" sz="5400" spc="-1" strike="noStrike">
                <a:solidFill>
                  <a:srgbClr val="ff3300"/>
                </a:solidFill>
                <a:latin typeface="宋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婆 绿 邻 居 替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n lǐnɡ 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nɡ  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您 领 童 难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5" descr="pic699"/>
          <p:cNvPicPr/>
          <p:nvPr/>
        </p:nvPicPr>
        <p:blipFill>
          <a:blip r:embed="rId6"/>
          <a:stretch/>
        </p:blipFill>
        <p:spPr>
          <a:xfrm>
            <a:off x="7543800" y="5715000"/>
            <a:ext cx="129528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yuri03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yuri03"/>
          <p:cNvPicPr/>
          <p:nvPr/>
        </p:nvPicPr>
        <p:blipFill>
          <a:blip r:embed="rId3"/>
          <a:stretch/>
        </p:blipFill>
        <p:spPr>
          <a:xfrm>
            <a:off x="0" y="39625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yuri03"/>
          <p:cNvPicPr/>
          <p:nvPr/>
        </p:nvPicPr>
        <p:blipFill>
          <a:blip r:embed="rId4"/>
          <a:stretch/>
        </p:blipFill>
        <p:spPr>
          <a:xfrm>
            <a:off x="0" y="299736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684000" y="836280"/>
            <a:ext cx="84596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6600"/>
                </a:solidFill>
                <a:latin typeface="Times New Roman"/>
              </a:rPr>
              <a:t>绿色  唱歌  邻居   田野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6600"/>
                </a:solidFill>
                <a:latin typeface="Times New Roman"/>
              </a:rPr>
              <a:t>童年  往日  难忘   欢乐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8" descr="yuri03"/>
          <p:cNvPicPr/>
          <p:nvPr/>
        </p:nvPicPr>
        <p:blipFill>
          <a:blip r:embed="rId6"/>
          <a:stretch/>
        </p:blipFill>
        <p:spPr>
          <a:xfrm>
            <a:off x="0" y="4508640"/>
            <a:ext cx="9144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12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3285000" y="1523880"/>
            <a:ext cx="30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乐呵呵地捉回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一只绿色的蝈蝈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喜滋滋地送给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邻居家的盲婆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8"/>
          <p:cNvSpPr/>
          <p:nvPr/>
        </p:nvSpPr>
        <p:spPr>
          <a:xfrm>
            <a:off x="3492360" y="3726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Object 14" descr=""/>
          <p:cNvPicPr/>
          <p:nvPr/>
        </p:nvPicPr>
        <p:blipFill>
          <a:blip r:embed="rId6"/>
          <a:stretch/>
        </p:blipFill>
        <p:spPr>
          <a:xfrm>
            <a:off x="1752480" y="3352680"/>
            <a:ext cx="6324840" cy="3291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5"/>
          <p:cNvSpPr/>
          <p:nvPr/>
        </p:nvSpPr>
        <p:spPr>
          <a:xfrm>
            <a:off x="3382200" y="228600"/>
            <a:ext cx="2741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乐呵呵地提回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一只绿色的蝈蝈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喜滋滋地送给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邻居家的盲婆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1401840" y="1600200"/>
            <a:ext cx="7361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婆婆，婆婆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这是一只会唱歌的蝈蝈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在我上学的时候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就让它替我给您唱歌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2913120" y="1676520"/>
            <a:ext cx="4295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歌声会领您走进田野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看到小溪流淌的清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歌声会把您带回童年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想起往日难忘的欢乐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2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3294000" y="228600"/>
            <a:ext cx="3838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歌声会领您走进田野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看到小溪流淌的清波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歌声会把您带回童年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想起往日难忘的欢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Object 15" descr=""/>
          <p:cNvPicPr/>
          <p:nvPr/>
        </p:nvPicPr>
        <p:blipFill>
          <a:blip r:embed="rId6"/>
          <a:stretch/>
        </p:blipFill>
        <p:spPr>
          <a:xfrm>
            <a:off x="1295280" y="3276720"/>
            <a:ext cx="7543800" cy="33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1415880" y="1523880"/>
            <a:ext cx="7728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婆婆，婆婆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这是一只会唱歌的蝈蝈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您听，它唱的多好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咯咯，咯咯，咯咯…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8T06:07:3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4:16Z</dcterms:modified>
  <cp:revision>2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