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B9B-6DB0-4BF4-A00F-1403DCB94C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BA9-E0FE-45DA-A02A-19D1122D43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D77-D65F-4C34-9FE6-1A12332F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02D-7C16-4943-9AAB-F01B9BE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BFB-1135-46DE-9FA8-2051FF30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194-EBDF-48D2-8CD1-E8E9E258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EBA-015D-4983-8FF5-309ADCE4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0F0-588B-4ABC-8AC2-2D195F21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15D-DA20-41B3-93AD-B6B18529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6A1-8605-4103-BB5E-D09D2FF8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A94-F5C5-45BF-AD3A-B23D31DD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B81-A03A-42AA-8956-399E139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147-1CF6-4701-A2EC-402726A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5B6-507A-443E-8861-D1A86C0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5097-2E79-4685-B091-6C5C3AE57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412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3484080" y="2387520"/>
            <a:ext cx="5400720" cy="1146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1e4649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成语故事会</a:t>
            </a:r>
            <a:endParaRPr b="1" lang="en-US" sz="9600" spc="-1" strike="noStrike">
              <a:ln w="0">
                <a:noFill/>
              </a:ln>
              <a:solidFill>
                <a:srgbClr val="1e4649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660480" y="6058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464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1e464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72E-9714-4382-9D17-F7A803A425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14401JV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187280" y="1670040"/>
            <a:ext cx="338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言简意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00000" y="2535120"/>
            <a:ext cx="410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易学易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3357720"/>
            <a:ext cx="360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形象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268360" y="549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成语的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4000" y="49014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　　成语是我国汉语语言文化宝库中的奇葩，它言简意赅，含义深刻，其背后的有趣故事常常令人深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1G4094122-8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69840" y="838080"/>
            <a:ext cx="9212400" cy="5484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看图猜成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24360" y="836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狐假虎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03280" y="62164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比喻凭借别人的威势欺压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刻舟求剑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87200" y="5950080"/>
            <a:ext cx="9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讽刺了片面、静止，不知变通、墨守成规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292720" y="4581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刻舟求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922400" y="421632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7"/>
          <p:cNvSpPr/>
          <p:nvPr/>
        </p:nvSpPr>
        <p:spPr>
          <a:xfrm>
            <a:off x="6443640" y="3933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997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84360" y="602136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不要盲目模仿他人，这样只会适得其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796000" y="620640"/>
            <a:ext cx="298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东施效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059280" y="400536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对牛弹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0000" y="6093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比喻对不懂事理的人讲道理或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1144021Z6-6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400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前，宋国有个农夫正在田里翻土。突然，他看见有一只野兔从旁边的草丛里慌慌张张地窜出来，一头撞在田边的树墩子上，便倒在那儿一动也不动了。农夫走过去一看：兔子死了。因为它奔跑的速度太快，把脖子都撞折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s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了。农夫高兴极了，他一点力气没花，就白捡了一只又肥又大的野兔。他心想：要是天天都能捡到野兔，日子就好过了。从此，他再也不肯出力气种地了。每天，他就躺在那里，等待着第二只、第三只野兔自己撞到这树墩子上来。但是世上哪有那么多便宜事啊。农夫再没有捡到撞死的野兔，而他的田地却荒芜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03640" y="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守株待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476360" y="1413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771640" y="1413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4429080" y="1413000"/>
            <a:ext cx="86364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-10052923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24000" y="23821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讲成语故事要讲清楚故事发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事情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起因、发展、结局），还可以讲讲故事给人们的启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964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故事的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03U3112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95280" y="16869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故事会中选择一个自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最喜欢、印象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故事写下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2944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己的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再现一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完整、具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成语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4000" y="4241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３、在某个成语故事的基础上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续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段新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5:51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5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