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06C2-DAF7-462F-A3D0-F0BA1299C8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676-3943-4F6E-B757-8D4E6FC852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D32-D501-4E32-BFCF-F8C0FC82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D4B-DBF9-4767-9CED-11547188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7FD-E924-4121-BDC6-816F4E03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3FD-CDAC-4802-B10C-A7E66481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C38-E595-473E-9322-FBE8C80B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96B-602F-4C07-AC12-FA4204B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F00-5CBA-4460-8177-A878A9D2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066-1670-4384-8699-CF88660D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85F-79CE-4B5C-9933-73CB7AA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CEE-6611-41C1-9F63-E5760484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F36-4C41-4813-8AE2-5CC956A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37A-D2E9-4914-A265-03B56C5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4661-A60C-4AF3-B14A-E75446F32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38240" y="227664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老师读作文的时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20520" y="5373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4360" y="1052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21300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我”是个热爱学习，敢于面对生活中的难题，并认真地解决难题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258920" y="19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我”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255600" y="564048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62120" y="2565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读了这篇课文你有怎样的体会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55640" y="112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3046-9CBC-435B-9642-25C82E6325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2340000" y="4365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067280" y="109692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毕淑敏，女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952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出生于新疆，中学就读于北京外国语学院附属学校。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969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入伍，在喜马拉雅山、冈底斯山、喀喇昆仑山交汇的西藏阿里高原部队当兵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1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。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98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转业回北京。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  <a:ea typeface="楷体_GB2312"/>
              </a:rPr>
              <a:t> 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　　从事医学工作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后，开始专业写作，共发表作品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万字。曾获庄重文文学奖、小说月报第四、五、六届百花奖、当代文学奖、陈伯吹文学大奖、北京文学奖、昆仑文学奖、解放军文艺奖、青年文学奖、台湾第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6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届中国时报文学奖、台湾第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7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届联合报文学奖等各种文学奖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余次。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  <a:ea typeface="楷体_GB2312"/>
              </a:rPr>
              <a:t> 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　　国家一级作家，内科主治医师。北师大文学硕士。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W020070423348592175772"/>
          <p:cNvPicPr/>
          <p:nvPr/>
        </p:nvPicPr>
        <p:blipFill>
          <a:blip r:embed="rId1"/>
          <a:stretch/>
        </p:blipFill>
        <p:spPr>
          <a:xfrm>
            <a:off x="692280" y="1268280"/>
            <a:ext cx="31683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31640" y="1989000"/>
            <a:ext cx="87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．正确认读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．正确、流利、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．了解课文内容，培养默读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通过自读自悟，了解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学会正确地面对生活，较好地解决生活中的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9640" y="981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116000" y="1268280"/>
            <a:ext cx="7128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重点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楷体_GB2312"/>
              </a:rPr>
              <a:t>弄清“我”请求老师读作文时不念自己名字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11280" y="981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初读课文，感知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42920" y="29242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楷体_GB2312"/>
              </a:rPr>
              <a:t>思考：课文主要讲了一件怎样的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9079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精读课文，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640" y="1773360"/>
            <a:ext cx="69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当老师念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作文的时候，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情绪有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同学们对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态度有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什么请求教师在读作文时不念自己的名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读了这篇课文你有怎样的体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11280" y="9208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当老师念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作文的时候，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情绪变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00000" y="1628640"/>
            <a:ext cx="58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甜甜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怪怪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孤独（像揣着一块石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快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76360" y="213372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476360" y="335772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476360" y="465300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154240" y="1268280"/>
            <a:ext cx="38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同学们对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态度有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87280" y="2421000"/>
            <a:ext cx="504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神情怪怪的、不跟“我”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好奇、越玩越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11280" y="292428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1280" y="105264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什么请求教师在读作文时不念自己的名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55640" y="1989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因为虽然“我”的作文写得好，但如果老师长期只提一个人的名字，会让其他同学觉得老师忽略了他们的存在。如果老师念作文时不指名是谁写的，不仅可以激发同学们的好奇心，还顾及了一大部分同学的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11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1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