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jpeg" ContentType="image/jpeg"/>
  <Override PartName="/ppt/media/image50.jpeg" ContentType="image/jpeg"/>
  <Override PartName="/ppt/media/wind.wav" ContentType="audio/x-wav"/>
  <Override PartName="/ppt/media/image48.jpeg" ContentType="image/jpeg"/>
  <Override PartName="/ppt/media/projctor.wav" ContentType="audio/x-wav"/>
  <Override PartName="/ppt/media/image45.png" ContentType="image/png"/>
  <Override PartName="/ppt/media/image44.png" ContentType="image/png"/>
  <Override PartName="/ppt/media/image41.gif" ContentType="image/gif"/>
  <Override PartName="/ppt/media/image33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13.png" ContentType="image/png"/>
  <Override PartName="/ppt/media/image16.png" ContentType="image/png"/>
  <Override PartName="/ppt/media/breeze.wav" ContentType="audio/x-wav"/>
  <Override PartName="/ppt/media/TYPE.WAV" ContentType="audio/x-wav"/>
  <Override PartName="/ppt/media/image59.gif" ContentType="image/gif"/>
  <Override PartName="/ppt/media/image3.png" ContentType="image/png"/>
  <Override PartName="/ppt/media/image15.png" ContentType="image/png"/>
  <Override PartName="/ppt/media/chimes.wav" ContentType="audio/x-wav"/>
  <Override PartName="/ppt/media/image17.jpeg" ContentType="image/jpeg"/>
  <Override PartName="/ppt/media/image58.gif" ContentType="image/gif"/>
  <Override PartName="/ppt/media/image57.jpeg" ContentType="image/jpeg"/>
  <Override PartName="/ppt/media/image1.jpeg" ContentType="image/jpeg"/>
  <Override PartName="/ppt/media/image21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bomb.wav" ContentType="audio/x-wav"/>
  <Override PartName="/ppt/media/image24.png" ContentType="image/png"/>
  <Override PartName="/ppt/media/image23.png" ContentType="image/png"/>
  <Override PartName="/ppt/media/image53.jpeg" ContentType="image/jpeg"/>
  <Override PartName="/ppt/media/image29.png" ContentType="image/png"/>
  <Override PartName="/ppt/media/image26.gif" ContentType="image/gif"/>
  <Override PartName="/ppt/media/image36.png" ContentType="image/png"/>
  <Override PartName="/ppt/media/image11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25.png" ContentType="image/png"/>
  <Override PartName="/ppt/media/camera.wav" ContentType="audio/x-wav"/>
  <Override PartName="/ppt/media/image6.png" ContentType="image/png"/>
  <Override PartName="/ppt/media/image42.jpeg" ContentType="image/jpeg"/>
  <Override PartName="/ppt/media/image18.png" ContentType="image/png"/>
  <Override PartName="/ppt/media/image27.png" ContentType="image/png"/>
  <Override PartName="/ppt/media/image43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31.png" ContentType="image/png"/>
  <Override PartName="/ppt/media/image34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CB87-D0BB-4EBC-A0CB-79F36047AC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184-2535-42A5-AAAB-5EDCC4CC3D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73A-FD2B-483C-9102-312AA606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F17-ED8F-40FA-B5A9-E694299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85B-F0BF-48E8-AC76-7A7F4C9A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7AB-B38A-4EA8-A0C3-0A757C70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C2D-C02F-480B-830B-31962EE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F98-23A9-4400-8477-461B6F6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960-61F5-4C9D-A8AF-15AEB50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15C-59DB-4EC8-8E7E-1E87C60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072-1408-4773-A68A-A754DCCB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BC4-33DB-41AD-9BB9-5A6C661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6D2-36BC-4042-B0D9-1FAC2F8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615-5D85-4805-93AC-D46A5C8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D8E3-86E1-4E32-9A2E-1CB1FE5B85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12.xml"/><Relationship Id="rId3" Type="http://schemas.openxmlformats.org/officeDocument/2006/relationships/image" Target="../media/image33.png"/><Relationship Id="rId4" Type="http://schemas.openxmlformats.org/officeDocument/2006/relationships/slide" Target="slide23.xml"/><Relationship Id="rId5" Type="http://schemas.openxmlformats.org/officeDocument/2006/relationships/image" Target="../media/image33.png"/><Relationship Id="rId6" Type="http://schemas.openxmlformats.org/officeDocument/2006/relationships/slide" Target="slide28.xml"/><Relationship Id="rId7" Type="http://schemas.openxmlformats.org/officeDocument/2006/relationships/image" Target="../media/image33.png"/><Relationship Id="rId8" Type="http://schemas.openxmlformats.org/officeDocument/2006/relationships/slide" Target="slide2.xml"/><Relationship Id="rId9" Type="http://schemas.openxmlformats.org/officeDocument/2006/relationships/image" Target="../media/image3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39.xml"/><Relationship Id="rId7" Type="http://schemas.openxmlformats.org/officeDocument/2006/relationships/image" Target="../media/image8.png"/><Relationship Id="rId8" Type="http://schemas.openxmlformats.org/officeDocument/2006/relationships/slide" Target="slide5.xml"/><Relationship Id="rId9" Type="http://schemas.openxmlformats.org/officeDocument/2006/relationships/image" Target="../media/image9.png"/><Relationship Id="rId10" Type="http://schemas.openxmlformats.org/officeDocument/2006/relationships/slide" Target="slide37.xml"/><Relationship Id="rId11" Type="http://schemas.openxmlformats.org/officeDocument/2006/relationships/image" Target="../media/image10.png"/><Relationship Id="rId12" Type="http://schemas.openxmlformats.org/officeDocument/2006/relationships/slide" Target="slide8.xml"/><Relationship Id="rId13" Type="http://schemas.openxmlformats.org/officeDocument/2006/relationships/image" Target="../media/image11.png"/><Relationship Id="rId14" Type="http://schemas.openxmlformats.org/officeDocument/2006/relationships/slide" Target="slide1.xml"/><Relationship Id="rId15" Type="http://schemas.openxmlformats.org/officeDocument/2006/relationships/image" Target="../media/image12.png"/><Relationship Id="rId16" Type="http://schemas.openxmlformats.org/officeDocument/2006/relationships/slide" Target="slide10.xml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11.xml"/><Relationship Id="rId3" Type="http://schemas.openxmlformats.org/officeDocument/2006/relationships/image" Target="../media/image36.png"/><Relationship Id="rId4" Type="http://schemas.openxmlformats.org/officeDocument/2006/relationships/slide" Target="slide11.xml"/><Relationship Id="rId5" Type="http://schemas.openxmlformats.org/officeDocument/2006/relationships/image" Target="../media/image4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7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4.png"/><Relationship Id="rId3" Type="http://schemas.openxmlformats.org/officeDocument/2006/relationships/image" Target="../media/image46.png"/><Relationship Id="rId4" Type="http://schemas.openxmlformats.org/officeDocument/2006/relationships/image" Target="../media/image45.png"/><Relationship Id="rId5" Type="http://schemas.openxmlformats.org/officeDocument/2006/relationships/image" Target="../media/image47.png"/><Relationship Id="rId6" Type="http://schemas.openxmlformats.org/officeDocument/2006/relationships/slide" Target="slide11.xml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image" Target="../media/image41.gi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" Target="slide2.xml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.baidu.com/i?ct=503316480&amp;z=0&amp;tn=baiduimagedetail&amp;word=&#1206;%D7%D3&#696;%C1%BF&#892;&amp;in=32088&amp;cl=2&amp;lm=-1&amp;pn=97&amp;rn=1&amp;di=31116989130&amp;ln=1965&amp;fr=&amp;fmq=&amp;ic=&amp;s=&amp;se=&amp;sme=0&amp;tab=&amp;width=&amp;height=&amp;face=" TargetMode="External"/><Relationship Id="rId3" Type="http://schemas.openxmlformats.org/officeDocument/2006/relationships/image" Target="../media/image18.png"/><Relationship Id="rId4" Type="http://schemas.openxmlformats.org/officeDocument/2006/relationships/hyperlink" Target="http://image.baidu.com/i?ct=503316480&amp;z=0&amp;tn=baiduimagedetail&amp;word=&#1206;%D7%D3&#696;%C1%BF&#892;&amp;in=32088&amp;cl=2&amp;lm=-1&amp;pn=97&amp;rn=1&amp;di=31116989130&amp;ln=1965&amp;fr=&amp;fmq=&amp;ic=&amp;s=&amp;se=&amp;sme=0&amp;tab=&amp;width=&amp;height=&amp;face=" TargetMode="External"/><Relationship Id="rId5" Type="http://schemas.openxmlformats.org/officeDocument/2006/relationships/image" Target="../media/image18.png"/><Relationship Id="rId6" Type="http://schemas.openxmlformats.org/officeDocument/2006/relationships/hyperlink" Target="http://image.baidu.com/i?ct=503316480&amp;z=0&amp;tn=baiduimagedetail&amp;word=&#1206;%D7%D3&#696;%C1%BF&#892;&amp;in=32088&amp;cl=2&amp;lm=-1&amp;pn=97&amp;rn=1&amp;di=31116989130&amp;ln=1965&amp;fr=&amp;fmq=&amp;ic=&amp;s=&amp;se=&amp;sme=0&amp;tab=&amp;width=&amp;height=&amp;face=" TargetMode="External"/><Relationship Id="rId7" Type="http://schemas.openxmlformats.org/officeDocument/2006/relationships/image" Target="../media/image19.png"/><Relationship Id="rId8" Type="http://schemas.openxmlformats.org/officeDocument/2006/relationships/hyperlink" Target="http://image.baidu.com/i?ct=503316480&amp;z=0&amp;tn=baiduimagedetail&amp;word=&#1206;%D7%D3&#696;%C1%BF&#892;&amp;in=32088&amp;cl=2&amp;lm=-1&amp;pn=97&amp;rn=1&amp;di=31116989130&amp;ln=1965&amp;fr=&amp;fmq=&amp;ic=&amp;s=&amp;se=&amp;sme=0&amp;tab=&amp;width=&amp;height=&amp;face=" TargetMode="External"/><Relationship Id="rId9" Type="http://schemas.openxmlformats.org/officeDocument/2006/relationships/image" Target="../media/image18.png"/><Relationship Id="rId10" Type="http://schemas.openxmlformats.org/officeDocument/2006/relationships/audio" Target="../media/breez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slide2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3" descr=""/>
          <p:cNvPicPr/>
          <p:nvPr/>
        </p:nvPicPr>
        <p:blipFill>
          <a:blip r:embed="rId3"/>
          <a:stretch/>
        </p:blipFill>
        <p:spPr>
          <a:xfrm>
            <a:off x="1389240" y="3651120"/>
            <a:ext cx="6510240" cy="128448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184428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uzhuangs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609480"/>
            <a:ext cx="8610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默读课文，思考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课文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3—9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段中哪个场景最让你感动？找出最能打动你的词句，进行圈画批注，谈谈你的体会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367760" y="-118080"/>
            <a:ext cx="1682640" cy="1534320"/>
            <a:chOff x="7367760" y="-118080"/>
            <a:chExt cx="1682640" cy="1534320"/>
          </a:xfrm>
        </p:grpSpPr>
        <p:pic>
          <p:nvPicPr>
            <p:cNvPr id="121" name="Picture 5" descr="4012761_124732912370_2"/>
            <p:cNvPicPr/>
            <p:nvPr/>
          </p:nvPicPr>
          <p:blipFill>
            <a:blip r:embed="rId2"/>
            <a:stretch/>
          </p:blipFill>
          <p:spPr>
            <a:xfrm rot="6656400">
              <a:off x="7407360" y="136080"/>
              <a:ext cx="1145520" cy="8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4012761_124732912370_2"/>
            <p:cNvPicPr/>
            <p:nvPr/>
          </p:nvPicPr>
          <p:blipFill>
            <a:blip r:embed="rId3"/>
            <a:stretch/>
          </p:blipFill>
          <p:spPr>
            <a:xfrm rot="4090200">
              <a:off x="7859160" y="285120"/>
              <a:ext cx="1145520" cy="8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7" descr="200865201249832_2"/>
          <p:cNvPicPr/>
          <p:nvPr/>
        </p:nvPicPr>
        <p:blipFill>
          <a:blip r:embed="rId4"/>
          <a:stretch/>
        </p:blipFill>
        <p:spPr>
          <a:xfrm rot="9874200">
            <a:off x="7695360" y="55620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200865201249832_2"/>
          <p:cNvPicPr/>
          <p:nvPr/>
        </p:nvPicPr>
        <p:blipFill>
          <a:blip r:embed="rId5"/>
          <a:stretch/>
        </p:blipFill>
        <p:spPr>
          <a:xfrm rot="9874200">
            <a:off x="6019200" y="533376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200865201249832_2"/>
          <p:cNvPicPr/>
          <p:nvPr/>
        </p:nvPicPr>
        <p:blipFill>
          <a:blip r:embed="rId6"/>
          <a:stretch/>
        </p:blipFill>
        <p:spPr>
          <a:xfrm rot="9874200">
            <a:off x="6781320" y="563832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00865201249832_2"/>
          <p:cNvPicPr/>
          <p:nvPr/>
        </p:nvPicPr>
        <p:blipFill>
          <a:blip r:embed="rId7"/>
          <a:stretch/>
        </p:blipFill>
        <p:spPr>
          <a:xfrm rot="9874200">
            <a:off x="5028480" y="5638680"/>
            <a:ext cx="762120" cy="736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TYPE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wuzhuangs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28600" y="2286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默读课文，思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课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3—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段中哪个场景最让你感动？找出最能打动你的词句，进行圈画批注，谈谈你的体会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42670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引上绝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顶峰歼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99ff33"/>
                </a:solidFill>
                <a:latin typeface="Arial"/>
              </a:rPr>
              <a:t>跳下悬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2009101116520742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2009101116520742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5268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2009101116520742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943600" y="54100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7543800" y="5334120"/>
            <a:ext cx="1905120" cy="1295280"/>
            <a:chOff x="7543800" y="5334120"/>
            <a:chExt cx="1905120" cy="1295280"/>
          </a:xfrm>
        </p:grpSpPr>
        <p:pic>
          <p:nvPicPr>
            <p:cNvPr id="136" name="Picture 11" descr="2007816164954361_2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438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>
              <a:off x="7772400" y="5715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horz"/>
    <p:sndAc>
      <p:stSnd>
        <p:snd r:embed="rId10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wuzhuangs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18960" y="533520"/>
            <a:ext cx="874872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斩钉截铁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战士们热血沸腾，紧跟在班长后面。他们知道班长要把敌人引上绝路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00874171034683_2"/>
          <p:cNvPicPr/>
          <p:nvPr/>
        </p:nvPicPr>
        <p:blipFill>
          <a:blip r:embed="rId2"/>
          <a:stretch/>
        </p:blipFill>
        <p:spPr>
          <a:xfrm>
            <a:off x="7620120" y="5829480"/>
            <a:ext cx="1523880" cy="1028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wuzhuangs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95280" y="1066680"/>
            <a:ext cx="87487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00874171034683_2"/>
          <p:cNvPicPr/>
          <p:nvPr/>
        </p:nvPicPr>
        <p:blipFill>
          <a:blip r:embed="rId2"/>
          <a:stretch/>
        </p:blipFill>
        <p:spPr>
          <a:xfrm>
            <a:off x="7620120" y="5829480"/>
            <a:ext cx="1523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18960" y="533520"/>
            <a:ext cx="87487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200874171034683_2"/>
          <p:cNvPicPr/>
          <p:nvPr/>
        </p:nvPicPr>
        <p:blipFill>
          <a:blip r:embed="rId2"/>
          <a:stretch/>
        </p:blipFill>
        <p:spPr>
          <a:xfrm>
            <a:off x="7620120" y="5829480"/>
            <a:ext cx="1523880" cy="1028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78000" y="4694400"/>
            <a:ext cx="80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斩钉截铁：形容说话或行动坚决果断，毫不犹豫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66294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 rot="5400000">
            <a:off x="6514560" y="163836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棋盘陀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18960" y="533520"/>
            <a:ext cx="87487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18960" y="533520"/>
            <a:ext cx="8748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战士们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热血沸腾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，紧跟在班长后面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18960" y="533520"/>
            <a:ext cx="8748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战士们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热血沸腾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紧跟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在班长后面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33520" y="5181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战士们热血沸腾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紧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班长后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5867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战士们热血沸腾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班长后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990720" y="228600"/>
            <a:ext cx="7162560" cy="4952880"/>
            <a:chOff x="990720" y="228600"/>
            <a:chExt cx="7162560" cy="4952880"/>
          </a:xfrm>
        </p:grpSpPr>
        <p:pic>
          <p:nvPicPr>
            <p:cNvPr id="159" name="Picture 5" descr="复件 狼牙山五壮士 1958年红色经典战争黑白故事片"/>
            <p:cNvPicPr/>
            <p:nvPr/>
          </p:nvPicPr>
          <p:blipFill>
            <a:blip r:embed="rId2"/>
            <a:stretch/>
          </p:blipFill>
          <p:spPr>
            <a:xfrm>
              <a:off x="990720" y="228600"/>
              <a:ext cx="716256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6"/>
            <p:cNvSpPr/>
            <p:nvPr/>
          </p:nvSpPr>
          <p:spPr>
            <a:xfrm>
              <a:off x="990720" y="228600"/>
              <a:ext cx="1599840" cy="685800"/>
            </a:xfrm>
            <a:prstGeom prst="rect">
              <a:avLst/>
            </a:prstGeom>
            <a:solidFill>
              <a:srgbClr val="808080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Picture 3" descr="45da05d8c7e7ea1b32fa1cbc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4"/>
            <p:cNvSpPr/>
            <p:nvPr/>
          </p:nvSpPr>
          <p:spPr>
            <a:xfrm>
              <a:off x="7772400" y="6400800"/>
              <a:ext cx="1371600" cy="380880"/>
            </a:xfrm>
            <a:prstGeom prst="rect">
              <a:avLst/>
            </a:prstGeom>
            <a:solidFill>
              <a:srgbClr val="d1cc00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"/>
          <p:cNvGrpSpPr/>
          <p:nvPr/>
        </p:nvGrpSpPr>
        <p:grpSpPr>
          <a:xfrm>
            <a:off x="-344880" y="-204120"/>
            <a:ext cx="2394360" cy="2261160"/>
            <a:chOff x="-344880" y="-204120"/>
            <a:chExt cx="2394360" cy="2261160"/>
          </a:xfrm>
        </p:grpSpPr>
        <p:pic>
          <p:nvPicPr>
            <p:cNvPr id="55" name="Picture 6" descr="4012761_124732912370_2"/>
            <p:cNvPicPr/>
            <p:nvPr/>
          </p:nvPicPr>
          <p:blipFill>
            <a:blip r:embed="rId2"/>
            <a:stretch/>
          </p:blipFill>
          <p:spPr>
            <a:xfrm rot="1032000">
              <a:off x="-214200" y="233280"/>
              <a:ext cx="146844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4012761_124732912370_2"/>
            <p:cNvPicPr/>
            <p:nvPr/>
          </p:nvPicPr>
          <p:blipFill>
            <a:blip r:embed="rId3"/>
            <a:stretch/>
          </p:blipFill>
          <p:spPr>
            <a:xfrm rot="20842200">
              <a:off x="1001880" y="969120"/>
              <a:ext cx="978840" cy="7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4012761_124732912370_2"/>
            <p:cNvPicPr/>
            <p:nvPr/>
          </p:nvPicPr>
          <p:blipFill>
            <a:blip r:embed="rId4"/>
            <a:stretch/>
          </p:blipFill>
          <p:spPr>
            <a:xfrm rot="19668600">
              <a:off x="267120" y="0"/>
              <a:ext cx="978840" cy="7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4012761_124732912370_2"/>
            <p:cNvPicPr/>
            <p:nvPr/>
          </p:nvPicPr>
          <p:blipFill>
            <a:blip r:embed="rId5"/>
            <a:stretch/>
          </p:blipFill>
          <p:spPr>
            <a:xfrm rot="1033800">
              <a:off x="-37800" y="1029600"/>
              <a:ext cx="1162080" cy="87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10" descr="4200541517431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593244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14200541517452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53080" y="137160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00903101314233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346040" y="48006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u=3961147813,4286889059&amp;fm=0&amp;gp=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56320" y="25146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20070322110003969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553080" y="284040"/>
            <a:ext cx="938160" cy="101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02005415174052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295280" y="35812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2895480" y="4413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回顾生字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666880" y="14320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课文主要内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048120" y="25750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历史背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048120" y="4800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课堂练习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048120" y="5943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拓展阅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048120" y="3581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学习课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2"/>
          <p:cNvGrpSpPr/>
          <p:nvPr/>
        </p:nvGrpSpPr>
        <p:grpSpPr>
          <a:xfrm>
            <a:off x="1364760" y="2780280"/>
            <a:ext cx="2109960" cy="1429200"/>
            <a:chOff x="1364760" y="2780280"/>
            <a:chExt cx="2109960" cy="1429200"/>
          </a:xfrm>
        </p:grpSpPr>
        <p:pic>
          <p:nvPicPr>
            <p:cNvPr id="72" name="Picture 23" descr="4012761_124732912370_2"/>
            <p:cNvPicPr/>
            <p:nvPr/>
          </p:nvPicPr>
          <p:blipFill>
            <a:blip r:embed="rId18"/>
            <a:stretch/>
          </p:blipFill>
          <p:spPr>
            <a:xfrm rot="1033800">
              <a:off x="1447560" y="2895480"/>
              <a:ext cx="8834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4" descr="4012761_124732912370_2"/>
            <p:cNvPicPr/>
            <p:nvPr/>
          </p:nvPicPr>
          <p:blipFill>
            <a:blip r:embed="rId19"/>
            <a:stretch/>
          </p:blipFill>
          <p:spPr>
            <a:xfrm rot="20842200">
              <a:off x="2276280" y="3366360"/>
              <a:ext cx="95148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5" descr="4012761_124732912370_2"/>
            <p:cNvPicPr/>
            <p:nvPr/>
          </p:nvPicPr>
          <p:blipFill>
            <a:blip r:embed="rId20"/>
            <a:stretch/>
          </p:blipFill>
          <p:spPr>
            <a:xfrm rot="20842200">
              <a:off x="2806920" y="3035520"/>
              <a:ext cx="621720" cy="48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edge/>
    <p:sndAc>
      <p:stSnd>
        <p:snd r:embed="rId2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2199 C -0.03993 -0.02014 0.00555 -0.04074 0.0408 -0.01157 C 0.08107 0.02361 0.02708 -0.0088 0.06198 0.01065 C 0.07656 0.04398 0.09566 0.06273 0.11493 0.08704 C 0.11753 0.09097 0.11961 0.09583 0.12257 0.09838 C 0.15416 0.12199 0.20139 0.12315 0.23246 0.1257 C 0.24982 0.13426 0.26875 0.13658 0.28559 0.14745 C 0.2908 0.1507 0.29514 0.15394 0.30017 0.15787 C 0.30347 0.16158 0.30677 0.1662 0.31024 0.16875 C 0.34965 0.1963 0.31771 0.1662 0.34271 0.1912 C 0.36128 0.23495 0.3368 0.18218 0.36059 0.21875 C 0.38455 0.25533 0.34965 0.21713 0.37864 0.24583 C 0.39687 0.28982 0.37257 0.23681 0.39583 0.27361 C 0.41944 0.30995 0.38524 0.27153 0.41371 0.30046 C 0.42361 0.325 0.43958 0.33102 0.4526 0.34977 C 0.45486 0.35347 0.45694 0.36019 0.45989 0.36065 C 0.48698 0.36783 0.54114 0.37222 0.54114 0.37338 C 0.58576 0.3882 0.53073 0.3632 0.56284 0.39398 C 0.57708 0.40741 0.6 0.41111 0.61666 0.41111 E">
                                      <p:cBhvr>
                                        <p:cTn id="6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80880" y="72396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知道这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意味着（   ），但我还是热血沸腾，紧跟在班长后面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战士们都知道这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意味着（   ），但他们还是热血沸腾，紧跟在班长后面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知道这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还意味着（    ），所以我热血沸腾，紧跟在班长后面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战士们都知道这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还意味着（    ），所以他们还是热血沸腾，紧跟在班长后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200874171034683_2"/>
          <p:cNvPicPr/>
          <p:nvPr/>
        </p:nvPicPr>
        <p:blipFill>
          <a:blip r:embed="rId2"/>
          <a:stretch/>
        </p:blipFill>
        <p:spPr>
          <a:xfrm>
            <a:off x="0" y="5983200"/>
            <a:ext cx="12952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80880" y="914400"/>
            <a:ext cx="84582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</a:rPr>
              <a:t>引上绝路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为了不让敌人发现群众和连队的主力，班长马宝玉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斩钉截铁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地说了一声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走！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带头向棋盘陀走去。战士们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热血沸腾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4600" spc="-1" strike="noStrike">
                <a:solidFill>
                  <a:srgbClr val="ff0000"/>
                </a:solidFill>
                <a:latin typeface="黑体"/>
              </a:rPr>
              <a:t>紧跟</a:t>
            </a:r>
            <a:r>
              <a:rPr b="1" lang="zh-CN" sz="4600" spc="-1" strike="noStrike">
                <a:solidFill>
                  <a:srgbClr val="000000"/>
                </a:solidFill>
                <a:latin typeface="黑体"/>
              </a:rPr>
              <a:t>在班长后面。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200874171034683_2"/>
          <p:cNvPicPr/>
          <p:nvPr/>
        </p:nvPicPr>
        <p:blipFill>
          <a:blip r:embed="rId2"/>
          <a:stretch/>
        </p:blipFill>
        <p:spPr>
          <a:xfrm>
            <a:off x="0" y="5829480"/>
            <a:ext cx="1523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228600" y="609480"/>
            <a:ext cx="8610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小组合作交流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4—9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段中你所画的句子，看看哪个关键的字词让你感动？在小组内谈谈你的体会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200874171034683_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29480"/>
            <a:ext cx="15238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"/>
          <p:cNvGrpSpPr/>
          <p:nvPr/>
        </p:nvGrpSpPr>
        <p:grpSpPr>
          <a:xfrm>
            <a:off x="7391520" y="5715000"/>
            <a:ext cx="1447560" cy="914400"/>
            <a:chOff x="7391520" y="5715000"/>
            <a:chExt cx="1447560" cy="914400"/>
          </a:xfrm>
        </p:grpSpPr>
        <p:pic>
          <p:nvPicPr>
            <p:cNvPr id="173" name="Picture 6" descr="200652592242510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391520" y="5715000"/>
              <a:ext cx="1447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WordArt 7"/>
            <p:cNvSpPr txBox="1"/>
            <p:nvPr/>
          </p:nvSpPr>
          <p:spPr>
            <a:xfrm>
              <a:off x="7772040" y="5943600"/>
              <a:ext cx="533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7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返回</a:t>
              </a:r>
              <a:endPara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p:transition spd="slow">
    <p:circle/>
    <p:sndAc>
      <p:stSnd>
        <p:snd r:embed="rId6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w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705720" y="2438280"/>
            <a:ext cx="8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抢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0948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276720" y="31240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插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391520" y="30481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181480" y="36576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09480" y="4572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顶峰歼敌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52280" y="2514600"/>
            <a:ext cx="899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刚要拧开盖子，马宝玉    前一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    过手榴弹    在腰间，他猛地    起一块磨盘大的石头，大声    道：“同志们！用石头砸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uzhuangshi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380880" y="228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顿时，石头像雹子一样，带着五位壮士的决心，带着中国人民的仇恨，向敌人头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砸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去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447920" y="3581280"/>
            <a:ext cx="2971800" cy="1541520"/>
            <a:chOff x="1447920" y="3581280"/>
            <a:chExt cx="2971800" cy="1541520"/>
          </a:xfrm>
        </p:grpSpPr>
        <p:sp>
          <p:nvSpPr>
            <p:cNvPr id="187" name="Text Box 5"/>
            <p:cNvSpPr/>
            <p:nvPr/>
          </p:nvSpPr>
          <p:spPr>
            <a:xfrm>
              <a:off x="1447920" y="441936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扔、投、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2819520" y="35812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7" descr="复件 狼牙山五壮士 1958年红色经典战争黑白故事片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6705720" y="3352680"/>
            <a:ext cx="24382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8"/>
          <p:cNvGrpSpPr/>
          <p:nvPr/>
        </p:nvGrpSpPr>
        <p:grpSpPr>
          <a:xfrm>
            <a:off x="4343400" y="3352680"/>
            <a:ext cx="2819520" cy="3200400"/>
            <a:chOff x="4343400" y="3352680"/>
            <a:chExt cx="2819520" cy="3200400"/>
          </a:xfrm>
        </p:grpSpPr>
        <p:pic>
          <p:nvPicPr>
            <p:cNvPr id="191" name="Picture 9" descr="复件 狼牙山五壮士 1958年红色经典战争黑白故事片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4343400" y="3352680"/>
              <a:ext cx="23623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"/>
            <p:cNvSpPr/>
            <p:nvPr/>
          </p:nvSpPr>
          <p:spPr>
            <a:xfrm>
              <a:off x="4343400" y="3352680"/>
              <a:ext cx="6858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6629400" y="3352680"/>
              <a:ext cx="53352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80880" y="228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顿时，石头像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样，带着五位壮士的决心，带着中国人民的仇恨，向敌人头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砸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去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1447920" y="3581280"/>
            <a:ext cx="2971800" cy="1541520"/>
            <a:chOff x="1447920" y="3581280"/>
            <a:chExt cx="2971800" cy="1541520"/>
          </a:xfrm>
        </p:grpSpPr>
        <p:sp>
          <p:nvSpPr>
            <p:cNvPr id="197" name="Text Box 5"/>
            <p:cNvSpPr/>
            <p:nvPr/>
          </p:nvSpPr>
          <p:spPr>
            <a:xfrm>
              <a:off x="1447920" y="441936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扔、投、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>
              <a:off x="2819520" y="35812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7" descr="复件 狼牙山五壮士 1958年红色经典战争黑白故事片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6705720" y="3352680"/>
            <a:ext cx="2438280" cy="320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复件 狼牙山五壮士 1958年红色经典战争黑白故事片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343400" y="3352680"/>
            <a:ext cx="23623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9"/>
          <p:cNvGrpSpPr/>
          <p:nvPr/>
        </p:nvGrpSpPr>
        <p:grpSpPr>
          <a:xfrm>
            <a:off x="4343400" y="3352680"/>
            <a:ext cx="2819520" cy="3200400"/>
            <a:chOff x="4343400" y="3352680"/>
            <a:chExt cx="2819520" cy="3200400"/>
          </a:xfrm>
        </p:grpSpPr>
        <p:pic>
          <p:nvPicPr>
            <p:cNvPr id="202" name="Picture 10" descr="复件 狼牙山五壮士 1958年红色经典战争黑白故事片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4343400" y="3352680"/>
              <a:ext cx="23623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1"/>
            <p:cNvSpPr/>
            <p:nvPr/>
          </p:nvSpPr>
          <p:spPr>
            <a:xfrm>
              <a:off x="4343400" y="3352680"/>
              <a:ext cx="6858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6629400" y="3352680"/>
              <a:ext cx="533520" cy="380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w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609480" y="1751040"/>
            <a:ext cx="7775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顿时，石头像雹子一样，带着五位壮士的决心，带着中国人民的仇恨，向敌人头上砸去。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5640" y="41497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把石头比作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雹子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说明石头砸下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</a:rPr>
              <a:t>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， 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</a:rPr>
              <a:t>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。这句话充分体现出五壮士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的决心和与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</a:rPr>
              <a:t>               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</a:rPr>
              <a:t>的英雄气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1828800" y="4724280"/>
            <a:ext cx="10098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迅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5867280" y="464832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867280" y="5181480"/>
            <a:ext cx="122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勇杀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2666880" y="5638680"/>
            <a:ext cx="1908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敌人血战到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28600" y="304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顶峰歼敌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7" name="Picture 5" descr="wuzhuangshi1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" descr="复件 狼牙山五壮士 1958年红色经典战争黑白故事片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743200" y="0"/>
              <a:ext cx="2743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7" descr="复件 狼牙山五壮士 1958年红色经典战争黑白故事片"/>
            <p:cNvPicPr/>
            <p:nvPr/>
          </p:nvPicPr>
          <p:blipFill>
            <a:blip r:embed="rId3">
              <a:lum bright="14000"/>
            </a:blip>
            <a:stretch/>
          </p:blipFill>
          <p:spPr>
            <a:xfrm>
              <a:off x="0" y="3581280"/>
              <a:ext cx="259092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8" descr="复件 狼牙山五壮士 1958年红色经典战争黑白故事片"/>
            <p:cNvPicPr/>
            <p:nvPr/>
          </p:nvPicPr>
          <p:blipFill>
            <a:blip r:embed="rId4">
              <a:lum bright="14000"/>
            </a:blip>
            <a:stretch/>
          </p:blipFill>
          <p:spPr>
            <a:xfrm>
              <a:off x="0" y="0"/>
              <a:ext cx="26668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9" descr="复件 狼牙山五壮士 1958年红色经典战争黑白故事片"/>
            <p:cNvPicPr/>
            <p:nvPr/>
          </p:nvPicPr>
          <p:blipFill>
            <a:blip r:embed="rId5"/>
            <a:stretch/>
          </p:blipFill>
          <p:spPr>
            <a:xfrm>
              <a:off x="2666880" y="3581280"/>
              <a:ext cx="28195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10"/>
            <p:cNvSpPr/>
            <p:nvPr/>
          </p:nvSpPr>
          <p:spPr>
            <a:xfrm>
              <a:off x="0" y="0"/>
              <a:ext cx="83808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0" y="3581280"/>
              <a:ext cx="609480" cy="53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2743200" y="0"/>
              <a:ext cx="4572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2666880" y="3581280"/>
              <a:ext cx="609840" cy="533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4"/>
          <p:cNvSpPr/>
          <p:nvPr/>
        </p:nvSpPr>
        <p:spPr>
          <a:xfrm>
            <a:off x="5715000" y="763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顿时，石头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雹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样，带着五位壮士的决心，带着中国人民的仇恨，向敌人头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去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20065259222827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35600"/>
            <a:ext cx="114300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76320" y="3049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英勇跳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长马宝玉激动地说：“同志们，我们的任务胜利完成了！”说罢，他把那支从敌人手里夺来的枪砸碎了，然后走到悬崖边上，像每次发起冲锋一样，第一个纵身跳下深谷。战士们也昂首挺胸，相继从悬崖往下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52280" y="304920"/>
            <a:ext cx="845820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英勇跳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长马宝玉激动地说：“同志们，我们的任务胜利完成了！”  说罢，他把那支从敌人手里夺来的枪砸碎了，然后走到悬崖边上，像每次发起冲锋一样，第一个纵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深谷。战士们也昂首挺胸，相继从悬崖往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650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寇   尸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体   大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吼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抡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起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崎岖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嗖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嗖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雹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仇恨   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望  任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务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奉命      坚持     掩护     撤退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坠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落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瞄准      掷         暴露     砸碎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眺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望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悬崖     攀登      仇恨      喜悦    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龙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庙     葛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振林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绷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着脸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斩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钉截铁      居高临下     横七竖八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粉身碎骨      叽里呱啦     全神贯注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昂首挺胸      壮烈豪迈     惊天动地   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气壮山河      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怒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33520" y="304920"/>
            <a:ext cx="822960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英勇跳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长马宝玉激动地说：“同志们，我们的任务胜利完成了！”说罢，他把那支从敌人手里夺来的枪砸碎了，然后走到悬崖边上，像每次发起冲锋一样，第一个纵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深谷。战士们也昂首挺胸，相继从悬崖往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334120" y="4191120"/>
            <a:ext cx="304776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85800" y="4800600"/>
            <a:ext cx="655308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07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76320" y="30492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英勇跳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长马宝玉激动地说：“同志们，我们的任务胜利完成了！”说罢，他把那支从敌人手里夺来的枪砸碎了，然后走到悬崖边上，像每次发起冲锋一样，第一个纵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深谷。战士们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昂首挺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相继从悬崖往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867280" y="2514600"/>
            <a:ext cx="30481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76320" y="3048120"/>
            <a:ext cx="5181480" cy="144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06360" y="3618000"/>
            <a:ext cx="87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读完后会有一个词跳入你的脑海里，是哪个词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01760" y="52052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英勇壮烈、视死如归、宁死不屈…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69525488f8bb9a3c9f2fb46d"/>
          <p:cNvPicPr/>
          <p:nvPr/>
        </p:nvPicPr>
        <p:blipFill>
          <a:blip r:embed="rId2"/>
          <a:stretch/>
        </p:blipFill>
        <p:spPr>
          <a:xfrm>
            <a:off x="45720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3"/>
          <p:cNvSpPr txBox="1"/>
          <p:nvPr/>
        </p:nvSpPr>
        <p:spPr>
          <a:xfrm rot="5400000">
            <a:off x="6057360" y="3085920"/>
            <a:ext cx="30477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屹立</a:t>
            </a:r>
            <a:endParaRPr b="1" lang="en-US" sz="4000" spc="1" strike="noStrike">
              <a:ln w="1908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69525488f8bb9a3c9f2fb46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 rot="5400000">
            <a:off x="6819840" y="876240"/>
            <a:ext cx="19047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屹立</a:t>
            </a:r>
            <a:endParaRPr b="1" lang="en-US" sz="4000" spc="1" strike="noStrike">
              <a:ln w="1908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52280" y="3987720"/>
            <a:ext cx="944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、他们就这样（   ）地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</a:rPr>
              <a:t>眺望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着部队转移的方向，心里想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、他们就这样（   ）地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</a:rPr>
              <a:t>望望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向上爬的敌人，心里想（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</a:rPr>
              <a:t>、他们还看到了自己将走向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—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95280" y="7632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英勇跳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五位壮士屹立在狼牙山顶峰，眺望着群众和部队主力远去的方向。他们回头望望还在向上爬的敌人，脸上露出胜利的喜悦。班长马宝玉激动地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志们，我们的任务胜利完成了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说罢，他把那支从敌人手里夺来的枪砸碎了，然后走到悬崖边上，像每次发起冲锋一样，第一个纵身跳下深谷。战士们也昂首挺胸，相继从悬崖往下跳。狼牙山上响起了他们壮烈豪迈的口号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打倒日本帝国主义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共产党万岁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</a:rPr>
              <a:t>这是英雄的中国人民坚强不屈的声音！这声音惊天动地，气壮山河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0065259224251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2007812161957512_2"/>
          <p:cNvPicPr/>
          <p:nvPr/>
        </p:nvPicPr>
        <p:blipFill>
          <a:blip r:embed="rId4"/>
          <a:stretch/>
        </p:blipFill>
        <p:spPr>
          <a:xfrm rot="6369600">
            <a:off x="7710840" y="91080"/>
            <a:ext cx="10335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wen3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609480" y="914400"/>
            <a:ext cx="838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狼牙山上响起了他们壮烈豪迈的口号声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倒日本帝国主义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国共产党万岁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英雄的中国人民坚强不屈的声音！这声音惊天动地，气壮山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37304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楷体_GB2312"/>
              </a:rPr>
              <a:t>这是英雄的中国人民坚强不屈的声音！这声音惊天动地，气壮山河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76320" y="533520"/>
            <a:ext cx="883908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填空练习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顿时，石头像（          ）一样，带着（                                      ），带着（                              ），向敌人砸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壮士胜利地完成了任务，他们带着（                                      ），带着（                                       ）昂首挺胸，相继从悬崖上往下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648320" y="160020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雹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905120" y="2209680"/>
            <a:ext cx="39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位壮士的决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62120" y="2895480"/>
            <a:ext cx="43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民的仇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2362320" y="4267080"/>
            <a:ext cx="28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胜利的喜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33520" y="4876920"/>
            <a:ext cx="57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祖国和人民捐躯的信念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3683944495189072567"/>
          <p:cNvPicPr/>
          <p:nvPr/>
        </p:nvPicPr>
        <p:blipFill>
          <a:blip r:embed="rId3"/>
          <a:stretch/>
        </p:blipFill>
        <p:spPr>
          <a:xfrm>
            <a:off x="4267080" y="228600"/>
            <a:ext cx="4724640" cy="457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28600" y="49989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面对着英勇跳崖的五位勇士，面对着巍然屹立的英雄纪念塔，今天的你想说些什么？ 请动笔写下来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479840" y="3011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12O26422H30-20293U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773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歌曲.wma" descr=""/>
          <p:cNvPicPr/>
          <p:nvPr/>
        </p:nvPicPr>
        <p:blipFill>
          <a:blip r:embed="rId6"/>
          <a:stretch/>
        </p:blipFill>
        <p:spPr>
          <a:xfrm>
            <a:off x="693432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5589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95280" y="0"/>
            <a:ext cx="835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拓展阅读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关故事的后续报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位壮士在狼牙山顶峰英勇跳崖之后。其中葛振林和宋学义被山腰树枝挂住，幸免于难，其他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壮烈牺牲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与敌人激战一整天，打退敌人十几次进攻，歼灭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敌人。他们的壮举，表现了崇高的爱国主义、革命英雄主义精神和坚贞不屈的民族气节，被人民群众誉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狼牙山五壮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来自敌人的折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五位壮士英勇跳崖之后，爬上崖头的日军，面对五勇士跳崖处，随着指挥官的口令整整齐齐地排成几列，恭恭敬敬地三鞠躬。这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皇军武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终于发现和他们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人激战一天的八路军，仅仅只有五人，他们震惊之余，完全被我中华勇士捐躯殉国的牺牲精神折服了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76120"/>
            <a:ext cx="853452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意思写词语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比喻说话办事坚决果断，毫不犹豫。（         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处在高处，俯视低处。形容处于有利的地位。（         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形容气概像高大山河那样雄伟豪迈。（         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971800" y="23623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斩钉截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181480" y="3733920"/>
            <a:ext cx="25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居高临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95480" y="5105520"/>
            <a:ext cx="29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气壮山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609480" y="1752480"/>
            <a:ext cx="769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作业 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背诵课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—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搜集更多的革命故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2007812161957512_2"/>
          <p:cNvPicPr/>
          <p:nvPr/>
        </p:nvPicPr>
        <p:blipFill>
          <a:blip r:embed="rId2"/>
          <a:stretch/>
        </p:blipFill>
        <p:spPr>
          <a:xfrm rot="6369600">
            <a:off x="6960960" y="2779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"/>
          <p:cNvSpPr/>
          <p:nvPr/>
        </p:nvSpPr>
        <p:spPr>
          <a:xfrm>
            <a:off x="520560" y="5295960"/>
            <a:ext cx="72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1586863ac33733bb828b13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362e9948991f052a22b30844597c0b35"/>
          <p:cNvPicPr/>
          <p:nvPr/>
        </p:nvPicPr>
        <p:blipFill>
          <a:blip r:embed="rId2"/>
          <a:stretch/>
        </p:blipFill>
        <p:spPr>
          <a:xfrm>
            <a:off x="6772320" y="0"/>
            <a:ext cx="2371680" cy="2523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u=2815040605,2176681589&amp;fm=0&amp;gp=40"/>
          <p:cNvPicPr/>
          <p:nvPr/>
        </p:nvPicPr>
        <p:blipFill>
          <a:blip r:embed="rId3"/>
          <a:stretch/>
        </p:blipFill>
        <p:spPr>
          <a:xfrm>
            <a:off x="7696080" y="4800600"/>
            <a:ext cx="914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5110-6D14-4A90-A345-A993A94E88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3" descr="200904231750554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d9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169236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320" y="16765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篇课文记叙了抗日战争时期，八路军某部七连六班的五个战士，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掩护群众和连队转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诱敌上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英勇杀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最后把敌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引上狼牙山顶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英勇跳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故事，表现了五壮士热爱祖国、热爱人民、仇恨敌人、勇于牺牲的革命精神和英雄气概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1676520" y="914400"/>
            <a:ext cx="4876560" cy="81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楷体_GB2312"/>
              </a:rPr>
              <a:t>主要内容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87" name="Picture 8" descr="u=617075339,199977696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5938920"/>
            <a:ext cx="838080" cy="771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u=617075339,199977696&amp;fm=0&amp;gp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5791320"/>
            <a:ext cx="838080" cy="77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u=617075339,199977696&amp;fm=0&amp;gp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5486400"/>
            <a:ext cx="609840" cy="56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u=617075339,199977696&amp;fm=0&amp;gp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96080" y="5638680"/>
            <a:ext cx="83844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10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25680" y="5867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接受任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40080" y="4800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痛击敌人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30440" y="3048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引上绝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26080" y="762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顶峰歼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0866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英勇跳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 rot="5580000">
            <a:off x="978480" y="5393880"/>
            <a:ext cx="6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 rot="5280000">
            <a:off x="2119320" y="3905640"/>
            <a:ext cx="103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↖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 rot="4800000">
            <a:off x="3186360" y="1848240"/>
            <a:ext cx="103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↖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 rot="10560000">
            <a:off x="6331320" y="378720"/>
            <a:ext cx="103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↖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Picture 3" descr="200904231750554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4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d9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WordArt 5"/>
          <p:cNvSpPr txBox="1"/>
          <p:nvPr/>
        </p:nvSpPr>
        <p:spPr>
          <a:xfrm>
            <a:off x="1676520" y="914400"/>
            <a:ext cx="4876560" cy="81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楷体_GB2312"/>
              </a:rPr>
              <a:t>主要内容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48120" y="2057400"/>
            <a:ext cx="4800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受任务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诱敌上山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引上绝路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顶峰歼敌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跳下悬崖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—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1828800" y="2286000"/>
            <a:ext cx="838080" cy="39625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-41400" y="2514600"/>
            <a:ext cx="152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狼牙山五壮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356962_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b9112cf576fe950be09e6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04920" y="202896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94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月，日军对晋察冀边区北县区进行了三个月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秋季大扫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仅三个月的时间，日军残杀我人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667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人，烧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477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间，抢掠与焚毁粮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93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万斤，抢走耕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93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余头，毁农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726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余件，使北岳人民受到了严重损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685800" y="38088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历史背景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7167240" y="-145440"/>
            <a:ext cx="2054880" cy="1645920"/>
            <a:chOff x="7167240" y="-145440"/>
            <a:chExt cx="2054880" cy="1645920"/>
          </a:xfrm>
        </p:grpSpPr>
        <p:pic>
          <p:nvPicPr>
            <p:cNvPr id="113" name="Picture 6" descr="4012761_124732912370_2"/>
            <p:cNvPicPr/>
            <p:nvPr/>
          </p:nvPicPr>
          <p:blipFill>
            <a:blip r:embed="rId2"/>
            <a:stretch/>
          </p:blipFill>
          <p:spPr>
            <a:xfrm rot="2729400">
              <a:off x="7854480" y="150480"/>
              <a:ext cx="12193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4012761_124732912370_2"/>
            <p:cNvPicPr/>
            <p:nvPr/>
          </p:nvPicPr>
          <p:blipFill>
            <a:blip r:embed="rId3"/>
            <a:stretch/>
          </p:blipFill>
          <p:spPr>
            <a:xfrm rot="5755200">
              <a:off x="7065000" y="173520"/>
              <a:ext cx="1447560" cy="110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4" name="bomb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2"/>
          <a:stretch/>
        </p:blipFill>
        <p:spPr>
          <a:xfrm>
            <a:off x="304920" y="0"/>
            <a:ext cx="8610480" cy="6539040"/>
          </a:xfrm>
          <a:prstGeom prst="rect">
            <a:avLst/>
          </a:prstGeom>
          <a:ln w="0">
            <a:noFill/>
          </a:ln>
        </p:spPr>
      </p:pic>
      <p:sp>
        <p:nvSpPr>
          <p:cNvPr id="116" name="Oval 3"/>
          <p:cNvSpPr/>
          <p:nvPr/>
        </p:nvSpPr>
        <p:spPr>
          <a:xfrm>
            <a:off x="5791320" y="2209680"/>
            <a:ext cx="9903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65259222827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724360"/>
            <a:ext cx="12668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8:39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47Z</dcterms:modified>
  <cp:revision>10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