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27DF-80CA-4FDF-B827-F9F24A5E70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28FD-025E-4839-A500-979756068E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128-E728-4E68-80C0-6AEAA8EE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E0F-DCB5-4E2D-BA8E-3C18F84B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4B1-68AE-473F-A43A-85FB9D5B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7AC-EE8F-45FD-AE1F-537B3AE5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0F4-5329-42FB-A762-D786B280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7B4-A51A-46AD-8D71-B037CD53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2AC-F7E9-402F-B996-B2EE23E1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C61-B044-4092-949C-F8BA1743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60C-DDDB-45C7-B567-F760817E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DF8-EC51-4030-8462-6B8153F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1AE-949A-45A8-9FB6-3DF72EC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B99-A0F1-4BB3-9B93-EA9E9E3D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7A19-535A-45D6-B9A1-A2E584CD36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gif"/><Relationship Id="rId3" Type="http://schemas.openxmlformats.org/officeDocument/2006/relationships/slide" Target="slide1.xml"/><Relationship Id="rId4" Type="http://schemas.openxmlformats.org/officeDocument/2006/relationships/image" Target="../media/image16.gif"/><Relationship Id="rId5" Type="http://schemas.openxmlformats.org/officeDocument/2006/relationships/slide" Target="slide1.xml"/><Relationship Id="rId6" Type="http://schemas.openxmlformats.org/officeDocument/2006/relationships/image" Target="../media/image16.gif"/><Relationship Id="rId7" Type="http://schemas.openxmlformats.org/officeDocument/2006/relationships/slide" Target="slide1.xml"/><Relationship Id="rId8" Type="http://schemas.openxmlformats.org/officeDocument/2006/relationships/image" Target="../media/image16.gif"/><Relationship Id="rId9" Type="http://schemas.openxmlformats.org/officeDocument/2006/relationships/slide" Target="slide1.xml"/><Relationship Id="rId10" Type="http://schemas.openxmlformats.org/officeDocument/2006/relationships/image" Target="../media/image16.gif"/><Relationship Id="rId11" Type="http://schemas.openxmlformats.org/officeDocument/2006/relationships/slide" Target="slide1.xml"/><Relationship Id="rId12" Type="http://schemas.openxmlformats.org/officeDocument/2006/relationships/image" Target="../media/image16.gif"/><Relationship Id="rId13" Type="http://schemas.openxmlformats.org/officeDocument/2006/relationships/slide" Target="slide1.xml"/><Relationship Id="rId14" Type="http://schemas.openxmlformats.org/officeDocument/2006/relationships/image" Target="../media/image16.gif"/><Relationship Id="rId15" Type="http://schemas.openxmlformats.org/officeDocument/2006/relationships/image" Target="../media/image17.gif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835280" y="2565360"/>
            <a:ext cx="5329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微软雅黑"/>
              </a:rPr>
              <a:t>山青青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8270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c00cc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0" y="4929120"/>
            <a:ext cx="9144000" cy="1557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山青青，水青青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14200" y="43578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鸟儿鸣叫一声声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ictur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4143240"/>
            <a:ext cx="93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2f2f2"/>
                </a:solidFill>
                <a:latin typeface="Times New Roman"/>
                <a:ea typeface="华文新魏"/>
              </a:rPr>
              <a:t>树青青，草青青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0" y="4714920"/>
            <a:ext cx="9001080" cy="1557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山花朵朵笑盈盈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0" y="450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苗青青，田青青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755640" y="551664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0" y="4643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春风春雨绿蒙蒙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"/>
          <p:cNvSpPr/>
          <p:nvPr/>
        </p:nvSpPr>
        <p:spPr>
          <a:xfrm>
            <a:off x="366840" y="5502240"/>
            <a:ext cx="69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4920" y="533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t2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791320"/>
            <a:ext cx="915840" cy="82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t2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57800" y="5867280"/>
            <a:ext cx="915840" cy="827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t2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47920" y="5791320"/>
            <a:ext cx="915840" cy="82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t2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895480" y="5791320"/>
            <a:ext cx="916200" cy="826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t2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038480" y="5867280"/>
            <a:ext cx="916200" cy="827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t2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543800" y="5791320"/>
            <a:ext cx="915840" cy="826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t2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477120" y="5791320"/>
            <a:ext cx="915840" cy="826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"/>
              </a:rPr>
              <a:t>山青青，</a:t>
            </a:r>
            <a:r>
              <a:rPr b="1" lang="en-US" sz="54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"/>
              </a:rPr>
              <a:t>水青青， 鸟儿鸣叫一声声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85840" y="3286080"/>
            <a:ext cx="846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楷体"/>
                <a:ea typeface="楷体"/>
              </a:rPr>
              <a:t>2.</a:t>
            </a:r>
            <a:r>
              <a:rPr b="1" lang="zh-CN" sz="5400" spc="-1" strike="noStrike">
                <a:solidFill>
                  <a:srgbClr val="cc00cc"/>
                </a:solidFill>
                <a:latin typeface="楷体"/>
                <a:ea typeface="楷体"/>
              </a:rPr>
              <a:t>树青青，</a:t>
            </a:r>
            <a:r>
              <a:rPr b="1" lang="en-US" sz="5400" spc="-1" strike="noStrike">
                <a:solidFill>
                  <a:srgbClr val="cc00cc"/>
                </a:solidFill>
                <a:latin typeface="楷体"/>
                <a:ea typeface="楷体"/>
              </a:rPr>
              <a:t>/</a:t>
            </a:r>
            <a:r>
              <a:rPr b="1" lang="zh-CN" sz="5400" spc="-1" strike="noStrike">
                <a:solidFill>
                  <a:srgbClr val="cc00cc"/>
                </a:solidFill>
                <a:latin typeface="楷体"/>
                <a:ea typeface="楷体"/>
              </a:rPr>
              <a:t>草青青， 山花朵朵笑盈盈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12"/>
          <p:cNvSpPr txBox="1"/>
          <p:nvPr/>
        </p:nvSpPr>
        <p:spPr>
          <a:xfrm>
            <a:off x="2340000" y="333360"/>
            <a:ext cx="4114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黑体"/>
              </a:rPr>
              <a:t>朗读感悟</a:t>
            </a:r>
            <a:endParaRPr b="1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90" name="Picture 13" descr="167"/>
          <p:cNvPicPr/>
          <p:nvPr/>
        </p:nvPicPr>
        <p:blipFill>
          <a:blip r:embed="rId15"/>
          <a:stretch/>
        </p:blipFill>
        <p:spPr>
          <a:xfrm>
            <a:off x="1258920" y="765000"/>
            <a:ext cx="657360" cy="71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167"/>
          <p:cNvPicPr/>
          <p:nvPr/>
        </p:nvPicPr>
        <p:blipFill>
          <a:blip r:embed="rId16"/>
          <a:stretch/>
        </p:blipFill>
        <p:spPr>
          <a:xfrm>
            <a:off x="6877080" y="836640"/>
            <a:ext cx="657360" cy="720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5"/>
          <p:cNvSpPr/>
          <p:nvPr/>
        </p:nvSpPr>
        <p:spPr>
          <a:xfrm>
            <a:off x="357120" y="4857840"/>
            <a:ext cx="87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苗青青，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∕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田青青，春风春雨绿蒙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9"/>
          <p:cNvGrpSpPr/>
          <p:nvPr/>
        </p:nvGrpSpPr>
        <p:grpSpPr>
          <a:xfrm>
            <a:off x="539640" y="2394000"/>
            <a:ext cx="4392720" cy="4130640"/>
            <a:chOff x="539640" y="2394000"/>
            <a:chExt cx="4392720" cy="4130640"/>
          </a:xfrm>
        </p:grpSpPr>
        <p:pic>
          <p:nvPicPr>
            <p:cNvPr id="94" name="Picture 4" descr="5083156604418449059"/>
            <p:cNvPicPr/>
            <p:nvPr/>
          </p:nvPicPr>
          <p:blipFill>
            <a:blip r:embed="rId1"/>
            <a:stretch/>
          </p:blipFill>
          <p:spPr>
            <a:xfrm>
              <a:off x="539640" y="2394000"/>
              <a:ext cx="4392720" cy="41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5"/>
            <p:cNvSpPr/>
            <p:nvPr/>
          </p:nvSpPr>
          <p:spPr>
            <a:xfrm>
              <a:off x="1187280" y="2655720"/>
              <a:ext cx="3024360" cy="35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9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叫</a:t>
              </a:r>
              <a:endParaRPr b="0" lang="en-US" sz="2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1476360" y="692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ji</a:t>
            </a:r>
            <a:r>
              <a:rPr b="1" lang="en-US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à</a:t>
            </a:r>
            <a:r>
              <a:rPr b="1" lang="en-US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076720" y="907920"/>
            <a:ext cx="345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d000d0"/>
                </a:solidFill>
                <a:latin typeface="楷体_GB2312"/>
                <a:ea typeface="楷体_GB2312"/>
              </a:rPr>
              <a:t>(</a:t>
            </a:r>
            <a:r>
              <a:rPr b="1" lang="zh-CN" sz="8000" spc="-1" strike="noStrike">
                <a:solidFill>
                  <a:srgbClr val="d000d0"/>
                </a:solidFill>
                <a:latin typeface="楷体_GB2312"/>
                <a:ea typeface="楷体_GB2312"/>
              </a:rPr>
              <a:t>叫人）  （叫声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219640" y="4221000"/>
            <a:ext cx="36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鸟的叫声很动听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5083156604418449059"/>
          <p:cNvPicPr/>
          <p:nvPr/>
        </p:nvPicPr>
        <p:blipFill>
          <a:blip r:embed="rId1"/>
          <a:stretch/>
        </p:blipFill>
        <p:spPr>
          <a:xfrm>
            <a:off x="324000" y="2492280"/>
            <a:ext cx="388908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55640" y="2440080"/>
            <a:ext cx="32418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000000"/>
                </a:solidFill>
                <a:latin typeface="楷体"/>
                <a:ea typeface="楷体"/>
              </a:rPr>
              <a:t>苗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042920" y="62064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mi</a:t>
            </a:r>
            <a:r>
              <a:rPr b="1" lang="en-US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á</a:t>
            </a:r>
            <a:r>
              <a:rPr b="1" lang="en-US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643280" y="981000"/>
            <a:ext cx="381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000d0"/>
                </a:solidFill>
                <a:latin typeface="Times New Roman"/>
                <a:ea typeface="楷体_GB2312"/>
              </a:rPr>
              <a:t>（禾苗）（树苗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500720" y="4076640"/>
            <a:ext cx="46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田里的禾苗长得很好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1977e5457a2f14f574e0045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5083156604418449059"/>
          <p:cNvPicPr/>
          <p:nvPr/>
        </p:nvPicPr>
        <p:blipFill>
          <a:blip r:embed="rId1"/>
          <a:stretch/>
        </p:blipFill>
        <p:spPr>
          <a:xfrm>
            <a:off x="250920" y="2565360"/>
            <a:ext cx="4033800" cy="388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826920" y="2637000"/>
            <a:ext cx="33134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000000"/>
                </a:solidFill>
                <a:latin typeface="楷体"/>
                <a:ea typeface="楷体"/>
              </a:rPr>
              <a:t>花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71640" y="54936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hu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788000" y="765000"/>
            <a:ext cx="392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000d0"/>
                </a:solidFill>
                <a:latin typeface="Times New Roman"/>
                <a:ea typeface="楷体_GB2312"/>
              </a:rPr>
              <a:t>（花朵）（火花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535640" y="4149720"/>
            <a:ext cx="46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是祖国的花朵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5083156604418449059"/>
          <p:cNvPicPr/>
          <p:nvPr/>
        </p:nvPicPr>
        <p:blipFill>
          <a:blip r:embed="rId1"/>
          <a:stretch/>
        </p:blipFill>
        <p:spPr>
          <a:xfrm>
            <a:off x="250920" y="2276640"/>
            <a:ext cx="4176720" cy="417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900000" y="2584440"/>
            <a:ext cx="30974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71640" y="4046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ǎ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572000" y="404640"/>
            <a:ext cx="424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000d0"/>
                </a:solidFill>
                <a:latin typeface="Times New Roman"/>
                <a:ea typeface="楷体_GB2312"/>
              </a:rPr>
              <a:t>（草地）（花草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716360" y="342900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要爱护花草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5083156604418449059"/>
          <p:cNvPicPr/>
          <p:nvPr/>
        </p:nvPicPr>
        <p:blipFill>
          <a:blip r:embed="rId1"/>
          <a:stretch/>
        </p:blipFill>
        <p:spPr>
          <a:xfrm>
            <a:off x="468360" y="2349360"/>
            <a:ext cx="3948120" cy="4248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900000" y="2637000"/>
            <a:ext cx="352908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000000"/>
                </a:solidFill>
                <a:latin typeface="楷体"/>
                <a:ea typeface="楷体"/>
              </a:rPr>
              <a:t>青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71640" y="404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qīng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572000" y="620640"/>
            <a:ext cx="424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d000d0"/>
                </a:solidFill>
                <a:latin typeface="楷体_GB2312"/>
                <a:ea typeface="楷体_GB2312"/>
              </a:rPr>
              <a:t>(</a:t>
            </a:r>
            <a:r>
              <a:rPr b="1" lang="zh-CN" sz="8000" spc="-1" strike="noStrike">
                <a:solidFill>
                  <a:srgbClr val="d000d0"/>
                </a:solidFill>
                <a:latin typeface="楷体_GB2312"/>
                <a:ea typeface="楷体_GB2312"/>
              </a:rPr>
              <a:t>青草）（青蛙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716360" y="3645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932360" y="393372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牛儿爱吃青草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5083156604418449059"/>
          <p:cNvPicPr/>
          <p:nvPr/>
        </p:nvPicPr>
        <p:blipFill>
          <a:blip r:embed="rId1"/>
          <a:stretch/>
        </p:blipFill>
        <p:spPr>
          <a:xfrm>
            <a:off x="324000" y="1989000"/>
            <a:ext cx="410364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826920" y="2205000"/>
            <a:ext cx="33134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000000"/>
                </a:solidFill>
                <a:latin typeface="楷体"/>
                <a:ea typeface="楷体"/>
              </a:rPr>
              <a:t>朵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116000" y="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u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500720" y="476280"/>
            <a:ext cx="464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000d0"/>
                </a:solidFill>
                <a:latin typeface="楷体_GB2312"/>
                <a:ea typeface="楷体_GB2312"/>
              </a:rPr>
              <a:t>（花朵）（云朵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716360" y="3573360"/>
            <a:ext cx="44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雪白的云朵像棉花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12AC-F501-4F4C-8748-8D5F6BDC44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6808_11909641370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朱敏\Desktop\7444965_105905315183_2.jpg"/>
          <p:cNvPicPr/>
          <p:nvPr/>
        </p:nvPicPr>
        <p:blipFill>
          <a:blip r:embed="rId1"/>
          <a:stretch/>
        </p:blipFill>
        <p:spPr>
          <a:xfrm>
            <a:off x="285840" y="0"/>
            <a:ext cx="916308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朱敏\Desktop\u=1264920199,1576669405&amp;fm=90&amp;gp=0.jpg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356840" y="2143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这么美丽的景色是什么季节的？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2714760" y="785880"/>
            <a:ext cx="328608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设置情境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01104201147137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692280"/>
            <a:ext cx="889308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鸣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鸣叫）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声音）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草地） 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蒙古）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盈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笑盈盈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3429000" y="1000080"/>
            <a:ext cx="350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"/>
              </a:rPr>
              <a:t>鸣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91440" y="2071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"/>
              </a:rPr>
              <a:t>一声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593800" y="35002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"/>
              </a:rPr>
              <a:t>笑盈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640480" y="34290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"/>
              </a:rPr>
              <a:t>绿蒙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569200" y="22147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"/>
              </a:rPr>
              <a:t>草青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5:40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9:14Z</dcterms:modified>
  <cp:revision>9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