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A39E-BD57-47CB-9DD3-450F372107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934-D0F8-48C4-A539-C4D086C567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073-B9C5-4FDE-84E8-BC0A0077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AAC-1084-42C0-8DDE-F7713114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614-2121-42FD-BD79-8B5C3BE6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60D-C586-40EB-A4DD-0F6F78E4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19A-E4BB-41BC-A4DF-10E2137C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F91-6264-4E58-AFB8-6AF42D4B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0AD-D666-4FD4-ADA3-02FDFF2C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343-8AF3-4006-972C-B9838215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8E4-650A-4DF5-93A8-BDE44A21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6BD-EDFA-41BC-A2B2-A2D3FC57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C71-D412-4B66-83AF-181741F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199-66C4-4020-A16C-0C727E2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4C17-43EB-4E54-84B5-750A4388EF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27040" y="3429000"/>
            <a:ext cx="8028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华文隶书"/>
                <a:ea typeface="华文隶书"/>
              </a:rPr>
              <a:t>太阳的香气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179676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0" y="333360"/>
            <a:ext cx="914400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太 阳 的 香 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闻到了太阳的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晒过的被子，晚上一打开，就有一股浓浓的太阳的香气。妈妈洗干净的衣服，早晨一穿上，就有一股浓浓的太阳的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妈妈告诉我：太阳的香气到处藏着。它藏在甜甜地果子里，藏在香喷喷的稻米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啊，太阳的香气到处都有，就连迎着夕阳回到家的妈妈，身上也有太阳的香气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-106200" y="2852640"/>
            <a:ext cx="349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太阳的香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3789360"/>
            <a:ext cx="34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藏在哪里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48000" y="476280"/>
            <a:ext cx="358920" cy="576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49760 h 5761080"/>
              <a:gd name="textAreaBottom" fmla="*/ 561132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95640" y="47628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晒过的被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4920" y="1916280"/>
            <a:ext cx="3457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一股浓浓的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95640" y="184464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洗干净的衣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924360" y="307980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甜甜的果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924360" y="423072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香喷喷的稻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924360" y="5454720"/>
            <a:ext cx="47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妈妈身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1"/>
          <p:cNvSpPr txBox="1"/>
          <p:nvPr/>
        </p:nvSpPr>
        <p:spPr>
          <a:xfrm rot="5400000">
            <a:off x="5866200" y="2850120"/>
            <a:ext cx="518472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到处藏着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1341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闻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香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晒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晚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  一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股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干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净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衣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服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晨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的         告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诉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到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藏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  迎着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夕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         甜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甜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  香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喷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喷  </a:t>
            </a:r>
            <a:r>
              <a:rPr b="1" lang="zh-CN" sz="4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稻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19280" y="2421000"/>
            <a:ext cx="2592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248000" y="2421000"/>
            <a:ext cx="4248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719280" y="3429000"/>
            <a:ext cx="65530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719280" y="5300640"/>
            <a:ext cx="511308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719280" y="4365720"/>
            <a:ext cx="4068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5796000" y="4365720"/>
            <a:ext cx="1800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1339920" y="5975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042920" y="549360"/>
            <a:ext cx="734544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早——草       用——拥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子——仔       气——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马——妈       青——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净——静       闻——问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眼——很       海——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别——到       朗——浪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EAAE-5D28-43A2-A814-C2AC37F558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50:30Z</dcterms:modified>
  <cp:revision>1</cp:revision>
  <dc:subject/>
  <dc:title>幻灯片 1</dc:title>
</cp:coreProperties>
</file>