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948E-767C-42B2-8C9A-2AD0B530C56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229A-4370-48B4-AE79-9E9E70696B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2D8B-F2BD-4FFC-A626-1C56EAB4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A15-DDEF-440D-BBE7-D2255C2B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39A-4E12-4AD0-89FC-A18FF935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09F-7A27-4724-B254-70AE87FB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F363-3194-4431-9F71-A4A8E94C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CFCF-8835-4F10-A51A-BEE1407E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7005-8BEB-41D4-86EE-F619FDF6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29EE-A418-42CA-9557-4FF2D48F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D535-18AD-4A74-8A13-AF0DEFB9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074B-99CA-43C7-9B5B-75A884E2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1E0A2-C5E0-498D-98E6-E9928F94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0CC-B325-4BDB-A3A2-961F7593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C076-AFD2-49D7-A086-2E06BF0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3736-668E-4CC3-BD44-A5887413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23D7-A3FC-497D-9A14-B7404A78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7627-CB13-4A11-AE18-70717B75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F1268-9FEE-427C-B68E-AFC4147B2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09E7-A6B9-434A-A70F-7CC0A2C4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EF87A-1829-4021-9A36-D6C1D516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97A3B-2E7F-4D86-A9FB-62CC9122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0A002-E2C7-4167-8DE1-649DD1F0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4DF4-D329-4748-9310-6E61F8B6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71A-A740-4B11-B5A2-931EE221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206E7-5DED-42A4-B111-44DFBDFF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788BB-7B6C-4C75-94D2-F2134ACD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23351-E472-4C71-911D-8976540F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41CB9-E662-4C1B-8EE7-673C4183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B7D71-16FB-4184-860C-2FEB356F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365DF-216B-416B-B48E-ADB117203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90CB3-C6E7-44CD-9A37-06E71584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1D2-B1E6-4215-8F34-8D6D1122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7CE-6A43-4FB6-9376-920A09AB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959-41FD-4678-A12F-3A6C3347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ACF6-0705-46AC-AC85-720EB9F7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4D9-3880-428B-BF75-D14F4398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4A5A-FC1C-4F47-9B84-E2966769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933E-5F99-4865-B435-2C332B41EA2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42CB-BAC8-4308-A044-156292AB3D2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dt" idx="7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9985-FA17-4FAC-BA4E-CC76E771F06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6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6.jpe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1944720" y="1268280"/>
            <a:ext cx="53276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望天门山</a:t>
            </a:r>
            <a:endParaRPr b="1" lang="en-US" sz="6000" spc="-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2014200" y="58165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天门山(黑白)"/>
          <p:cNvPicPr/>
          <p:nvPr/>
        </p:nvPicPr>
        <p:blipFill>
          <a:blip r:embed="rId1"/>
          <a:stretch/>
        </p:blipFill>
        <p:spPr>
          <a:xfrm>
            <a:off x="2173320" y="0"/>
            <a:ext cx="47959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碧水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1403280" y="5445000"/>
            <a:ext cx="6481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碧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水东流至此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回</a:t>
            </a:r>
            <a:r>
              <a:rPr b="1" lang="en-US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 flipV="1">
            <a:off x="6948360" y="508464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6626520" y="4150080"/>
            <a:ext cx="117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回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青山碧水4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1078560" y="1197000"/>
            <a:ext cx="1171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99ff99"/>
                </a:solidFill>
                <a:latin typeface="Arial"/>
                <a:ea typeface="楷体_GB2312"/>
              </a:rPr>
              <a:t>碧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5880" cy="627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</a:rPr>
              <a:t>碧水东流至此回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碧水</a:t>
            </a: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”写出了长江流水之澄清 ，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东流</a:t>
            </a: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”是写长江总的流向 ，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回</a:t>
            </a: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”字力度很强，极富动态美，既写出了长江到天门山处江水曲折回荡、漩涡丛生的奇险和壮美，又突现了天门山一段江水流向的陡然转变。正是从一个“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回</a:t>
            </a: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”字中，我们才更加深刻地领会出天门山扼江回流的雄伟气势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感悟诗境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首句以天门山与长江的关系，反衬天门山气势的雄峻险要。诗人采用侧面烘托的艺术手法，渲染长江洪流的湍急与威力，进而反衬出天门山的壮丽奇观。次句暗示了天门山雄视一切、镇慑洪流的威力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6" name="Picture 3" descr="天门中断楚江开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0"/>
            <a:ext cx="17556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感悟诗境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首句以天门山与长江的关系，反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天门山气势的雄峻险要。诗人采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侧面烘托的艺术手法，渲染长江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流的湍急与威力，进而反衬出天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山的壮丽奇观。次句暗示了天门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雄视一切、镇慑洪流的威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27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末句是诗人顺着天门山远眺一幅远景</a:t>
            </a:r>
            <a:br>
              <a:rPr sz="4400"/>
            </a:b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孤帆一片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是想以背景的单纯突现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孤帆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之高大 。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日边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写出了长江远景浩瀚迷茫，给人留下了广阔的想象空间，而一个“来”字，又给远景注入了活泼新鲜的色彩和血液 ，使画面顿显活跃，具有不断变幻的美感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79" name="Picture 3" descr="孤帆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4"/>
          <p:cNvSpPr/>
          <p:nvPr/>
        </p:nvSpPr>
        <p:spPr>
          <a:xfrm>
            <a:off x="0" y="189000"/>
            <a:ext cx="1339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末句是诗人顺着天门山远眺一幅远景</a:t>
            </a:r>
            <a:br>
              <a:rPr sz="4000"/>
            </a:b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孤帆一片</a:t>
            </a: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”是想以背景的单纯突现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帆</a:t>
            </a: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”之高大 。“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日边</a:t>
            </a: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”写出了长江远景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瀚迷茫，给人留下了广阔的想象空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而一个“来”字，又给远景注入了活泼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鲜的色彩和血液 ，使画面顿显活跃，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Arial"/>
              </a:rPr>
              <a:t>有不断变幻的美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两岸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403280" y="537372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两岸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青山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相对出</a:t>
            </a:r>
            <a:r>
              <a:rPr b="1" lang="en-US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6"/>
          <p:cNvSpPr/>
          <p:nvPr/>
        </p:nvSpPr>
        <p:spPr>
          <a:xfrm flipV="1">
            <a:off x="7308720" y="4653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958440" y="3500280"/>
            <a:ext cx="1157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突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627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第三句是正面刻划天门山的山势</a:t>
            </a:r>
            <a:br>
              <a:rPr sz="4400"/>
            </a:b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两岸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指出了天门山与长江的关系 。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相对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二字，恰到好处地表现出天门山隔江兀立、崖峭如削、对峙如门、巧夺天工的雄姿，给人以只可仰观的高峻感。一个“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出</a:t>
            </a: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”字，出神入化，化静为动，令人感到郁郁葱葱的天门山生机盎然，更增添了画面的动态美感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8" name="Picture 3" descr="两岸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4"/>
          <p:cNvSpPr/>
          <p:nvPr/>
        </p:nvSpPr>
        <p:spPr>
          <a:xfrm>
            <a:off x="0" y="4762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第三句是正面刻划天门山的山势</a:t>
            </a:r>
            <a:br>
              <a:rPr sz="4400"/>
            </a:b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两岸</a:t>
            </a: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”指出了天门山与长江的关系 。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相对</a:t>
            </a: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”二字，恰到好处地表现出天门山隔江兀立、崖峭如削、对峙如门、巧夺天工的雄姿，给人以只可仰观的高峻感。一个“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出</a:t>
            </a:r>
            <a:r>
              <a:rPr b="1" lang="zh-CN" sz="4400" spc="-1" strike="noStrike">
                <a:solidFill>
                  <a:srgbClr val="482400"/>
                </a:solidFill>
                <a:latin typeface="Arial"/>
              </a:rPr>
              <a:t>”字，出神入化，化静为动，令人感到郁郁葱葱的天门山生机盎然，更增添了画面的动态美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孤帆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258920" y="530064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孤帆一片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日边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来</a:t>
            </a:r>
            <a:r>
              <a:rPr b="1" lang="en-US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5199480" y="3789720"/>
            <a:ext cx="1065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天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 flipV="1">
            <a:off x="5651640" y="4797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-397080" y="119700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孤帆远影尽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唯见长江流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1068480" y="18288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断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8"/>
          <p:cNvSpPr/>
          <p:nvPr/>
        </p:nvSpPr>
        <p:spPr>
          <a:xfrm>
            <a:off x="3888000" y="18288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孤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9"/>
          <p:cNvSpPr/>
          <p:nvPr/>
        </p:nvSpPr>
        <p:spPr>
          <a:xfrm>
            <a:off x="6599160" y="1828800"/>
            <a:ext cx="155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帆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98" name="Picture 3" descr="全诗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797840" y="2641680"/>
            <a:ext cx="310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天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中断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楚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碧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东流至此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岸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青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相对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孤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片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边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6048360" y="226368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天门山被长江从中断开，分为两座山，碧绿的江水向东流到这儿突然就在这儿打着回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6227640" y="422100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两岸的青山相互对峙，一只小船正乘风破浪，从太阳升起的地方驰来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好似来自天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5148360" y="2781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5292720" y="4221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 flipV="1" rot="10800000">
            <a:off x="3420720" y="462960"/>
            <a:ext cx="532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醒“望”的立脚点和表现诗人的淋漓兴会。诗人并不是站在岸上的某一个地方遥望天门山，他“望”的立脚点便是从“日边来”的“一片孤帆”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H="1">
            <a:off x="539640" y="5013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V="1">
            <a:off x="611280" y="404640"/>
            <a:ext cx="73080" cy="4608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684360" y="404640"/>
            <a:ext cx="27352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V="1">
            <a:off x="1835280" y="404640"/>
            <a:ext cx="1584360" cy="503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"/>
                            </p:stCondLst>
                            <p:childTnLst>
                              <p:par>
                                <p:cTn id="1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"/>
                            </p:stCondLst>
                            <p:childTnLst>
                              <p:par>
                                <p:cTn id="1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"/>
                            </p:stCondLst>
                            <p:childTnLst>
                              <p:par>
                                <p:cTn id="1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"/>
                            </p:stCondLst>
                            <p:childTnLst>
                              <p:par>
                                <p:cTn id="1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F3FXF~MBFP@0Y1PMLO1ZZAW"/>
          <p:cNvPicPr/>
          <p:nvPr/>
        </p:nvPicPr>
        <p:blipFill>
          <a:blip r:embed="rId1"/>
          <a:stretch/>
        </p:blipFill>
        <p:spPr>
          <a:xfrm>
            <a:off x="1828800" y="0"/>
            <a:ext cx="52164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文本框 1"/>
          <p:cNvSpPr/>
          <p:nvPr/>
        </p:nvSpPr>
        <p:spPr>
          <a:xfrm>
            <a:off x="74520" y="5376960"/>
            <a:ext cx="74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IMAG1205809398611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3"/>
          <p:cNvSpPr/>
          <p:nvPr/>
        </p:nvSpPr>
        <p:spPr>
          <a:xfrm>
            <a:off x="250920" y="319896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门中断楚江开，碧水东流至此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。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岸青山相对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孤帆一片日边来</a:t>
            </a:r>
            <a:r>
              <a:rPr b="0" lang="zh-CN" sz="3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187280" y="227664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望天门山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1880" y="685800"/>
            <a:ext cx="6098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赠  汪   伦</a:t>
            </a:r>
            <a:endParaRPr b="0" lang="en-US" sz="4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7339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李   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李白称舟将欲行，忽闻岸上踏歌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桃花潭水深千尺，不及汪伦送我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汪伦在泾县桃花边的南台寺讲学听说李白到了宣城，特请李白到桃花潭游览。他们潭边垂钓，饮酒赋诗。相间几天，仿佛旧友重逢，难分难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李白临行的那天，汪伦带着自己的学生，将李白送到桃花潭渡口，还摆酒席为他送行。李白为汪伦的一片热情深深打动了，当即写下了这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赠汪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来，泾县桃花潭的村民为了纪念李白，还在东岸建起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踏歌岸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成了这里的一处名胜古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赠汪伦"/>
          <p:cNvPicPr/>
          <p:nvPr/>
        </p:nvPicPr>
        <p:blipFill>
          <a:blip r:embed="rId1">
            <a:lum contrast="-24000"/>
          </a:blip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50000">
              <a:srgbClr val="6699ff"/>
            </a:gs>
            <a:gs pos="100000">
              <a:srgbClr val="2f47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933960" y="609480"/>
            <a:ext cx="1523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送元二使安西</a:t>
            </a:r>
            <a:br>
              <a:rPr sz="4400"/>
            </a:b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王  维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渭城朝雨悒轻尘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客舍青青柳色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劝君更尽一杯酒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西出阳关无故人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这是一首有名的送别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前两句写了送别的环境，后两句写了送别场面中的一个情景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一个春天的早晨，阵阵细雨润湿着飞飘着的轻尘，在一片青色之中，客舍旁边的柳树显得越发嫩绿，新鲜。可是，老朋友就要离开这里到边远的安西去了。送别饯酒，干了一杯又一杯，诗人提议，再干一杯，因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西出阳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之后，不会同老朋友坐在一起饮酒畅叙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4" descr="ut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WordArt 5"/>
          <p:cNvSpPr txBox="1"/>
          <p:nvPr/>
        </p:nvSpPr>
        <p:spPr>
          <a:xfrm>
            <a:off x="1541520" y="1773360"/>
            <a:ext cx="6119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谢谢观赏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9933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933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33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B25B-411F-40CF-98AB-1CD834545E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濮存昕《望天门山》李白濮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5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08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5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9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987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4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-9-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08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5444"/>
          <p:cNvPicPr/>
          <p:nvPr/>
        </p:nvPicPr>
        <p:blipFill>
          <a:blip r:embed="rId10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335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43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2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798"/>
          <p:cNvPicPr/>
          <p:nvPr/>
        </p:nvPicPr>
        <p:blipFill>
          <a:blip r:embed="rId14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9000"/>
                            </p:stCondLst>
                            <p:childTnLst>
                              <p:par>
                                <p:cTn id="39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5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1000"/>
                            </p:stCondLst>
                            <p:childTnLst>
                              <p:par>
                                <p:cTn id="51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7000"/>
                            </p:stCondLst>
                            <p:childTnLst>
                              <p:par>
                                <p:cTn id="57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63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9000"/>
                            </p:stCondLst>
                            <p:childTnLst>
                              <p:par>
                                <p:cTn id="69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0"/>
                            </p:stCondLst>
                            <p:childTnLst>
                              <p:par>
                                <p:cTn id="75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1000"/>
                            </p:stCondLst>
                            <p:childTnLst>
                              <p:par>
                                <p:cTn id="81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7000"/>
                            </p:stCondLst>
                            <p:childTnLst>
                              <p:par>
                                <p:cTn id="87" dur="indefinite" nodeType="afterEffect" fill="hold" presetClass="entr" presetID="2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天门山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5"/>
          <p:cNvSpPr/>
          <p:nvPr/>
        </p:nvSpPr>
        <p:spPr>
          <a:xfrm>
            <a:off x="5796000" y="371628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5716800" y="476280"/>
            <a:ext cx="16426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Arial"/>
                <a:ea typeface="黑体"/>
              </a:rPr>
              <a:t>李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404640"/>
            <a:ext cx="47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李白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(701--76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，字太白，盛唐最杰出的诗人，也是我国最伟大的诗人之一，被人们称作“诗仙”。他经历坎坷，思想复杂，既是一个天才的诗人，又兼有游侠、刺客、隐士、道人、策士等人的气质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      李白留给后世人九百多首诗篇。这些熠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(yì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生辉的诗作，表现了他一生的心路历程，是盛唐社会现实和精神生活面貌的艺术写照。李白大半生过着流浪生活，游历了全国许多名山大川，写下了大量赞美祖国大好河山的优美诗篇，借以表达出他那种酷爱自由、渴望解放的情怀。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908000" y="1773360"/>
            <a:ext cx="590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华文行楷"/>
              </a:rPr>
              <a:t>望天门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3" name="Picture 3" descr="全诗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797840" y="2641680"/>
            <a:ext cx="3106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天门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中断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楚江开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碧水东流至此回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岸青山相对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孤帆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一片日边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天门中断楚江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619280" y="5516640"/>
            <a:ext cx="56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天门中断楚江开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1403280" y="5661000"/>
            <a:ext cx="32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1332000" y="5373720"/>
            <a:ext cx="66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天门中断</a:t>
            </a: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楷体_GB2312"/>
              </a:rPr>
              <a:t>楚江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开</a:t>
            </a:r>
            <a:r>
              <a:rPr b="1" lang="en-US" sz="6600" spc="-1" strike="noStrike">
                <a:solidFill>
                  <a:srgbClr val="3333ff"/>
                </a:solidFill>
                <a:latin typeface="Arial"/>
                <a:ea typeface="楷体_GB2312"/>
              </a:rPr>
              <a:t>,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340000" y="2565360"/>
            <a:ext cx="53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江：即长江。古代长江中游地带属楚国，所以叫楚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V="1">
            <a:off x="5940360" y="335736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11280" y="5105520"/>
            <a:ext cx="82087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门山：天门两山本是一体，抵挡汹涌的江流。由于长江的冲击，撞开天门，使它中断成为东西两山。在江北的叫西梁山，在江南的叫东梁山。两山隔江对峙，形同门户，所以叫“天门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020109_15"/>
          <p:cNvPicPr/>
          <p:nvPr/>
        </p:nvPicPr>
        <p:blipFill>
          <a:blip r:embed="rId1"/>
          <a:stretch/>
        </p:blipFill>
        <p:spPr>
          <a:xfrm>
            <a:off x="1219320" y="0"/>
            <a:ext cx="67053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07:21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6:44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