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08B-CF92-42BC-8710-B4A6184577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EFC0-848C-4157-895D-FAAE0037E8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C19-27E0-4948-9892-26EC569F53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BE5-D507-45DC-83E3-2A77BD360B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BA1-58BA-4E23-8F59-E514E86C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474-A38A-4C0A-A7CA-A8531E6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B66-AA12-43B3-98A7-6C4B09CF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DFF-C408-4BDA-9790-308108F3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729-8124-455C-BDF7-5C38E09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5E0-8C36-4E02-982E-F288C3C2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A98-0471-42A5-A39E-74EC306F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207-AB24-49D6-9549-9679AC45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9E0-E01B-4E22-AEBF-29158FBC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399-1689-4F0A-9DB1-3AB8C074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A6B-7F2B-43E6-9324-652FB59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649-6BD8-4411-BC82-E96F5E8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F7FA-E282-44F2-A6FC-4A52DF207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41440" y="19810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华文隶书"/>
                <a:ea typeface="华文隶书"/>
              </a:rPr>
              <a:t>这条小鱼在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576440" y="56610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这条小鱼在乎"/>
          <p:cNvPicPr/>
          <p:nvPr/>
        </p:nvPicPr>
        <p:blipFill>
          <a:blip r:embed="rId1"/>
          <a:srcRect l="-2870" t="0" r="-2049" b="-7808"/>
          <a:stretch/>
        </p:blipFill>
        <p:spPr>
          <a:xfrm>
            <a:off x="0" y="2736720"/>
            <a:ext cx="9144000" cy="4121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71640" y="907920"/>
            <a:ext cx="734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“……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代表（　　），所有的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鱼都想（　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>
            <a:hlinkClick r:id="rId2" action="ppaction://hlinksldjump"/>
          </p:cNvPr>
          <p:cNvSpPr/>
          <p:nvPr/>
        </p:nvSpPr>
        <p:spPr>
          <a:xfrm>
            <a:off x="802800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284720" y="981000"/>
            <a:ext cx="7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314960" y="90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鱼很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090960" y="1700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活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男孩儿是个什么样的孩子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79280" y="3933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非常有爱心，爱护幼小的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673200" y="579420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2009042317551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这个故事你学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989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生命无论大小贵贱，都应该珍惜。善良的事情也许很小，一个人能做到的也许很少。我们不在乎事情的大小，也不在乎能做到多少，我们在乎的是有没有去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684360" y="2708280"/>
            <a:ext cx="8229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把这个关于爱的故事讲给爸爸妈妈听吧！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BC45-FF7A-45DC-A8EE-F183AAE02D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79280" y="404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楷体"/>
              </a:rPr>
              <a:t>想一想课文讲述了一个什么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32000" y="177336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ahoma"/>
                <a:ea typeface="楷体"/>
              </a:rPr>
              <a:t>男人跟着男孩儿一起（      ）小鱼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72360" y="1773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拯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202U2H15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826920" y="1773360"/>
            <a:ext cx="6840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甚至　　　手臂　　奄奄一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朝前走着　　　困在浅水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散步　挣扎　干净　朝前　卷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松散　挣钱　干活　朝阳　试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"/>
              </a:rPr>
              <a:t>　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默读课文，想一想课文的哪些地方给你留下了深刻的印象。在这些语句下面画上线并写上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" action="ppaction://hlinkshowjump?jump=nextslide"/>
          </p:cNvPr>
          <p:cNvSpPr/>
          <p:nvPr/>
        </p:nvSpPr>
        <p:spPr>
          <a:xfrm>
            <a:off x="7451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>
            <a:hlinkClick r:id="rId3" action="ppaction://hlinksldjump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>
            <a:hlinkClick r:id="rId4" action="ppaction://hlinksldjump"/>
          </p:cNvPr>
          <p:cNvSpPr/>
          <p:nvPr/>
        </p:nvSpPr>
        <p:spPr>
          <a:xfrm>
            <a:off x="7885080" y="6353280"/>
            <a:ext cx="432000" cy="5047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33">
                <a:moveTo>
                  <a:pt x="0" y="0"/>
                </a:moveTo>
                <a:lnTo>
                  <a:pt x="21600" y="0"/>
                </a:lnTo>
                <a:lnTo>
                  <a:pt x="21600" y="25233"/>
                </a:lnTo>
                <a:lnTo>
                  <a:pt x="0" y="25233"/>
                </a:lnTo>
                <a:close/>
              </a:path>
              <a:path fill="lightenLess" w="21600" h="252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3">
                <a:moveTo>
                  <a:pt x="21600" y="0"/>
                </a:moveTo>
                <a:lnTo>
                  <a:pt x="21600" y="25233"/>
                </a:lnTo>
                <a:lnTo>
                  <a:pt x="20200" y="23833"/>
                </a:lnTo>
                <a:lnTo>
                  <a:pt x="20200" y="1400"/>
                </a:lnTo>
                <a:close/>
              </a:path>
              <a:path fill="darkenLess" w="21600" h="25233">
                <a:moveTo>
                  <a:pt x="21600" y="25233"/>
                </a:moveTo>
                <a:lnTo>
                  <a:pt x="0" y="25233"/>
                </a:lnTo>
                <a:lnTo>
                  <a:pt x="1400" y="23833"/>
                </a:lnTo>
                <a:lnTo>
                  <a:pt x="20200" y="23833"/>
                </a:lnTo>
                <a:close/>
              </a:path>
              <a:path fill="lighten" w="21600" h="25233">
                <a:moveTo>
                  <a:pt x="0" y="252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这条小鱼在乎_02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0" y="1268280"/>
            <a:ext cx="7740720" cy="496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042920" y="213372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它们被困在浅水洼里，回不了大海，有的在那少得可怜的水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着，有的从水洼中跳到沙滩上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奄奄一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地等着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826920" y="22050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42920" y="213372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它们被困在浅水洼里，回不了大海，有的在那少得可怜的水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着，有的从水洼中跳到沙滩上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奄奄一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地等着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>
            <a:hlinkClick r:id="" action="ppaction://hlinkshowjump?jump=previousslide"/>
          </p:cNvPr>
          <p:cNvSpPr/>
          <p:nvPr/>
        </p:nvSpPr>
        <p:spPr>
          <a:xfrm>
            <a:off x="788508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10800"/>
                </a:moveTo>
                <a:lnTo>
                  <a:pt x="20074" y="3794"/>
                </a:lnTo>
                <a:lnTo>
                  <a:pt x="200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648972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26920" y="198108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被困的小鱼，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也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几百条，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甚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几千条。用不了多久，浅水洼里的水就会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光，这些小鱼也会干死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u=208848706,1084950506&amp;fm=3&amp;gp=41"/>
          <p:cNvPicPr/>
          <p:nvPr/>
        </p:nvPicPr>
        <p:blipFill>
          <a:blip r:embed="rId1"/>
          <a:stretch/>
        </p:blipFill>
        <p:spPr>
          <a:xfrm>
            <a:off x="6443640" y="1844640"/>
            <a:ext cx="2411280" cy="2959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>
            <a:hlinkClick r:id="rId2" action="ppaction://hlinksldjump"/>
          </p:cNvPr>
          <p:cNvSpPr/>
          <p:nvPr/>
        </p:nvSpPr>
        <p:spPr>
          <a:xfrm>
            <a:off x="795672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rId3" action="ppaction://hlinksldjump"/>
          </p:cNvPr>
          <p:cNvSpPr/>
          <p:nvPr/>
        </p:nvSpPr>
        <p:spPr>
          <a:xfrm>
            <a:off x="8459640" y="6453360"/>
            <a:ext cx="433440" cy="40464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136" h="21600">
                <a:moveTo>
                  <a:pt x="0" y="0"/>
                </a:moveTo>
                <a:lnTo>
                  <a:pt x="23136" y="0"/>
                </a:lnTo>
                <a:lnTo>
                  <a:pt x="23136" y="21600"/>
                </a:lnTo>
                <a:lnTo>
                  <a:pt x="0" y="21600"/>
                </a:lnTo>
                <a:close/>
              </a:path>
              <a:path fill="lightenLess" w="23136" h="21600">
                <a:moveTo>
                  <a:pt x="0" y="0"/>
                </a:moveTo>
                <a:lnTo>
                  <a:pt x="23136" y="0"/>
                </a:lnTo>
                <a:lnTo>
                  <a:pt x="21736" y="1400"/>
                </a:lnTo>
                <a:lnTo>
                  <a:pt x="1400" y="1400"/>
                </a:lnTo>
                <a:close/>
              </a:path>
              <a:path fill="darken" w="23136" h="21600">
                <a:moveTo>
                  <a:pt x="23136" y="0"/>
                </a:moveTo>
                <a:lnTo>
                  <a:pt x="23136" y="21600"/>
                </a:lnTo>
                <a:lnTo>
                  <a:pt x="21736" y="20200"/>
                </a:lnTo>
                <a:lnTo>
                  <a:pt x="21736" y="1400"/>
                </a:lnTo>
                <a:close/>
              </a:path>
              <a:path fill="darkenLess" w="23136" h="21600">
                <a:moveTo>
                  <a:pt x="23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6" y="20200"/>
                </a:lnTo>
                <a:close/>
              </a:path>
              <a:path fill="lighten" w="23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2U2H15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692360" y="1700280"/>
            <a:ext cx="522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我是一条困在浅水洼里的小鱼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曾经有过一个幸福的家，可是突然来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场暴风雨，它把我卷上了沙滩，我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困在了（　），小水洼的水真浅呀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觉得我要（　　），我想我的（　　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想（　　），可是它近在咫尺却远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天涯，谁来（　　），谁来（　　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47628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忽然看见前面有一个小男孩儿，每走到一个水洼旁都弯下腰去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在不停地捡起水洼里的小鱼，用力地把它们扔回大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4000" y="47628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忽然看见前面有一个小男孩儿，每走到一个水洼旁都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弯下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去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在不停地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捡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水洼里的小鱼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用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地把它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扔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>
            <a:hlinkClick r:id="rId2" action="ppaction://hlinksldjump"/>
          </p:cNvPr>
          <p:cNvSpPr/>
          <p:nvPr/>
        </p:nvSpPr>
        <p:spPr>
          <a:xfrm>
            <a:off x="788508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11788"/>
                </a:moveTo>
                <a:lnTo>
                  <a:pt x="17806" y="4782"/>
                </a:lnTo>
                <a:lnTo>
                  <a:pt x="17806" y="187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>
            <a:hlinkClick r:id="rId3" action="ppaction://hlinksldjump"/>
          </p:cNvPr>
          <p:cNvSpPr/>
          <p:nvPr/>
        </p:nvSpPr>
        <p:spPr>
          <a:xfrm>
            <a:off x="8459640" y="6308640"/>
            <a:ext cx="505080" cy="54936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492">
                <a:moveTo>
                  <a:pt x="0" y="0"/>
                </a:moveTo>
                <a:lnTo>
                  <a:pt x="21600" y="0"/>
                </a:lnTo>
                <a:lnTo>
                  <a:pt x="21600" y="23492"/>
                </a:lnTo>
                <a:lnTo>
                  <a:pt x="0" y="23492"/>
                </a:lnTo>
                <a:close/>
              </a:path>
              <a:path fill="lightenLess" w="21600" h="234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2">
                <a:moveTo>
                  <a:pt x="21600" y="0"/>
                </a:moveTo>
                <a:lnTo>
                  <a:pt x="21600" y="23492"/>
                </a:lnTo>
                <a:lnTo>
                  <a:pt x="20200" y="22092"/>
                </a:lnTo>
                <a:lnTo>
                  <a:pt x="20200" y="1400"/>
                </a:lnTo>
                <a:close/>
              </a:path>
              <a:path fill="darkenLess" w="21600" h="23492">
                <a:moveTo>
                  <a:pt x="21600" y="23492"/>
                </a:moveTo>
                <a:lnTo>
                  <a:pt x="0" y="23492"/>
                </a:lnTo>
                <a:lnTo>
                  <a:pt x="1400" y="22092"/>
                </a:lnTo>
                <a:lnTo>
                  <a:pt x="20200" y="22092"/>
                </a:lnTo>
                <a:close/>
              </a:path>
              <a:path fill="lighten" w="21600" h="23492">
                <a:moveTo>
                  <a:pt x="0" y="234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这条小鱼在乎"/>
          <p:cNvPicPr/>
          <p:nvPr/>
        </p:nvPicPr>
        <p:blipFill>
          <a:blip r:embed="rId1"/>
          <a:srcRect l="-2870" t="0" r="-2049" b="-7808"/>
          <a:stretch/>
        </p:blipFill>
        <p:spPr>
          <a:xfrm>
            <a:off x="0" y="2736720"/>
            <a:ext cx="9144000" cy="4121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971640" y="9079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这条小鱼在乎！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男孩儿一边回答，一边捡起一条小鱼扔进大海，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这条在乎！还有这一条，这一条，这一条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802800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32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0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