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5F0C-1F33-4493-978C-A3FF6A59CB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1F08-4DB2-4ED3-83D9-7FFEECE01A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C93-1751-4F57-8055-148E187A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823-B2E6-4BF1-B428-94A79281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A0D-FD11-49B6-947E-EE83CEC2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043-8361-4E67-A235-CED7C073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9FD-71B2-4379-8B46-7C473983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5F6-198A-4D10-B49B-2CA43854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E49-E645-4145-BDCB-5DFC4E88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20F-6BA3-46E1-8D23-567E1F77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D6C-32BA-4293-9D86-FF7288E7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D3F-B139-4594-B714-197E279E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34B-BC2A-4637-B20E-8814D21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0BC-25B2-40C7-BF60-1B30E47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4691-1D6E-45CC-821B-BB6FF6866A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BF48-88CF-4E3E-9FE9-0192AD7A9A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同侧圆角矩形 1"/>
          <p:cNvSpPr/>
          <p:nvPr/>
        </p:nvSpPr>
        <p:spPr>
          <a:xfrm>
            <a:off x="457200" y="345960"/>
            <a:ext cx="8229600" cy="6232680"/>
          </a:xfrm>
          <a:custGeom>
            <a:avLst/>
            <a:gdLst/>
            <a:ahLst/>
            <a:rect l="l" t="t" r="r" b="b"/>
            <a:pathLst>
              <a:path w="8229600" h="6232525">
                <a:moveTo>
                  <a:pt x="1038774" y="0"/>
                </a:moveTo>
                <a:lnTo>
                  <a:pt x="7190825" y="0"/>
                </a:lnTo>
                <a:cubicBezTo>
                  <a:pt x="7764524" y="0"/>
                  <a:pt x="8229599" y="465075"/>
                  <a:pt x="8229599" y="1038774"/>
                </a:cubicBezTo>
                <a:lnTo>
                  <a:pt x="8229600" y="6232525"/>
                </a:lnTo>
                <a:lnTo>
                  <a:pt x="8229600" y="6232525"/>
                </a:lnTo>
                <a:lnTo>
                  <a:pt x="0" y="6232525"/>
                </a:lnTo>
                <a:lnTo>
                  <a:pt x="0" y="6232525"/>
                </a:lnTo>
                <a:lnTo>
                  <a:pt x="0" y="1038774"/>
                </a:lnTo>
                <a:cubicBezTo>
                  <a:pt x="0" y="465075"/>
                  <a:pt x="465075" y="0"/>
                  <a:pt x="1038774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2860560" y="154620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太阳的香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82440" y="56577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157480" y="1117440"/>
            <a:ext cx="520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拼音，自由读课文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字音，读通句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不认识的字画出来 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2400" y="738360"/>
            <a:ext cx="9040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的香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闻到了太阳的香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晒过的被子，晚上一打开，就有一股浓浓的太阳的香气。妈妈洗干净的衣服，早晨一穿上，就有一股浓浓的太阳的香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告诉我：太阳的香气到处藏着。它藏在甜甜的果子里，藏在香喷喷的稻米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啊，太阳的香气到处都有，就连迎着夕阳回到家的妈妈，身上也有太阳的香气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2400" y="738360"/>
            <a:ext cx="9040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气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到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股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浓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净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22400" y="738360"/>
            <a:ext cx="90406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净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2828880" y="600552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53960" y="749160"/>
            <a:ext cx="8507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感受过太阳的香气吗？你认为太阳的香气还会藏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闻到过太阳的香气吗？同学之间互相说一说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QQ图片20141203103736"/>
          <p:cNvPicPr/>
          <p:nvPr/>
        </p:nvPicPr>
        <p:blipFill>
          <a:blip r:embed="rId1"/>
          <a:stretch/>
        </p:blipFill>
        <p:spPr>
          <a:xfrm>
            <a:off x="1081080" y="-12600"/>
            <a:ext cx="3408480" cy="337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QQ图片20141203103754"/>
          <p:cNvPicPr/>
          <p:nvPr/>
        </p:nvPicPr>
        <p:blipFill>
          <a:blip r:embed="rId2"/>
          <a:stretch/>
        </p:blipFill>
        <p:spPr>
          <a:xfrm>
            <a:off x="4489560" y="-12600"/>
            <a:ext cx="3429000" cy="339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QQ图片20141203103817"/>
          <p:cNvPicPr/>
          <p:nvPr/>
        </p:nvPicPr>
        <p:blipFill>
          <a:blip r:embed="rId3"/>
          <a:stretch/>
        </p:blipFill>
        <p:spPr>
          <a:xfrm>
            <a:off x="1081080" y="3381480"/>
            <a:ext cx="3408480" cy="337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QQ图片20141203103835"/>
          <p:cNvPicPr/>
          <p:nvPr/>
        </p:nvPicPr>
        <p:blipFill>
          <a:blip r:embed="rId4"/>
          <a:stretch/>
        </p:blipFill>
        <p:spPr>
          <a:xfrm>
            <a:off x="4489560" y="3381480"/>
            <a:ext cx="3429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7385-60B4-4C01-871A-808286A178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0:33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