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E59-C87D-4D06-A68D-4457CC70136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32DB-674D-4CF2-9479-AF67B727AB3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13F-11CF-4399-BFE4-B2F037BF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B18-3ABD-452F-B99A-45BBE75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D44-5148-4733-BB3C-9EE515C6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90F-189A-4EE1-A96D-1E7C32D3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D16-E2BF-44DA-A2EF-86FF899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7B0-E26F-4F33-A92E-5AE964F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26D-C1ED-4E72-B29D-138542F9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9F0-C398-445C-902F-F325E4BA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852-E5EA-4BC8-8F09-108BA64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404-0627-4021-85C4-A9E4100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F50-E269-4555-B866-1BC48BD5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A0A-E470-48CC-BA9B-0A0A6DA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A33-FCF3-4F5C-86F1-4966CEAC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2009010520274158"/>
          <p:cNvPicPr/>
          <p:nvPr/>
        </p:nvPicPr>
        <p:blipFill>
          <a:blip r:embed="rId1"/>
          <a:stretch/>
        </p:blipFill>
        <p:spPr>
          <a:xfrm>
            <a:off x="1581120" y="1773360"/>
            <a:ext cx="6045120" cy="4379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1403280" y="54936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萧伯纳和小女孩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58680" y="6153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1294920"/>
            <a:ext cx="842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临别的时候，萧伯纳把头一扬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默地对小姑娘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77080" y="10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幽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雪花"/>
          <p:cNvPicPr/>
          <p:nvPr/>
        </p:nvPicPr>
        <p:blipFill>
          <a:blip r:embed="rId1"/>
          <a:stretch/>
        </p:blipFill>
        <p:spPr>
          <a:xfrm>
            <a:off x="7236000" y="69228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68360" y="1324080"/>
            <a:ext cx="84247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，您怎么会说自己了不起呢？请回去也告诉您的妈妈，就说今天同您玩的是一个普普通通的小姑娘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37162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...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719280" y="1698840"/>
            <a:ext cx="84247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95280" y="979920"/>
            <a:ext cx="8424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，您怎么会说自己了不起呢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1559160"/>
            <a:ext cx="835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萧伯纳愣住了，他觉得刚才自己太自以为是了，一时不知说什么才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11280" y="3364200"/>
            <a:ext cx="828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萧伯纳常对人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无论取得多大的成就，都不能骄傲，要永远谦虚。这就是那位小姑娘给我的启迪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454120" y="1322280"/>
            <a:ext cx="13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愣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-1081440" y="2708280"/>
            <a:ext cx="12083040" cy="581400"/>
            <a:chOff x="-1081440" y="2708280"/>
            <a:chExt cx="12083040" cy="581400"/>
          </a:xfrm>
        </p:grpSpPr>
        <p:sp>
          <p:nvSpPr>
            <p:cNvPr id="98" name="Text Box 6"/>
            <p:cNvSpPr/>
            <p:nvPr/>
          </p:nvSpPr>
          <p:spPr>
            <a:xfrm>
              <a:off x="-1081440" y="2708280"/>
              <a:ext cx="1208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他想：                                               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2556000" y="3141720"/>
              <a:ext cx="525600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39640" y="1559160"/>
            <a:ext cx="835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萧伯纳愣住了，他觉得刚才自己太自以为是了，一时不知说什么才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11280" y="3364200"/>
            <a:ext cx="828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萧伯纳常对人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人无论取得多大的成就，都不能骄傲，要永远谦虚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是那位小姑娘给我的启迪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825480" y="589284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24000" y="1097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虚心使人进步，骄傲使人落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毛 泽 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24000" y="2707200"/>
            <a:ext cx="92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骄傲的人，结果总是在骄傲里毁灭了自己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莎士比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24000" y="4436280"/>
            <a:ext cx="93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在何时，永远不要以为自己已知道了一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巴甫洛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16000" y="925560"/>
            <a:ext cx="7488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谦虚   启迪   幽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骄傲   世界闻名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普通通   聪明伶俐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蝴蝶结   带行李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B54A-1345-48CB-8DD9-889874A7A1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2050920" y="486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317840" y="2492280"/>
            <a:ext cx="48261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萧伯纳是英国有名的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1160" y="981000"/>
            <a:ext cx="4355640" cy="5013000"/>
            <a:chOff x="11160" y="981000"/>
            <a:chExt cx="4355640" cy="5013000"/>
          </a:xfrm>
        </p:grpSpPr>
        <p:pic>
          <p:nvPicPr>
            <p:cNvPr id="54" name="Picture 14" descr="萧伯纳1"/>
            <p:cNvPicPr/>
            <p:nvPr/>
          </p:nvPicPr>
          <p:blipFill>
            <a:blip r:embed="rId1"/>
            <a:stretch/>
          </p:blipFill>
          <p:spPr>
            <a:xfrm>
              <a:off x="11160" y="981000"/>
              <a:ext cx="4355640" cy="50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0"/>
            <p:cNvSpPr/>
            <p:nvPr/>
          </p:nvSpPr>
          <p:spPr>
            <a:xfrm>
              <a:off x="226080" y="52077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萧伯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11280" y="2264040"/>
            <a:ext cx="82818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无论取得多大的成就，都不能骄傲，要永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谦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就是那位小姑娘给我的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68360" y="1728000"/>
            <a:ext cx="84963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课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完成填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的萧伯纳在国外看到一个（    ）的小女孩，她高兴地和小女孩玩得很久。临别时，萧伯纳让小女孩告诉她的妈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让萧伯纳告诉他的妈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539640" y="549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d60093"/>
                  </a:solidFill>
                  <a:round/>
                </a:ln>
                <a:solidFill>
                  <a:srgbClr val="d60093"/>
                </a:solidFill>
                <a:latin typeface="隶书"/>
              </a:rPr>
              <a:t>自学要求：</a:t>
            </a:r>
            <a:endParaRPr b="1" lang="en-US" sz="1800" spc="1" strike="noStrike">
              <a:ln w="9360">
                <a:solidFill>
                  <a:srgbClr val="d60093"/>
                </a:solidFill>
                <a:round/>
              </a:ln>
              <a:solidFill>
                <a:srgbClr val="d60093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"/>
          <p:cNvGrpSpPr/>
          <p:nvPr/>
        </p:nvGrpSpPr>
        <p:grpSpPr>
          <a:xfrm>
            <a:off x="611280" y="2512080"/>
            <a:ext cx="8281800" cy="1892160"/>
            <a:chOff x="611280" y="2512080"/>
            <a:chExt cx="8281800" cy="1892160"/>
          </a:xfrm>
        </p:grpSpPr>
        <p:sp>
          <p:nvSpPr>
            <p:cNvPr id="60" name="Rectangle 4"/>
            <p:cNvSpPr/>
            <p:nvPr/>
          </p:nvSpPr>
          <p:spPr>
            <a:xfrm>
              <a:off x="611280" y="2512080"/>
              <a:ext cx="82818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有名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的萧伯纳在国外看到一个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聪明伶俐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的小女孩，她高兴地和小女孩玩得很久。临别时，萧伯纳让小女孩告诉她的妈妈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别忘了回去告诉你妈妈，就说今天同你玩的是世界闻名的萧伯纳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。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女孩让萧伯纳告诉他的妈妈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请回去也告诉您的妈妈，就说今天同您玩的是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普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普通通的小姑娘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。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"/>
            <p:cNvSpPr/>
            <p:nvPr/>
          </p:nvSpPr>
          <p:spPr>
            <a:xfrm>
              <a:off x="7451640" y="40053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Dotum"/>
                </a:rPr>
                <a:t>ǔ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"/>
          <p:cNvGrpSpPr/>
          <p:nvPr/>
        </p:nvGrpSpPr>
        <p:grpSpPr>
          <a:xfrm>
            <a:off x="611280" y="1790280"/>
            <a:ext cx="8281800" cy="991440"/>
            <a:chOff x="611280" y="1790280"/>
            <a:chExt cx="8281800" cy="991440"/>
          </a:xfrm>
        </p:grpSpPr>
        <p:grpSp>
          <p:nvGrpSpPr>
            <p:cNvPr id="63" name="Group 8"/>
            <p:cNvGrpSpPr/>
            <p:nvPr/>
          </p:nvGrpSpPr>
          <p:grpSpPr>
            <a:xfrm>
              <a:off x="611280" y="1790280"/>
              <a:ext cx="8281800" cy="991440"/>
              <a:chOff x="611280" y="1790280"/>
              <a:chExt cx="8281800" cy="991440"/>
            </a:xfrm>
          </p:grpSpPr>
          <p:sp>
            <p:nvSpPr>
              <p:cNvPr id="64" name="Rectangle 5"/>
              <p:cNvSpPr/>
              <p:nvPr/>
            </p:nvSpPr>
            <p:spPr>
              <a:xfrm>
                <a:off x="611280" y="1790280"/>
                <a:ext cx="828180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5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姑娘长着一双闪亮的大眼睛，头上</a:t>
                </a:r>
                <a:r>
                  <a:rPr b="1" lang="zh-CN" sz="3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戴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着大红蝴蝶结，显得聪明伶俐。</a:t>
                </a:r>
                <a:endParaRPr b="1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>
                <a:off x="7308720" y="213516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líng lì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9"/>
            <p:cNvSpPr/>
            <p:nvPr/>
          </p:nvSpPr>
          <p:spPr>
            <a:xfrm>
              <a:off x="1619280" y="22050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à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1"/>
          <p:cNvSpPr/>
          <p:nvPr/>
        </p:nvSpPr>
        <p:spPr>
          <a:xfrm>
            <a:off x="1116000" y="3860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戴（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116000" y="551664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（干粮、行李、报名费、照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1600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戴（眼镜、围巾、红领巾、帽子、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手表、项链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116000" y="544500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（    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24000" y="2256120"/>
            <a:ext cx="8424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临别的时候，萧伯纳把头一扬，幽默地对小姑娘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么，难道我不像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您怎么会说自己了不起呢？请回去也告诉您的妈妈，就说今天同您玩的是一个普普通通的小姑娘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627280" y="2276640"/>
            <a:ext cx="59770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68360" y="2924280"/>
            <a:ext cx="633564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156360" y="3500280"/>
            <a:ext cx="230328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395280" y="4221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24000" y="4508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24000" y="515772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187280" y="3213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916360" y="386064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~~~~~~~~~~~~~~~~~~~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68360" y="1612800"/>
            <a:ext cx="8424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生，您就是萧伯纳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么，难道我不像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是，您怎么会说自己了不起呢？请回去也告诉您的妈妈，就说今天同您玩的是一个普普通通的小姑娘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63640" y="14842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....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24000" y="1294920"/>
            <a:ext cx="842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临别的时候，萧伯纳把头一扬，幽默地对小姑娘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别忘了回去告诉你妈妈，就说今天同你玩的是世界闻名的萧伯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821120" y="10857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把头一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771640" y="23385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世界闻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雪花"/>
          <p:cNvPicPr/>
          <p:nvPr/>
        </p:nvPicPr>
        <p:blipFill>
          <a:blip r:embed="rId1"/>
          <a:stretch/>
        </p:blipFill>
        <p:spPr>
          <a:xfrm>
            <a:off x="4356000" y="595440"/>
            <a:ext cx="559080" cy="55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雪花"/>
          <p:cNvPicPr/>
          <p:nvPr/>
        </p:nvPicPr>
        <p:blipFill>
          <a:blip r:embed="rId2"/>
          <a:stretch/>
        </p:blipFill>
        <p:spPr>
          <a:xfrm>
            <a:off x="2340000" y="2827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4:03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5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