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2AEE-BA69-4677-AA5B-29CAF900E7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C8F9-3C0C-42B7-97DC-892608A270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5A4-B425-447E-8E47-7DF1FAC1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445-6C3E-4209-96EF-AA911521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806-B594-425F-97F3-177B5884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559-7B62-4F47-AA97-16AF4440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07A-6A63-458A-9672-1E8AA66B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C1B-7CB8-463E-BB9F-D2B0C1F4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66B-DE74-446B-91EC-F47AF031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649-B483-4AC0-9B59-987DB0B5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6AD-860F-4775-8080-976B4C0E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D8C-55CF-4937-9C11-10E2556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81B-A646-4F74-92B6-F86BA45D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EBA-EB4C-4F3B-A20F-6D5E90D0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102F-F77C-45D0-99FE-63FC5057F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food.cfd.cc/details.htx&amp;type=mobile&amp;id=676993&amp;act_id=7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R_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523880" y="2422440"/>
            <a:ext cx="54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迷你简少儿"/>
                <a:ea typeface="迷你简少儿"/>
              </a:rPr>
              <a:t>小熊过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794040" y="398448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30160" y="609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湘教版一年级语文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1620360" y="57308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4038480" y="457200"/>
            <a:ext cx="13716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学写字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914400" y="1312920"/>
            <a:ext cx="73152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CE2F-4BC9-4811-81B5-16EEF12A20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0322181200804232359591682293735935_008_6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52280"/>
            <a:ext cx="7143840" cy="5353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731680" y="407196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这就是童话故事的主人公――小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4572000" cy="6059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88620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"/>
          <p:cNvSpPr/>
          <p:nvPr/>
        </p:nvSpPr>
        <p:spPr>
          <a:xfrm>
            <a:off x="3807000" y="5308560"/>
            <a:ext cx="62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R_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22200" y="1608120"/>
            <a:ext cx="8382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站不牢  心乱跳   尾巴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声叫    跳出水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竹桥   流水  乌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哗哗笑     不要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794040" y="3984480"/>
            <a:ext cx="33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31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乱跳”你是怎样理解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时小熊会想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用读把小熊的这种心情表达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 rot="5400000">
            <a:off x="-692280" y="1822320"/>
            <a:ext cx="21463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6000"/>
                    </a:srgbClr>
                  </a:outerShdw>
                </a:effectLst>
                <a:latin typeface="宋体"/>
              </a:rPr>
              <a:t>理解句子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301640" y="1219320"/>
            <a:ext cx="90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小竹桥，摇摇摇，有只小熊来过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立不稳，站不牢，走到桥上心乱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106668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熊心里非常害怕，这时候谁看见了？它们是怎么做的呢？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120" y="2209680"/>
            <a:ext cx="3124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小熊单独在桥上摇，再乌鸦飞出来，鲤鱼跳出来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419720" cy="3284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914400" y="458604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流水哗哗地响，它也好象在对小熊说话呢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子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14600" y="19810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上乌鸦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上乌鸦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哇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叫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桥下流水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桥下流水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哗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633840" y="3413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乌鸦在叫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557520" y="59180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流水在笑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4572000" cy="605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4419720" cy="6172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3886200" y="152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120" y="22856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熊在朋友的鼓励下，顺利地过了桥，把信送到了大象伯伯的手中。回到家后它把这件事告诉了妈妈。熊妈妈会怎样夸奖小熊呢？你觉得小熊是个怎样的孩子？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38520" y="419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（遇事不慌，勇敢向前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0:08:54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3:02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