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3.gif" ContentType="image/gif"/>
  <Override PartName="/ppt/media/image16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33cc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9224-341B-44EB-AC6D-0C011520617D}" type="slidenum">
              <a:rPr b="1" lang="zh-CN" sz="1200" spc="-1" strike="noStrike">
                <a:solidFill>
                  <a:srgbClr val="33cc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9911-5FBC-4A9D-84D4-621A4BC7AB01}" type="slidenum">
              <a:rPr b="1" lang="zh-CN" sz="1200" spc="-1" strike="noStrike">
                <a:solidFill>
                  <a:srgbClr val="33cc33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A2E-F732-42B0-AA04-C665B604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FDF-8BCF-41AF-B8EB-A9170A85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C42F4-3232-4080-BAC9-2FD4C54B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BBAE8-2AFB-4BA7-B2E2-8012EA5D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B31E2-A196-4519-B925-371741C0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DCA58-3F37-4632-9360-EB4426C6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7E2EB-1BB6-4F35-9A82-2213026B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7FD0-A178-49BE-99FA-83253109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BBD85-1303-4B4F-8FF2-D7E5D8B4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97F54-2994-4B44-ACCE-C193278B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18866-D512-4F4B-8F7E-BD975B96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9D4F4-627E-4607-A6D6-8E887E16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0D1-079A-403F-BF70-921C5332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C70BD-7E80-4D4C-8366-38BEE6D8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8135C-C81E-4A45-B956-3E17F056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8A2B9-901E-431A-9034-5A481A92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3788A-D70B-4D5C-9166-EFC7635F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38525-E8A3-4F97-8622-3F9B75B4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F14D4-470D-4085-9B3F-335B2419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90A85-5211-4F5D-B5C7-CD1B815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190B9-8328-47AC-8186-70D203B3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3C2A9-9FE8-462D-8341-B64DB543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77A20-41B9-4B49-9DF4-2FABDD4B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6D4-5D98-464C-A5C4-E890E58B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EB48C-78B7-4C46-9AE5-4BBDFA9B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4C85D-F641-46DC-9A50-F283B8AA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DDC2D-D336-45EE-8092-8D74A42B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A0DDE-F193-4E3C-8ECE-00CFE30E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1EDD3-F9BF-42B1-A29C-16C81EC6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87A12-926F-4328-9052-980E6374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2EE0E-88B0-46B6-BD18-3CC75E18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B9B01-ED57-4FF0-8A21-058B0E6D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54138-E3EB-4092-B7CE-BF1A9F1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60072-30D1-44A3-A659-C14E3C3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B5EA-A520-4CD5-81C1-15D609E4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C507A-0E5F-4269-8361-C81F7CA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33E96-5AD0-4538-BFAA-E603F20A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53555-1BAE-4A2E-A4F2-2E2059E9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BA9E6-2E2B-4B6C-8C24-27154CF8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3551F-183E-4F0E-9D57-532B563A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08472-0CF4-4487-B677-4F369D0A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C1676-2516-4B6A-963E-242ACCAD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22A54-55C9-4956-AC94-FCA3FAA9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1E966-CF33-49C3-98A9-63707937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2F272-39FD-415F-85CB-747CDE0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3BBE-70DC-4D5B-9C32-6AC61D99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5AC13-A46E-4D60-BAC9-16CB59FB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7C08C-ED65-4254-9F3E-02D2BA8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14D3A-1C06-4A8C-81A1-DC11EBFA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3CD64-FBF7-4A91-AD35-AC784BAF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23CA8-2F84-47B8-A200-00CC4FE0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CA2E8-F11A-46DA-AF63-1FA25F99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DA2A7-3AEF-4E09-9C32-B9FDC332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F246E-AD4A-49C6-90E1-8428FA26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1758B-BE72-416C-BA11-2D7C1118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071FF-478F-467B-AEBF-504B0A82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910D-E9D1-4D67-A1B1-D3B2C1DD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9C453-A5A9-4A5D-AC2A-662A9D3C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34169-C67F-4830-AA77-B790E70F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A6E88-43FC-49BF-8C90-D0FC3D03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BA9C9-68B4-4B39-819B-4344373B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7DB1A-0095-4D99-BDEB-6906CE6B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6950A-415B-44FC-838B-BFE50C09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3C465-14A0-4160-BD04-A1A0DC76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C0F1-499C-4371-9F71-A463CA2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0623-5026-4F47-A8AD-017F54BB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EEF2-FBD7-47C5-8C0E-A04F1A7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1269-F58D-4CCE-A5D8-72FE38C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BCD-A35E-48A6-B80C-44F51DCB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3C66-0DCA-414A-8CEC-DE9A7C0C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6665-0655-480B-A3D7-925E91B0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8103-448D-4C2B-9EE7-87036F7F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B9BF-EDCF-4C35-BB9A-9D85F0B2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CD2C-7ED1-42FF-85A2-697C19FD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2867-9CBA-4559-8F9B-5317224F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BE87-24AA-4675-BCC5-7457605E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0206-4E0E-4A19-9FC8-D6BD4171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3515-5F2A-4B9F-B939-1A772C68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DB11-C11D-44F6-A310-427E9FA7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A3A-D252-4E24-870D-9CF36E7B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5521-33B3-4632-9EDB-4883802B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898F-F8BD-4423-A418-83AAD286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E777-6E0A-4BBD-80DA-E93AFB5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E95E-B28E-4A40-8696-55DA64B8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0B27-742A-41FA-84E4-AE0A40DF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CBC5-1251-4246-937F-CF9B6688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E04FF-A7BB-4377-9DEE-71632B0C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0565-45B5-4B2C-BDB7-592C5D34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42BC-6445-42F2-B07F-44EB0714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C9123-5CBF-452F-9DC7-38E8CE4D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C01-49BD-4708-BF42-61B1B2F2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EFD8-6AF1-464A-8493-FC0D48EF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8519-B9E4-4CE1-B7C2-FA80726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8CAB-261F-46AC-AD3F-2ED5BEC3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0ABF-4743-4F1A-9E8C-E83CEDDB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1D9B-8F7F-4B7C-B4A8-208FC39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6B3D-0678-4E4F-9A0F-6975F16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9A96B-E97F-4BC5-B859-313EA485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512D-BA59-41F9-8098-56DD83B5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973C-E864-4412-BC30-E357A932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E803A-6863-4D28-962D-0884B90E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6B8-1DBE-4FED-A542-50C2912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F434B-FF65-4F0C-BA1D-08CBA7CE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D2DA-CDE2-441E-AEE6-79160D98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2E6BA-098A-4BDA-A1A2-F4F791D2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5638D-0E7A-4489-8AF3-A0456ED6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F98A4-C2FD-4C1E-B572-40D192ED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CCBC3-0920-4889-9AB1-0204E2BB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27B25-52DA-4B9F-9EDB-BE9C5262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1AA21-2956-40DC-BDF1-4AEEDFE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5CEFC-3437-4A11-A9A3-98FF356D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0F5A-679F-4CBD-AC91-0E6C2476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F99-5CB8-4FE9-B706-73C34E9B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13A6F-37C9-4E00-8C74-2571DF6B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9C36C-684C-4C66-9B46-3CC85111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30F1E-EC5F-4B24-9E97-EEBB1906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59F65-6CB5-4C8B-B5A5-FDB03135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3BF1-F294-43E5-BA42-2BBEFC49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AA078-2ED3-4572-84D6-8F026890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15918-B34D-4E3B-91AA-1635DDBB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68BC9-EDD1-4CAE-952F-02B1BB09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2019-68A3-4674-895F-E15B32D3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DE1A6-61C6-46FB-B976-F2CFAD4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E75-E2C8-4C22-816C-15A593C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C15B-0774-4547-B7FE-3C6B2AC2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D834-FCFD-4FFE-9B15-B1F4AA33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1AB8F-A8B8-4505-9EDF-225D8FD5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8D98D-27DE-47BA-9BC3-99144C02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FEF8E-4ADA-4FC2-A7A2-3A5B5C79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6D12F-132A-4A31-A7AB-5F0E3619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22B1D-A372-45F6-BF3D-93365F6C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75BE-15A4-4266-BDDF-766AE8C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07EFC-2E2B-45F6-8851-3E19D832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7E95B-ACDD-45C9-BD34-1643DF95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6F2-C831-463F-ACEE-EDEA90F0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67DA8-C251-484D-B946-1355323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5AB92-651E-47F2-B843-A9F1401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6C737-5F59-434E-B4A1-568807F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DB763-7613-411E-B878-AB3C0BAA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614BB-EE19-4C8E-A88C-8FCEA2F4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C4E43-AC32-419E-8D7E-976036F0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E397A-3DCF-41A6-98AE-607277EF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75EDE-EDE4-4463-88FB-CCF76554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877AA-BC92-4576-8DC0-996066DF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1F379-7A0C-4BD8-9616-17CDA6D9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7ED-3A06-42B2-851E-AB3A4538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142B9-FAE5-4218-8660-A7D038C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55BCB-B9A3-46DB-9EF1-FBDAA127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9B9C0-677A-4B18-8152-E24773FB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BDCE6-F0F5-474E-9E7C-BB86D033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37189-1DAC-425F-B2D3-6319A11B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A1CD2-F1FC-45B1-B5A6-D47492C2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CD680-EEE0-4DD5-9005-3951D624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F9840-34F1-49C7-8238-2207B844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32227-A671-4336-8081-08E85083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8853A-81FC-433A-AACD-4AA7702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0836-EA80-4A36-B9C9-ACFAE2309B51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61F6-BA3A-4700-BF2F-B967BDB458E7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C460-1ED5-4CC6-A5E7-6C20764DDD20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6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6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5020-689A-48B1-95DC-94150E8BC8B9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63BD-2EE5-4F43-A35A-8F867EE99BA7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7C4-8712-4A90-BF37-E90BCE9B1A41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8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6CCF-E4ED-4AD5-90AB-6AA32DF17D72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D8A7-B21D-42B2-992F-0214AC9CD4FA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5E99-E2EE-44DB-85AA-869763014587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214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215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796C-FF07-45FA-88D4-4E2C9DC78E7F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4153-8A9B-4518-8292-D335BE96F668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300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301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B30E-C2D7-42B2-A39D-CA016F80317C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C0C9-05BA-4B6F-A18B-B3D0CF36F885}" type="slidenum">
              <a:rPr b="1" lang="zh-CN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3"/>
          <p:cNvSpPr/>
          <p:nvPr/>
        </p:nvSpPr>
        <p:spPr>
          <a:xfrm>
            <a:off x="2138400" y="1600200"/>
            <a:ext cx="4876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早 晨</a:t>
            </a:r>
            <a:endParaRPr b="1" lang="en-US" sz="115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2297160" y="40608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高尔基</a:t>
            </a:r>
            <a:endParaRPr b="1" lang="en-US" sz="3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1" name="矩形 4"/>
          <p:cNvSpPr/>
          <p:nvPr/>
        </p:nvSpPr>
        <p:spPr>
          <a:xfrm>
            <a:off x="1942560" y="5816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微笑的太阳"/>
          <p:cNvPicPr/>
          <p:nvPr/>
        </p:nvPicPr>
        <p:blipFill>
          <a:blip r:embed="rId2"/>
          <a:stretch/>
        </p:blipFill>
        <p:spPr>
          <a:xfrm>
            <a:off x="0" y="0"/>
            <a:ext cx="1924200" cy="228276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3"/>
          <p:cNvSpPr/>
          <p:nvPr/>
        </p:nvSpPr>
        <p:spPr>
          <a:xfrm>
            <a:off x="4572000" y="2286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欢迎你呀，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界的主宰！”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9" name="横卷形 3"/>
          <p:cNvSpPr/>
          <p:nvPr/>
        </p:nvSpPr>
        <p:spPr>
          <a:xfrm>
            <a:off x="457200" y="2514600"/>
            <a:ext cx="5943600" cy="27432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上好，美丽的浪花！不过你们玩够了，安静一下吧！要是你们继续这样高高地蹦跳，孩子们将不能在海水中洗澡！应该让世界上的一切都能得到各自的享受，不是吗？”</a:t>
            </a:r>
            <a:endParaRPr b="1" lang="en-US" sz="25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600" name="大自然的声音 - 纯音乐 未知歌手.mp3" descr=""/>
          <p:cNvPicPr/>
          <p:nvPr/>
        </p:nvPicPr>
        <p:blipFill>
          <a:blip r:embed="rId3"/>
          <a:stretch/>
        </p:blipFill>
        <p:spPr>
          <a:xfrm>
            <a:off x="78487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-360" y="1080"/>
            <a:ext cx="8915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Lucida Sans Unicode"/>
              </a:rPr>
              <a:t>这些海浪整夜戏耍着，不停地翻滚。现在，他们披头散发，身上绿色的衣裳皱皱巴巴，天鹅绒的长披纱也被搅得乱七八糟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绿色蜥蜴3"/>
          <p:cNvPicPr/>
          <p:nvPr/>
        </p:nvPicPr>
        <p:blipFill>
          <a:blip r:embed="rId2"/>
          <a:stretch/>
        </p:blipFill>
        <p:spPr>
          <a:xfrm>
            <a:off x="4648320" y="3506760"/>
            <a:ext cx="4446360" cy="3276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石头缝中的绿蜥蜴"/>
          <p:cNvPicPr/>
          <p:nvPr/>
        </p:nvPicPr>
        <p:blipFill>
          <a:blip r:embed="rId3"/>
          <a:stretch/>
        </p:blipFill>
        <p:spPr>
          <a:xfrm>
            <a:off x="3240" y="77760"/>
            <a:ext cx="4647960" cy="3351240"/>
          </a:xfrm>
          <a:prstGeom prst="rect">
            <a:avLst/>
          </a:prstGeom>
          <a:ln w="0">
            <a:noFill/>
          </a:ln>
        </p:spPr>
      </p:pic>
      <p:sp>
        <p:nvSpPr>
          <p:cNvPr id="604" name="TextBox 4"/>
          <p:cNvSpPr/>
          <p:nvPr/>
        </p:nvSpPr>
        <p:spPr>
          <a:xfrm>
            <a:off x="5105520" y="1295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天的天气一定很热！”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05" name="TextBox 5"/>
          <p:cNvSpPr/>
          <p:nvPr/>
        </p:nvSpPr>
        <p:spPr>
          <a:xfrm>
            <a:off x="304920" y="35053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大热天，苍蝇飞得不快，蜥蜴能够轻易的捕获它们，把它们吃掉。吃活的苍蝇，这是一件多么惬意的事情！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沾满露水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" descr="阳光照耀下沾满露水的花"/>
          <p:cNvPicPr/>
          <p:nvPr/>
        </p:nvPicPr>
        <p:blipFill>
          <a:blip r:embed="rId3"/>
          <a:stretch/>
        </p:blipFill>
        <p:spPr>
          <a:xfrm>
            <a:off x="4419720" y="3524400"/>
            <a:ext cx="4724280" cy="3333600"/>
          </a:xfrm>
          <a:prstGeom prst="rect">
            <a:avLst/>
          </a:prstGeom>
          <a:ln w="0">
            <a:noFill/>
          </a:ln>
        </p:spPr>
      </p:pic>
      <p:pic>
        <p:nvPicPr>
          <p:cNvPr id="608" name="清晨班得瑞轻音乐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6" descr="u=3384501156,3710757347&amp;fm=23&amp;gp=0.jpg"/>
          <p:cNvPicPr/>
          <p:nvPr/>
        </p:nvPicPr>
        <p:blipFill>
          <a:blip r:embed="rId5"/>
          <a:stretch/>
        </p:blipFill>
        <p:spPr>
          <a:xfrm>
            <a:off x="0" y="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7" descr="u=1231103227,2171715107&amp;fm=21&amp;gp=0.jpg"/>
          <p:cNvPicPr/>
          <p:nvPr/>
        </p:nvPicPr>
        <p:blipFill>
          <a:blip r:embed="rId6"/>
          <a:stretch/>
        </p:blipFill>
        <p:spPr>
          <a:xfrm>
            <a:off x="0" y="34290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“</a:t>
            </a:r>
            <a:r>
              <a:rPr b="0" lang="zh-CN" sz="4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把我们描绘下来吧，先生，早晨我们用露水的衣饰装扮着，是多么的美丽呀！用语言替花儿描绘一帧小照吧！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  <a:ea typeface="宋体"/>
              </a:rPr>
              <a:t>”</a:t>
            </a:r>
            <a:endParaRPr b="0" lang="en-US" sz="4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5638680" y="456840"/>
            <a:ext cx="38102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美好的太阳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是愉快生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源泉！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美好的工作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把大地装扮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Lucida Sans Unicode"/>
              </a:rPr>
              <a:t>得华丽美艳！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7"/>
          <p:cNvSpPr/>
          <p:nvPr/>
        </p:nvSpPr>
        <p:spPr>
          <a:xfrm>
            <a:off x="152280" y="30492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世界上最美好的事情，是去看一天是怎样诞生的！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                     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高尔基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微笑的太阳1"/>
          <p:cNvPicPr/>
          <p:nvPr/>
        </p:nvPicPr>
        <p:blipFill>
          <a:blip r:embed="rId2"/>
          <a:stretch/>
        </p:blipFill>
        <p:spPr>
          <a:xfrm>
            <a:off x="6553080" y="0"/>
            <a:ext cx="25401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304920" y="1311120"/>
            <a:ext cx="86119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美丽的东西永远是美丽的，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即使在它凋谢的时候；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我们所爱的东西我们会永远爱着，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即使在我们死去的时候</a:t>
            </a:r>
            <a:r>
              <a:rPr b="1" lang="en-US" sz="4500" spc="-1" strike="noStrike">
                <a:solidFill>
                  <a:srgbClr val="33cc33"/>
                </a:solidFill>
                <a:latin typeface="Arial"/>
              </a:rPr>
              <a:t>……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cc33"/>
                </a:solidFill>
                <a:latin typeface="Arial"/>
              </a:rPr>
              <a:t>一天开始了！</a:t>
            </a:r>
            <a:endParaRPr b="1" lang="en-US" sz="45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371600" y="914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中融入了作者怎样的情感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685800" y="2438280"/>
            <a:ext cx="57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676520" y="21337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赞美早晨的美丽景色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358128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1600200" y="41911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热爱自然、热爱生活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2590920" y="5335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685800" y="18288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作者抓住（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）刚刚升起时的特点，以（             ）、（            ）、（            ）和（           ）为主要描写对象，用准确优美的文字，从不同角度描绘了（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日出时独有的美景，抒发了作者对早晨由衷的（           ）之情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57200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太阳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34290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海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6172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1447920" y="281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鸟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3809880" y="2819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们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1523880" y="3809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早晨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441972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美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9" name="文本框 1"/>
          <p:cNvSpPr/>
          <p:nvPr/>
        </p:nvSpPr>
        <p:spPr>
          <a:xfrm>
            <a:off x="1523880" y="52624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模板尽在：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60020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1" lang="en-US" sz="3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990720" y="167652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同学们，学习了这篇文章，我们对美丽的早晨美景有了更深刻的印象，你也一定和老师、同学或父母一起享受过清晨、黄昏、雨后……运用所学的写作方法，把自己的所见所感记录下来。  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143000" y="2666880"/>
            <a:ext cx="754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33" name="WordArt 3"/>
          <p:cNvSpPr txBox="1"/>
          <p:nvPr/>
        </p:nvSpPr>
        <p:spPr>
          <a:xfrm>
            <a:off x="1066680" y="2057400"/>
            <a:ext cx="7315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课到此结束，谢谢大家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使用规范说明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Lucida Sans Unicode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Lucida Sans Unicode"/>
              </a:rPr>
              <a:t> </a:t>
            </a:r>
            <a:r>
              <a:rPr b="0" lang="zh-CN" sz="1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Lucida Sans Unicode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           </a:t>
            </a: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           </a:t>
            </a: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Lucida Sans Unicode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8119"/>
                </a:solidFill>
                <a:uFillTx/>
                <a:latin typeface="Lucida Sans Unicode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qiye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商务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市场营销策划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  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Lucida Sans Unicode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8064-3B31-4D02-B53A-59F167FC7D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6a84a74ba10bb1c383025c77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4952880" y="0"/>
            <a:ext cx="3657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尔基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8-19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苏联无产阶级作家，社会主义现实主义文学的奠基人。他出身贫苦，幼年丧父，十一岁就为生计在社会上奔波，当过装卸工、面包房工人。这些经历对他的思想和创作产生了重要的影响。代表作品有：《童年》、《在人间》、《我的大学》、《母亲》等。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752480" y="6858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1" lang="en-US" sz="4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533520" y="1676520"/>
            <a:ext cx="83055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初读课文，正确认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要求会认   的生字，掌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要求会写的字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再读课文，了解课文大意，理清文章脉络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体会本文景物描写的特点，感受大自然的美好，唤起学生对自然、对生活的热爱之情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4"/>
          <p:cNvSpPr/>
          <p:nvPr/>
        </p:nvSpPr>
        <p:spPr>
          <a:xfrm>
            <a:off x="3276720" y="16002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8" name="Text Box 2"/>
          <p:cNvSpPr/>
          <p:nvPr/>
        </p:nvSpPr>
        <p:spPr>
          <a:xfrm>
            <a:off x="1600200" y="2286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检查预习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457200" y="914400"/>
            <a:ext cx="7772400" cy="601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1" lang="en-US" sz="36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音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醇 （            ）  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       )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写一写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ū   gōng             chún   hòu                    wěn   ruì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      )           (                  )                (                  )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è sè                qiè     yì                     xīngsōng                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     )          (                 )               (                  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多音字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缝                                  钻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2438280" y="76212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章结构层次</a:t>
            </a:r>
            <a:endParaRPr b="1" lang="en-US" sz="4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228600" y="205740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概括说明早晨是一天中最美好的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—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具体描绘太阳升起时，海面上美丽的景色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—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具体描绘太阳升起时，陆地上美丽的景色。</a:t>
            </a:r>
            <a:endParaRPr b="1" lang="en-US" sz="3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Rectangle 2" descr=""/>
          <p:cNvPicPr/>
          <p:nvPr/>
        </p:nvPicPr>
        <p:blipFill>
          <a:blip r:embed="rId1"/>
          <a:stretch/>
        </p:blipFill>
        <p:spPr>
          <a:xfrm>
            <a:off x="0" y="685800"/>
            <a:ext cx="1371600" cy="9349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7315200" y="609480"/>
            <a:ext cx="16002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海浪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2514600" y="1752480"/>
            <a:ext cx="114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蜥蜴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7543800" y="1752480"/>
            <a:ext cx="1371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花儿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2514600" y="2895480"/>
            <a:ext cx="114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蜜蜂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391520" y="2895480"/>
            <a:ext cx="198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知更鸟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2590920" y="3962520"/>
            <a:ext cx="114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黄雀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781680" y="3962520"/>
            <a:ext cx="3124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家燕和雨燕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7162920" y="5257800"/>
            <a:ext cx="22096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蔷薇花</a:t>
            </a: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 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457200" y="685800"/>
            <a:ext cx="2590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和煦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457200" y="1752480"/>
            <a:ext cx="2666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惬意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304920" y="2895480"/>
            <a:ext cx="2438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金色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304920" y="3886200"/>
            <a:ext cx="2590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快乐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4800600" y="609480"/>
            <a:ext cx="2666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顽皮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4724280" y="1676520"/>
            <a:ext cx="327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沾满露水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4800600" y="2895480"/>
            <a:ext cx="2438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红胸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4648320" y="3962520"/>
            <a:ext cx="2590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幸福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4724280" y="5257800"/>
            <a:ext cx="2438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微笑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514600" y="5105520"/>
            <a:ext cx="114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人们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380880" y="5029200"/>
            <a:ext cx="2590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（勤劳的）</a:t>
            </a:r>
            <a:endParaRPr b="1" lang="en-US" sz="3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3059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描写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__________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时，作者使用了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修辞方法），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_______________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词语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表现了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_______________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_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事物的特点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表达了作者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_______________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__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的感情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676520" y="6094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太阳初升，带来光明</a:t>
            </a:r>
            <a:endParaRPr b="1" lang="en-US" sz="4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30400" y="27208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152280" y="265104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天空中突然闪出一丝阳光。夜的黑暗将悄悄地躲藏到山谷和石缝中去，躲藏到浓密的树叶里去，躲藏到沾满露水的乱草丛中去。山顶露出愉悦的笑容，仿佛在对夜的淡淡的阴影说：“别害怕，这是太阳！”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596" name="大自然的声音 - 纯音乐 未知歌手.mp3" descr=""/>
          <p:cNvPicPr/>
          <p:nvPr/>
        </p:nvPicPr>
        <p:blipFill>
          <a:blip r:embed="rId2"/>
          <a:stretch/>
        </p:blipFill>
        <p:spPr>
          <a:xfrm>
            <a:off x="8001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0:10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7:59Z</dcterms:modified>
  <cp:revision>8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