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chimes.wav" ContentType="audio/x-wav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6297-FB2C-4088-9F12-E5930B4CB65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9C44-70F7-4151-9912-7CAEB7831AE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9D53-AFBD-47CD-A9E0-C55F6E3D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BD96-FAC4-4319-BC61-BE5D3391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55F6-1FBA-4006-BC34-02E35A272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433F-8592-4512-A7CB-B221979A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F838-1FB5-4743-B760-1B1A6909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BEEC-30F4-4907-93FC-9469E97E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8577-7ECC-4870-ABD7-C8B7766F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B64F-6238-46D1-AF67-0767FC75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F008-4083-4513-BF6A-657FD75C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827C-FD66-43F6-8783-B01716C4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0FCE-7A27-4365-8465-7A51C4FA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3D4A-9ECA-4F0A-9958-77CF896E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C0D3-272E-4A2B-A4C6-2EEAC91878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2354400" y="2597040"/>
            <a:ext cx="4419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中宋"/>
              </a:rPr>
              <a:t>站起来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1699920" y="57913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DA02-81FB-4652-89C5-4543F32E1A8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143000" y="31240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7420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533520" y="2362320"/>
            <a:ext cx="7802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说一说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这两个自然段主要写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131840" y="264492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020320" y="1828800"/>
            <a:ext cx="4636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三个月后，父亲希望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到一个怎样的儿子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85800" y="3962520"/>
            <a:ext cx="753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看了孩子的表现，父亲是什么态度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948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父亲看到孩子的表现时，是什么反应？找出关键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772400" cy="1752480"/>
          </a:xfrm>
          <a:prstGeom prst="rect">
            <a:avLst/>
          </a:prstGeom>
          <a:ln w="0">
            <a:noFill/>
          </a:ln>
        </p:spPr>
      </p:pic>
      <p:sp>
        <p:nvSpPr>
          <p:cNvPr id="59" name="Line 4"/>
          <p:cNvSpPr/>
          <p:nvPr/>
        </p:nvSpPr>
        <p:spPr>
          <a:xfrm>
            <a:off x="3581280" y="3657600"/>
            <a:ext cx="259092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6324480" y="4191120"/>
            <a:ext cx="182880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914400" y="4800600"/>
            <a:ext cx="121932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914400" y="49528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结果真的是这样吗？听到父亲这么说，你觉得他说的对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315200" cy="1417680"/>
          </a:xfrm>
          <a:prstGeom prst="rect">
            <a:avLst/>
          </a:prstGeom>
          <a:ln w="0">
            <a:noFill/>
          </a:ln>
        </p:spPr>
      </p:pic>
      <p:sp>
        <p:nvSpPr>
          <p:cNvPr id="65" name="Oval 5"/>
          <p:cNvSpPr/>
          <p:nvPr/>
        </p:nvSpPr>
        <p:spPr>
          <a:xfrm>
            <a:off x="3429000" y="3124080"/>
            <a:ext cx="1219320" cy="533520"/>
          </a:xfrm>
          <a:prstGeom prst="ellipse">
            <a:avLst/>
          </a:prstGeom>
          <a:solidFill>
            <a:srgbClr val="ff6600">
              <a:alpha val="4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6"/>
          <p:cNvSpPr/>
          <p:nvPr/>
        </p:nvSpPr>
        <p:spPr>
          <a:xfrm>
            <a:off x="3886200" y="3733920"/>
            <a:ext cx="1219320" cy="533160"/>
          </a:xfrm>
          <a:prstGeom prst="ellipse">
            <a:avLst/>
          </a:prstGeom>
          <a:solidFill>
            <a:srgbClr val="ff6600">
              <a:alpha val="4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7"/>
          <p:cNvSpPr/>
          <p:nvPr/>
        </p:nvSpPr>
        <p:spPr>
          <a:xfrm>
            <a:off x="2209680" y="3733920"/>
            <a:ext cx="990720" cy="533160"/>
          </a:xfrm>
          <a:prstGeom prst="ellipse">
            <a:avLst/>
          </a:prstGeom>
          <a:solidFill>
            <a:srgbClr val="ff6600">
              <a:alpha val="4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1523880" y="4648320"/>
            <a:ext cx="2895840" cy="1981080"/>
          </a:xfrm>
          <a:prstGeom prst="cloudCallout">
            <a:avLst>
              <a:gd name="adj1" fmla="val 1875"/>
              <a:gd name="adj2" fmla="val -104949"/>
            </a:avLst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丝毫没有    害怕的样   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5334120" y="3124080"/>
            <a:ext cx="609480" cy="533520"/>
          </a:xfrm>
          <a:prstGeom prst="ellipse">
            <a:avLst/>
          </a:prstGeom>
          <a:solidFill>
            <a:srgbClr val="ff660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609480" y="1828800"/>
            <a:ext cx="788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孩子在与巨人摔跤时，是怎样的表现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画出表示动作的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094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父亲后来是怎样想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914400" y="2819520"/>
            <a:ext cx="7315200" cy="2063520"/>
          </a:xfrm>
          <a:prstGeom prst="rect">
            <a:avLst/>
          </a:prstGeom>
          <a:ln w="0">
            <a:noFill/>
          </a:ln>
        </p:spPr>
      </p:pic>
      <p:sp>
        <p:nvSpPr>
          <p:cNvPr id="73" name="Line 4"/>
          <p:cNvSpPr/>
          <p:nvPr/>
        </p:nvSpPr>
        <p:spPr>
          <a:xfrm>
            <a:off x="2286000" y="3276720"/>
            <a:ext cx="281952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1066680" y="3809880"/>
            <a:ext cx="708660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1066680" y="4343400"/>
            <a:ext cx="228600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5181480" y="3809880"/>
            <a:ext cx="533520" cy="533520"/>
          </a:xfrm>
          <a:prstGeom prst="ellipse">
            <a:avLst/>
          </a:prstGeom>
          <a:solidFill>
            <a:srgbClr val="ff6600">
              <a:alpha val="4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1752480" y="5105520"/>
            <a:ext cx="3581640" cy="1066680"/>
          </a:xfrm>
          <a:prstGeom prst="wedgeRoundRectCallout">
            <a:avLst>
              <a:gd name="adj1" fmla="val 45657"/>
              <a:gd name="adj2" fmla="val -131398"/>
              <a:gd name="adj3" fmla="val 16667"/>
            </a:avLst>
          </a:prstGeom>
          <a:solidFill>
            <a:srgbClr val="ff66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儿子倒下去又站起来的勇气和毅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9"/>
          <p:cNvSpPr/>
          <p:nvPr/>
        </p:nvSpPr>
        <p:spPr>
          <a:xfrm>
            <a:off x="914400" y="3276720"/>
            <a:ext cx="1143000" cy="533160"/>
          </a:xfrm>
          <a:prstGeom prst="ellipse">
            <a:avLst/>
          </a:prstGeom>
          <a:solidFill>
            <a:srgbClr val="ff6600">
              <a:alpha val="4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3809880" y="3276720"/>
            <a:ext cx="1371600" cy="533160"/>
          </a:xfrm>
          <a:prstGeom prst="ellipse">
            <a:avLst/>
          </a:prstGeom>
          <a:solidFill>
            <a:srgbClr val="ff6600">
              <a:alpha val="4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04560" y="5335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696080" cy="4441680"/>
          </a:xfrm>
          <a:prstGeom prst="rect">
            <a:avLst/>
          </a:prstGeom>
          <a:ln w="0">
            <a:noFill/>
          </a:ln>
        </p:spPr>
      </p:pic>
      <p:sp>
        <p:nvSpPr>
          <p:cNvPr id="82" name="Line 4"/>
          <p:cNvSpPr/>
          <p:nvPr/>
        </p:nvSpPr>
        <p:spPr>
          <a:xfrm>
            <a:off x="1905120" y="3809880"/>
            <a:ext cx="617220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838080" y="4800600"/>
            <a:ext cx="731520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838080" y="4343400"/>
            <a:ext cx="731520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838080" y="5410080"/>
            <a:ext cx="297180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818000" y="1219320"/>
            <a:ext cx="39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方正楷体_GBK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楷体_GBK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楷体_GBK"/>
              </a:rPr>
              <a:t>文中哪句话感动了你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533520" y="2133720"/>
            <a:ext cx="831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Arial"/>
              </a:rPr>
              <a:t>你觉得还有什么是真正的男子气概？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"/>
          <p:cNvSpPr/>
          <p:nvPr/>
        </p:nvSpPr>
        <p:spPr>
          <a:xfrm>
            <a:off x="965160" y="5918040"/>
            <a:ext cx="50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7T13:48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18:39Z</dcterms:modified>
  <cp:revision>2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NXTAG2">
    <vt:lpwstr>0008005009000000000001024120</vt:lpwstr>
  </property>
  <property fmtid="{D5CDD505-2E9C-101B-9397-08002B2CF9AE}" pid="4" name="Version">
    <vt:r8>1</vt:r8>
  </property>
</Properties>
</file>