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F84-ACAB-44FE-A8E3-95A64AB1FB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AFF8-8F44-4DF1-9189-FD6339058D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162-123E-44A1-B5B9-105436D0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331-68F1-4FB9-9266-B92AF26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150-17F9-4E65-A710-2F0E43C2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F77-7D02-4DDC-B7C6-B6277797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166-3C0B-4004-9F8D-F4ED80A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FEA-B4AB-4DF0-ACC7-059297C8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610-3B1C-47FF-A323-437D3EC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EE9-0839-46BD-A1C3-40B7489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AC8-2DFD-4261-B11B-1EEBC24A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073-B9A6-48C1-8CAD-AF3F974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934-2E3E-49F3-9D63-96E70DA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C7C-4E69-4D16-AB23-7B85DC9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216-C260-4060-9224-96293FB8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914400" y="1030320"/>
            <a:ext cx="6019920" cy="14461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943280" y="6002280"/>
            <a:ext cx="567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86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88400" y="3154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仍叫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8288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7652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0696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木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2098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7652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村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10696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造新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38098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576520" y="4327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修公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106960" y="4327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架大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9880" y="461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6248520" y="1676520"/>
            <a:ext cx="228600" cy="3429000"/>
          </a:xfrm>
          <a:custGeom>
            <a:avLst/>
            <a:gdLst>
              <a:gd name="textAreaLeft" fmla="*/ 0 w 228600"/>
              <a:gd name="textAreaRight" fmla="*/ 8244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4876920" y="152280"/>
            <a:ext cx="3352680" cy="1752840"/>
          </a:xfrm>
          <a:prstGeom prst="cloudCallout">
            <a:avLst>
              <a:gd name="adj1" fmla="val 53550"/>
              <a:gd name="adj2" fmla="val 6159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们为什么把后来修建的桥仍称做皮巧根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363760" y="2743200"/>
            <a:ext cx="866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陡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踩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刺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41960" y="2743200"/>
            <a:ext cx="6379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磨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斧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高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渐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栏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128960" y="2286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，组成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25680" y="19810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坡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5680" y="350532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踩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彩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869080" y="19810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栏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烂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869080" y="350532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根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艰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259092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957320" y="228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你在括号里填入合适的量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15760" y="1981080"/>
            <a:ext cx="1628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小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白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树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830920" y="1981080"/>
            <a:ext cx="1400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513000" y="43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字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41360" y="161460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皮巧根想在小河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座桥。（搭   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" y="2903400"/>
            <a:ext cx="90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后来，白柳树渐渐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（烂   滥）说不定哪天就会让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断。（彩  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6320" y="4648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桥两边有漂亮的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杆。（栏   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220760" y="605304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844280" y="3808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把下列的两句话合并成一句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056120" y="1371600"/>
            <a:ext cx="104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）小象伸直鼻子。小象冲着满是污泥的车身喷起了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03680" y="3886200"/>
            <a:ext cx="169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）邻居们看到了这一家的变化。邻居们也开始粉刷房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533520" y="274320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533520" y="51055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F543-8254-4111-AA9A-7C09A41A1E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4960" y="1209600"/>
            <a:ext cx="8072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上学路上，同学们爱讲一些英雄故事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i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总是不声不响地听着，他是个言语不多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像所有同学一样，皮巧根也喜欢跳过急水河，抄近路上学。这是一条小河，两岸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ǒ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峭，要跳过去很不容易。去年有一个男孩，没能跳到河对岸，扑通一下掉进了河里。有两个小姑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ǎ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刚结的冰过河，也落到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骨的河水里。大人们都不许孩子抄近路上学了，但谁愿意去走远路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想在小河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座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04028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685800"/>
            <a:ext cx="7920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天放学回家，他在河边看见一株被大风刮倒的白柳。他赶忙跑回家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快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，来到白柳树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粗大的树，他砍到第三天，才砍下一段结实的树干。树干圆圆的，树皮滑滑的，走上去还是会有危险。皮巧根就留下几根树枝儿，给过桥的人当扶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请来爷爷帮忙，他俩用绳子拴住树干一头，站在对岸的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，拉呀，拉呀，把树干搭在小河中间，一座又安全又方便的木桥架起来了。从此以后，孩子和大人来来往往都走这条道了。大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皮巧根桥，方便多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1280" y="1066680"/>
            <a:ext cx="79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白柳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渐朽烂，说不定哪天会让人踩断。村民们找来最好的木材，造起了一座新桥。这座桥的名字还是叫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多久，新修的公路要通过这里，一座大桥架起来了，桥面又宽又平，两边有漂亮的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杆。这样的桥总得给个响亮的名儿吧？可人们还叫它的老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4960" y="1219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上学路上，同学们爱讲一些英雄故事。皮巧根总是不声不响地听着，他是个言语不多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像所有同学一样，皮巧根也喜欢跳过急水河，抄近路上学。这是一条小河，两岸陡峭，要跳过去很不容易。去年有一个男孩，没能跳到河对岸，扑通一下掉进了河里。有两个小姑娘踩着刚结的冰过河，也落到了刺骨的河水里。大人们都不许孩子抄近路上学了，但谁愿意去走远路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想在小河上搭一座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02444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295280" y="4572000"/>
            <a:ext cx="3657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410080" y="0"/>
            <a:ext cx="3200400" cy="1905120"/>
          </a:xfrm>
          <a:prstGeom prst="cloudCallout">
            <a:avLst>
              <a:gd name="adj1" fmla="val 50347"/>
              <a:gd name="adj2" fmla="val 7033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皮巧根是个怎样的孩子？你是从哪儿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586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8288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7652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0696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木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809880" y="2098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11280" y="685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天放学回家，他在河边看见一株被大风刮倒的白柳。他赶忙跑回家，磨快了斧子，来到白柳树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粗大的树，他砍到第三天，才砍下一段结实的树干。树干圆圆的，树皮滑滑的，走上去还是会有危险。皮巧根就留下几根树枝儿，给过桥的人当扶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请来爷爷帮忙，他俩用绳子拴住树干一头，站在对岸的高坡上，拉呀，拉呀，把树干搭在小河中间，一座又安全又方便的木桥架起来了。从此以后，孩子和大人来来往往都走这条道了。大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皮巧根桥，方便多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295280" y="1447920"/>
            <a:ext cx="5867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645280" y="44136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，改一改，把下面的每组三句话合成一句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93760" y="1461960"/>
            <a:ext cx="12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赶忙跑回家。他磨快了斧子。他来到白柳树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95400" y="3886200"/>
            <a:ext cx="89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来到图书馆。我查阅资料。我找到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边的小英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495360" y="571500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3560" y="10666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白柳树渐渐朽烂，说不定哪天会让人踩断。村民们找来最好的木材，造起了一座新桥。这座桥的名字还是叫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多久，新修的公路要通过这里，一座大桥架起来了，桥面又宽又平，两边有漂亮的铁栏杆。这样的桥总得给个响亮的名儿吧？可人们还叫它的老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838080" y="182880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743200" y="25909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6781680" y="259092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4952880" y="32767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914400" y="36576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7772400" y="3276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51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18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