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4F5B-B0C6-467E-A13E-E24F1F903D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AF31-DB4E-475B-BB68-125E078B39A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3E31-5D2D-463D-9038-6107D173F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001A-AD1D-425D-BB2B-29E834AD5A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CBFE2-1552-4197-B26B-A32E6BBACA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30612-E0A4-4853-81CD-8B74394D820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FC894-E0EE-4BA1-A5EE-B30FEFC1374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DB49C-268A-4728-8DC0-4C7D04A087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95C94-89A1-403D-A645-269FAE93C7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9A709-D544-4F12-946D-6E7E495059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2D8FB-B9AB-4686-90EB-282A12C257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531BF-36FB-49CF-9669-974D0263AAF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969D1-27B3-4A86-9019-CD38B8A616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B08AA7-7469-46A4-8A51-3A0BC1AC0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BD6F-EB07-421C-B916-A4399060C8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F741AD-183E-4329-9EA1-E85DDF6D2C4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F0B5BA-E200-470F-9995-D867F46D6CE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7098DF-17B6-44C9-B325-8C2390C0A50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4CCDBA-DBF4-40CB-B133-62859AE834C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E49685-1640-4035-A8CF-8B0F934A6A0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DD59D9-E32F-4584-B739-41038848379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65BA98-59AC-40BB-99C3-20952FDAAF9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9253E-0E91-4CD6-A9F5-11095D7302A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5FD2B2-CB15-45F2-9AE9-EBEF8431A24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1F2C5-708A-4764-AC0C-D7062592F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51CF-A58E-43F7-8ED4-EE26958BC5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2FE922-89A9-4C28-A5F1-78AA4BF84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B93-F0A6-494D-84B7-3EFFC00E16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247-D8AA-4AF8-96B3-BF3D0C42FD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F89-508E-4179-96D8-D966EA806E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251-81A5-430C-8952-F337E78E90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47B-BF46-4D1B-AD40-E15EBE8C27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AEE-9E91-4133-B202-ADACE60D1B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F32-61A6-441F-AC3E-1DD3235AD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D05F-94C1-4D25-B73F-5F320F211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1AE-71FF-434D-85D0-76D042DB31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324-0C28-4477-86D8-125C2D82B9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3D1-9360-49BB-9171-EDE414120C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BE5-C48B-4BFF-BCB0-BC53544A3B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7ED-7997-479F-8DE0-DC8769EF57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06B34-9FC4-4119-9857-B1F42FFB9F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82ECC-4330-439B-9A0A-109AC3AA5E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DC59F-68BD-4B87-A2AD-8C007C7383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77109-B6A4-415A-9198-DC2D09D0F7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0E1B0-6120-4457-B024-1835E84D6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B0DB-F226-4262-A2A1-59BFE5CB62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E5DA9-E250-4E21-A088-05BB93F27D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2C73A-13CF-47ED-BA55-018C9F932A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E3780-D76D-418B-8C7F-7250565595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17BAA-BDB2-482E-96F5-F684A82F45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8FF87-987A-4B4C-8B1D-C3868AC162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5408F-10A7-4370-8D95-4BCF6763F8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64CDC-8A42-4EB5-BC6C-3650689D03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B36395-5F5A-4CF9-8056-17ABEE87A5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72BB4-0377-41D1-BEE2-C6D18D9D88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7ECA4-0E46-4983-9EC5-5F7116978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473D-A77D-4264-9231-3C1A0DC639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5AB01-4B4C-4877-B5E6-F5F0143617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A0134-C811-4ED6-BDE0-3CAF7F52EE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3DFF2-67ED-4A1B-BFB3-2767546FB8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0C8FC-0F56-4C82-B23C-D084079837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DE0E8F-0BD0-481C-AC84-140F06E987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1BB9E-8721-44AE-9702-D62E86B5FF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D2BE7-12A9-4405-93B6-6ACE655684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562954-A318-4DE9-820C-381449DA51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F9457-92C0-4310-85FA-A52C077D60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3058-8C4B-41EE-BA78-F565F7D5B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BDEF-22BC-4568-951E-A7CC7ED8B9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A43AB-1941-4C7F-AF0D-E63E889BD31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15A0-363E-4708-8DB1-B53F0640DA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91DB-619C-4F2B-85F4-3D0997A050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AF24-C62C-4EBB-8334-1236AF4A2A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E21C-19E9-4812-9BA7-55B44B5A60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64277-F1B9-4989-8DAB-307BF640543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31ED-907A-48B9-8C59-97FF59E700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2EC4-DFFC-4473-84D8-4EF2D0F82C4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013C-FF29-45C2-B737-5B80B8875A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0F59-B9ED-488D-AC9F-43E62D398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EC1B-7E1B-4BC6-BF3A-BD50DE8D3C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DDAE-C672-4616-858F-5E66B461FD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0082F-2C9F-4AD6-9AC5-A2B730049F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D812A9-4B7B-4A85-B9B1-AAA5005B9B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D9B83-993D-4667-B0BE-7149C8AE6EC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3030F-31A3-49BA-819C-215062C3C5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AF2FF-43B5-4481-B6BB-14B03C4C72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C891F-AC2B-4884-8A75-CDE81F5F91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F7B95-35C0-43D2-99C3-3D76CAB0FF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7A01A-B277-4BCB-BCB7-ADFB9E93459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9A1E5-C284-4B70-B9DE-294450F74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FAB8-4E2F-42E2-B847-7AFDB08BB4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7518F-1CAF-462C-874F-6E6C78A8EE1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747C5-E2D3-4092-9EBA-8A8F0903D37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AAD99-06E7-4726-96BF-142880483E5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761D12-2276-4C00-B27E-21CC2CB021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D05358-BE80-42DA-975A-F3D8C54ACC4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6C2976-7BB8-4E6B-AF6B-7F33995303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18C8EB-9837-4954-B67D-4E9595B11D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1237D-3C9D-480C-BC49-E8A36A3F01F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1DB8D4-177D-47A0-8AD0-CB7CBAB8C8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65A2EA-8180-40B3-ADCC-BD0C8562B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E2A6-FD56-4C3B-9552-21C5C26029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B2EC6-A765-408F-BA80-A2DD59C0E3A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4227B-BB86-47C1-8971-4851A6DEFE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83666C-7C1D-4169-8859-5CEF8FA289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614E69-49AC-41EC-A50E-69A27889D8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67F11E-EE01-4271-8D29-97F501E7DCA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AC4AA-93D2-490D-819C-23D9607DEB9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8179-277C-49E8-B255-2C6519008C5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9FD93-4FAA-428F-9059-0A393E894B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4ACF3-E5BE-4B7A-9538-F19F298979A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E10CD-C5EB-4991-BAF8-D49491EFC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91B7-17F7-45FE-98D8-635F4A2FBC2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35B8D-E4D2-4A0E-ABE2-381D0D34E7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9AE8-CFF8-4D59-A050-D47C4CF251E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1D39-D3AF-43DF-98B0-2E3E90FD700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A77B9-D229-48E8-8AFB-25928CB7F3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52BB-950B-4D49-AF4B-2A90D6A68FB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C62E-766E-4C48-8D08-6A6245927B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3ECCF-D3C0-423C-B24B-55E45CD87B2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C9A3D-59D1-4DBD-8B33-32331508A4E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5216F-AE17-46CD-8DE4-FD86B8AB473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5237E-DA1B-455E-9DF8-AA298A8A6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3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BCA4-E77D-445A-BB42-47D8480369A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695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8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9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EAE4-FED9-41C9-8044-1BEF2C582BC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79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2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3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9D4D-1604-4DB1-85CB-B42B8A01EF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156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4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5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0CBE-1BAD-438D-81D4-6ADABF710C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233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6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7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FA56-725A-4245-9E30-8ED73995B83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310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8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9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8F61-76CD-46E7-8E36-13C44FCE96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387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10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1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7819-AA0D-4D06-BDD1-90780B138A4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464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ftr" idx="12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13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7413-E6F6-49E3-84A8-A94FC81451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541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14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15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47BB-8CC5-41CE-8398-AD825725DC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618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16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17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2679-6C93-4C41-AD00-F3A31748EC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5"/>
          <p:cNvSpPr/>
          <p:nvPr/>
        </p:nvSpPr>
        <p:spPr>
          <a:xfrm>
            <a:off x="1828800" y="28195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楷体_GB2312"/>
              </a:rPr>
              <a:t>走进大自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"/>
          <p:cNvSpPr/>
          <p:nvPr/>
        </p:nvSpPr>
        <p:spPr>
          <a:xfrm>
            <a:off x="195084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3366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4"/>
          <p:cNvSpPr/>
          <p:nvPr/>
        </p:nvSpPr>
        <p:spPr>
          <a:xfrm>
            <a:off x="1371600" y="1219320"/>
            <a:ext cx="6172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追着小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走进密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追着小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走进深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追着会飞的花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我们走进大自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066680" y="1676520"/>
            <a:ext cx="5486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让小锤去叩醒每一块山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让画笔去访问每一片花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高高举起洁白的昆虫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网住一个斑斓的秋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5" descr="0680360188"/>
          <p:cNvPicPr/>
          <p:nvPr/>
        </p:nvPicPr>
        <p:blipFill>
          <a:blip r:embed="rId1"/>
          <a:stretch/>
        </p:blipFill>
        <p:spPr>
          <a:xfrm>
            <a:off x="5791320" y="3962520"/>
            <a:ext cx="1809720" cy="128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4"/>
          <p:cNvSpPr/>
          <p:nvPr/>
        </p:nvSpPr>
        <p:spPr>
          <a:xfrm>
            <a:off x="1143000" y="1219320"/>
            <a:ext cx="6400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把自己变成大树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去体验大地的深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把自己变成白云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去感受蓝天的辽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把自己融进大自然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这样，会发现生活更加灿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5" descr="0680360199"/>
          <p:cNvPicPr/>
          <p:nvPr/>
        </p:nvPicPr>
        <p:blipFill>
          <a:blip r:embed="rId1"/>
          <a:stretch/>
        </p:blipFill>
        <p:spPr>
          <a:xfrm>
            <a:off x="5715000" y="2133720"/>
            <a:ext cx="1809720" cy="1285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小女孩"/>
          <p:cNvPicPr/>
          <p:nvPr/>
        </p:nvPicPr>
        <p:blipFill>
          <a:blip r:embed="rId1"/>
          <a:stretch/>
        </p:blipFill>
        <p:spPr>
          <a:xfrm>
            <a:off x="0" y="3581280"/>
            <a:ext cx="1587600" cy="19051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图片2"/>
          <p:cNvPicPr/>
          <p:nvPr/>
        </p:nvPicPr>
        <p:blipFill>
          <a:blip r:embed="rId2"/>
          <a:stretch/>
        </p:blipFill>
        <p:spPr>
          <a:xfrm>
            <a:off x="1143000" y="1371600"/>
            <a:ext cx="6324480" cy="2495520"/>
          </a:xfrm>
          <a:prstGeom prst="rect">
            <a:avLst/>
          </a:prstGeom>
          <a:ln w="0">
            <a:noFill/>
          </a:ln>
        </p:spPr>
      </p:pic>
      <p:sp>
        <p:nvSpPr>
          <p:cNvPr id="806" name="Text Box 7"/>
          <p:cNvSpPr/>
          <p:nvPr/>
        </p:nvSpPr>
        <p:spPr>
          <a:xfrm>
            <a:off x="2209680" y="1752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我喜欢“叩醒”这个词，我好像听到小锤打山石的叮当声了</a:t>
            </a:r>
            <a:r>
              <a:rPr b="1" lang="en-US" sz="3200" spc="-1" strike="noStrike">
                <a:solidFill>
                  <a:srgbClr val="3366ff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"/>
          <p:cNvSpPr/>
          <p:nvPr/>
        </p:nvSpPr>
        <p:spPr>
          <a:xfrm>
            <a:off x="1812960" y="512136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685800" y="19810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找出课文中你喜欢的词句，谈谈体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D1E-995C-4DC0-A531-6EC17688E4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5" descr="mhzl_83u43271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5" descr="2006110910022936150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5" descr="14"/>
          <p:cNvPicPr/>
          <p:nvPr/>
        </p:nvPicPr>
        <p:blipFill>
          <a:blip r:embed="rId1"/>
          <a:stretch/>
        </p:blipFill>
        <p:spPr>
          <a:xfrm>
            <a:off x="1441440" y="1219320"/>
            <a:ext cx="6019920" cy="4432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矩形 3"/>
          <p:cNvSpPr/>
          <p:nvPr/>
        </p:nvSpPr>
        <p:spPr>
          <a:xfrm>
            <a:off x="3733920" y="43434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9" descr="705da36410cb21d8f6365438"/>
          <p:cNvPicPr/>
          <p:nvPr/>
        </p:nvPicPr>
        <p:blipFill>
          <a:blip r:embed="rId1"/>
          <a:stretch/>
        </p:blipFill>
        <p:spPr>
          <a:xfrm>
            <a:off x="1523880" y="838080"/>
            <a:ext cx="6477120" cy="4775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5" descr="DSC04120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4"/>
          <p:cNvSpPr/>
          <p:nvPr/>
        </p:nvSpPr>
        <p:spPr>
          <a:xfrm>
            <a:off x="2133720" y="19051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419112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k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72200" y="19051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4191120" y="19051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20574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ch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59436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f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2209680" y="3962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"/>
          <p:cNvSpPr/>
          <p:nvPr/>
        </p:nvSpPr>
        <p:spPr>
          <a:xfrm>
            <a:off x="6248520" y="3962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2"/>
          <p:cNvSpPr/>
          <p:nvPr/>
        </p:nvSpPr>
        <p:spPr>
          <a:xfrm>
            <a:off x="4267080" y="3962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3"/>
          <p:cNvSpPr/>
          <p:nvPr/>
        </p:nvSpPr>
        <p:spPr>
          <a:xfrm>
            <a:off x="4114800" y="3352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b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2057400" y="3352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k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5"/>
          <p:cNvSpPr/>
          <p:nvPr/>
        </p:nvSpPr>
        <p:spPr>
          <a:xfrm>
            <a:off x="6248520" y="3352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l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4"/>
          <p:cNvSpPr/>
          <p:nvPr/>
        </p:nvSpPr>
        <p:spPr>
          <a:xfrm>
            <a:off x="990720" y="1752480"/>
            <a:ext cx="685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密林  叩醒  访问  花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网住  深沉  感受  融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0769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什么是大自然，我们怎样走进大自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走进大自然后我们该怎样体验、感受大自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从大自然中我们能得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WordArt 6"/>
          <p:cNvSpPr txBox="1"/>
          <p:nvPr/>
        </p:nvSpPr>
        <p:spPr>
          <a:xfrm>
            <a:off x="6019920" y="1065240"/>
            <a:ext cx="2057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思考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29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1:40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