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click.wav" ContentType="audio/x-wav"/>
  <Override PartName="/ppt/media/image5.jpeg" ContentType="image/jpeg"/>
  <Override PartName="/ppt/media/type.wav" ContentType="audio/x-wav"/>
  <Override PartName="/ppt/media/image14.gif" ContentType="image/gif"/>
  <Override PartName="/ppt/media/image4.jpeg" ContentType="image/jpeg"/>
  <Override PartName="/ppt/media/suction.wav" ContentType="audio/x-wav"/>
  <Override PartName="/ppt/media/image3.jpeg" ContentType="image/jpeg"/>
  <Override PartName="/ppt/media/image15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breeze.wav" ContentType="audio/x-wav"/>
  <Override PartName="/ppt/media/chimes.wav" ContentType="audio/x-wav"/>
  <Override PartName="/ppt/media/wind.wav" ContentType="audio/x-wav"/>
  <Override PartName="/ppt/media/image19.jpeg" ContentType="image/jpeg"/>
  <Override PartName="/ppt/media/image1.jpeg" ContentType="image/jpeg"/>
  <Override PartName="/ppt/media/image18.jpeg" ContentType="image/jpeg"/>
  <Override PartName="/ppt/media/image13.jpeg" ContentType="image/jpeg"/>
  <Override PartName="/ppt/media/image21.png" ContentType="image/png"/>
  <Override PartName="/ppt/media/image16.gif" ContentType="image/gif"/>
  <Override PartName="/ppt/media/image12.png" ContentType="image/png"/>
  <Override PartName="/ppt/media/image20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voltage.wav" ContentType="audio/x-wav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0ED2-4DB3-4BD1-A3B7-150BE915DC7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5716-F2CB-4C04-8511-78D21785FEA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238D-ECCF-4735-9FC2-AC1CAE75B950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9F41-9B3D-4D83-8213-FE01E7042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6AA8-6F2A-4A98-9CEE-9A0A8FFF2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95A95-C6BA-42CE-9AE7-A38DE187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D4EF6-AFF1-47E4-9767-AC597FD9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97852-E9DE-45A7-AC8E-6ED91077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09C71-E71E-4772-AE3C-B3D7EBD2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9E378-C237-4674-9B28-E7EACC62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38F24-DB19-4C74-A5B9-AE6A5C4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E6449-C1FD-45A8-B3FE-75F3F877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A05D2-47A9-42C5-8F3E-44665175F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707503-E0E9-4E17-9332-A84A06DD8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389CBD-C293-4D75-9E65-2416FF5F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CD43-D3DD-46CC-A203-C65C33D49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176C2B-595B-4721-B0C5-5D9E8021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D7DD2-5E52-4A39-AA7D-92B26485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D4426-337C-426A-92F1-63365383C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71319-FF18-47EC-B373-91BB8658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97EA1-4780-4505-89FE-418B69187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1E792-08EE-4212-B8E8-B3DE1557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825EC-F421-45B5-B6EF-C1FD2EB8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0B67C2-AD5D-4935-B448-B404B2C3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D22747-4C6E-4D08-B143-AC7808D4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364CF-FDB0-4541-B564-94A01433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729-7AC5-4652-8FCC-47677154A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77795D-9F95-4945-9747-7CC34E6C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810EE-0A1A-4A07-9D16-CC306F76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C5A442-9212-4F57-8412-104B92A55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8664F5-0F0E-4646-8991-7BD98200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214112-75A3-46B7-8536-CCB4D475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005AD2-38D7-4C19-AB82-12F31028E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6C1ED-D2F2-4C8E-AC54-80925FE3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A303A3-CDE0-4E08-A01E-86B8EF2F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AFC3B-EFB2-4F9F-A392-7A48BFC9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A0597-7A9A-4129-90E2-79D16948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87DD-7CD7-4FE5-B1C5-812D537EC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896E5-57E5-4A83-8988-2FE512C9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1F788-74DA-47CB-A9C7-5F793874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73F5-2310-4082-9A31-F1A5B624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07D86-A5FB-4172-A3A7-C24077FF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4A2A60-67D1-492E-9B8A-B0EA4FEE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C0AF8C-730C-45F4-9E13-639D48555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8D20AA-41A7-49DC-A199-26187C2E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1D6DA-25B7-43B9-9427-8DE9EEC8C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599F6-58E5-460D-BF82-C479AF3E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9AF1D-0F67-4E88-B07F-2EA926E9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13CB-74EF-4BC5-9FFA-6A6F855C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61EF0-D225-4754-8E24-7A61F1C7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507F4-62C2-4309-81DF-42D4CB91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51220-0C96-4F1F-959D-94F9C917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F74D9-9FF7-4CCC-A9D5-1C8E0AD2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B07DC-EBD9-4594-818C-6C06BBAEA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08F2B-BBEC-4100-8FFC-65AFBDD7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A2523-46DD-4A79-8A36-6C06BB51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2CFF-290F-4093-85EC-2B228BCF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D9C3-7B14-454E-9155-95F0922B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C8A-F54B-49B9-8723-A9C84AD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6CA8-AABC-4F10-9F26-2A60149F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7702-2EA7-4600-8F8B-9EC99B03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3A7D-7913-4D8C-91B1-120A9CB0C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3FF97-2B66-4381-8C9F-11FAB7E8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D1480-3891-4F4E-B177-A8DFD02E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E61E0-89E9-4838-ACBD-7CAAD704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860EB-54FE-4437-BEED-983D8C1A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B94B-6C23-4E01-99B3-D2A8FD1E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31A24-E72C-472D-ABBF-2C11F04B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51F66-A679-47A8-B0E8-6AA58916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21BC-100A-4A5B-B022-03CB8716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A609-4713-4D72-91EC-934CB218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3379B-5DBC-4881-BA13-D8C2A0C0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9654D-8D87-4BBF-A8AA-FD929178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F2BCE-4DA4-4D5C-9765-52D54820D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495B5-FB2C-4DAA-AFB3-D799A0CC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5E3C8-D5AC-4FD6-AB8E-4B2D8D70C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EE77-D0E3-4474-A745-A62AADBB6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B729E-7365-4978-9832-95A65E0E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A084-2371-4B8B-90FA-D46EECA11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4A41D-6B47-4FD8-916D-B2F178C8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090CA-3982-49F9-84DF-2186A6E4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DAC0-A3BF-4B4E-8FDA-E01142DA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B9EB2-F797-4FB4-9566-7E9B25B54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7022D-A15A-481F-B68C-DF230D8B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F02F4-99F1-4160-ABAD-94C749CB2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E941A-B139-4D12-8F62-1DD0708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6E003-0072-49A3-B82E-DCF69659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44ACF7-70E4-4431-999A-F13BE2BC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05039-26D9-40DF-A4CA-847C34C7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D158B-7910-40A2-90BC-F5F46043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6CD06-AD7B-4E58-8916-5C779AD10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095E51-23F7-4316-8495-EB7E973A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8B3-0F50-4E08-8B37-799980D0A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AE87C-DBCF-40E5-AE4E-4723A9C8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9AB95-D62A-4DD1-A00A-B795BE41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28B79-D892-4DEE-A51C-21F84E89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1583F-B074-42D1-A7E6-C4C46973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9F065-D8FC-41DC-AF56-9D8A4FCC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6B12B-3806-47E0-B141-9000A646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B6D76-2608-49E6-87AD-9C1CC937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F6A0B-3C62-42F1-AAEA-1B175514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FF797-04E6-4FA3-91FB-28BFACBF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C6419-72A5-469A-8066-62A1DE89A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05BC-6D2C-4047-936C-85DA9CA93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D960D3-7353-440A-BB10-3E4BA3D85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1D9DE-4381-41C6-9D66-9386AA9A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470DA-204D-457E-9E82-0D9FF93E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4F64C-A999-45B0-BAC2-50FC04C4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2B56F-815C-43ED-BC3D-D5706AB5E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3D1C13-DE32-45AA-80E9-9FE9AF3D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85EF0-5965-4CAB-83D5-325E349E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04430-D152-40E4-B312-139BEA03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3DDA-DED2-489A-A5FD-13DB17AF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2A375-BCED-4B9B-818C-DF936D98D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AF3-B726-407E-99FC-E78FD7B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FEC9A-CF07-437A-9863-7733CA73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E1346-B817-496F-8C32-CB42941B8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F17077-5088-4101-9A4D-DF3261FE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CB614-AE6E-489B-A2A0-E982D5E85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ACC5C-A304-4262-A035-17278603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99907-5543-4303-88A1-5E607B1A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57B0E-88B3-44F5-A46B-BC9A29A3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0220-BB59-41FF-A398-5A1F0DBBF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D3BCB-2FE0-40A2-A227-3970C889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6EDAA-F289-4650-B25D-746742F6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91D9-8928-4186-8AF1-01DFD4C6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DE173-D6ED-46D7-852C-43F1CDDF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6E760-47F1-4D94-AF1B-97BCDA91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6A344-7B32-4152-80BA-4A6D0C1B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A4222-29CA-480C-AE60-42AE2AA2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0051D-1418-48C2-AC25-20F38626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4C409-6932-4E44-A397-7C104240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0A204A-35C4-4888-84B6-29CBA179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7544F-134B-417D-8CB2-F6B43983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DDACA-6651-4A08-94FA-1E6ED173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91B5D-2E8C-4115-8B09-4FE45C69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44A-7540-423E-87CA-2D52F34E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F63BB-9082-4C9A-AE3F-E46CB8F9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6C7A-BCFD-4BE6-9C7F-EF9F27A2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49321-F35B-44D2-8A15-2C3CA798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9FF12-69D8-4D68-BF37-916A3C91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12058-6452-47DB-AA38-63A3DB59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01F32-2F87-46D7-ABD7-A23675B98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991F6-09EA-40DD-AAE0-77B13A0B6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547E88-84D0-48F3-9FED-477370C8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2FE70-ED75-43AD-BF50-B082FB9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8FDC7-6157-4328-97D5-B78DFB4F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4A2D-2196-4789-9AD2-0E82357124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0C866-2BE4-412F-881B-2D1BA2F13D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9B474-5AEB-420F-882E-81DB667B449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9CE7-8C4B-4F44-99A5-BCB9868397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0609-5178-4683-A525-B923B5CAA2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914A4-2617-4D3B-A509-2D74A6FAA45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99D37-C938-459A-9C0E-DAB9B52C599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5DAA-7AE5-444A-9ED7-48A56D6F16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54FD-84EE-484D-892E-8DB3739B9D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23A7-2103-49D6-BD42-7DB1F34BDCF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E0E4-3F1C-44B7-87F0-EE7B87DEC51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B821B-3267-45C3-AD38-E7D914EA0A2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gif"/><Relationship Id="rId3" Type="http://schemas.openxmlformats.org/officeDocument/2006/relationships/audio" Target="../media/wind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breez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3.xml"/><Relationship Id="rId3" Type="http://schemas.openxmlformats.org/officeDocument/2006/relationships/audio" Target="../media/type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43208.htm" TargetMode="External"/><Relationship Id="rId3" Type="http://schemas.openxmlformats.org/officeDocument/2006/relationships/hyperlink" Target="http://baike.baidu.com/view/171942.htm" TargetMode="External"/><Relationship Id="rId4" Type="http://schemas.openxmlformats.org/officeDocument/2006/relationships/hyperlink" Target="http://baike.baidu.com/view/5434.htm" TargetMode="External"/><Relationship Id="rId5" Type="http://schemas.openxmlformats.org/officeDocument/2006/relationships/hyperlink" Target="http://baike.baidu.com/view/61891.htm" TargetMode="External"/><Relationship Id="rId6" Type="http://schemas.openxmlformats.org/officeDocument/2006/relationships/hyperlink" Target="http://baike.baidu.com/view/95952.htm" TargetMode="External"/><Relationship Id="rId7" Type="http://schemas.openxmlformats.org/officeDocument/2006/relationships/hyperlink" Target="http://baike.baidu.com/view/10499.htm" TargetMode="External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8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2088.htm" TargetMode="External"/><Relationship Id="rId3" Type="http://schemas.openxmlformats.org/officeDocument/2006/relationships/hyperlink" Target="http://baike.baidu.com/view/16781.htm" TargetMode="External"/><Relationship Id="rId4" Type="http://schemas.openxmlformats.org/officeDocument/2006/relationships/hyperlink" Target="http://baike.baidu.com/view/16915.htm" TargetMode="External"/><Relationship Id="rId5" Type="http://schemas.openxmlformats.org/officeDocument/2006/relationships/hyperlink" Target="http://baike.baidu.com/view/1616.htm" TargetMode="External"/><Relationship Id="rId6" Type="http://schemas.openxmlformats.org/officeDocument/2006/relationships/hyperlink" Target="http://baike.baidu.com/view/2222522.htm" TargetMode="External"/><Relationship Id="rId7" Type="http://schemas.openxmlformats.org/officeDocument/2006/relationships/hyperlink" Target="http://baike.baidu.com/view/48906.htm" TargetMode="External"/><Relationship Id="rId8" Type="http://schemas.openxmlformats.org/officeDocument/2006/relationships/hyperlink" Target="http://baike.baidu.com/view/953218.htm" TargetMode="External"/><Relationship Id="rId9" Type="http://schemas.openxmlformats.org/officeDocument/2006/relationships/hyperlink" Target="http://baike.baidu.com/view/968085.htm" TargetMode="External"/><Relationship Id="rId10" Type="http://schemas.openxmlformats.org/officeDocument/2006/relationships/hyperlink" Target="http://baike.baidu.com/view/4275067.htm" TargetMode="External"/><Relationship Id="rId11" Type="http://schemas.openxmlformats.org/officeDocument/2006/relationships/image" Target="../media/image19.jpeg"/><Relationship Id="rId12" Type="http://schemas.openxmlformats.org/officeDocument/2006/relationships/audio" Target="../media/chimes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954822.htm" TargetMode="External"/><Relationship Id="rId3" Type="http://schemas.openxmlformats.org/officeDocument/2006/relationships/hyperlink" Target="http://baike.baidu.com/view/4424096.htm" TargetMode="External"/><Relationship Id="rId4" Type="http://schemas.openxmlformats.org/officeDocument/2006/relationships/hyperlink" Target="http://baike.baidu.com/view/243621.htm" TargetMode="External"/><Relationship Id="rId5" Type="http://schemas.openxmlformats.org/officeDocument/2006/relationships/hyperlink" Target="http://baike.baidu.com/view/146051.htm" TargetMode="External"/><Relationship Id="rId6" Type="http://schemas.openxmlformats.org/officeDocument/2006/relationships/hyperlink" Target="http://baike.baidu.com/view/968085.htm" TargetMode="External"/><Relationship Id="rId7" Type="http://schemas.openxmlformats.org/officeDocument/2006/relationships/hyperlink" Target="http://baike.baidu.com/view/1267182.htm" TargetMode="External"/><Relationship Id="rId8" Type="http://schemas.openxmlformats.org/officeDocument/2006/relationships/hyperlink" Target="http://baike.baidu.com/view/107686.htm" TargetMode="External"/><Relationship Id="rId9" Type="http://schemas.openxmlformats.org/officeDocument/2006/relationships/hyperlink" Target="http://baike.baidu.com/view/2171.htm" TargetMode="External"/><Relationship Id="rId10" Type="http://schemas.openxmlformats.org/officeDocument/2006/relationships/hyperlink" Target="http://baike.baidu.com/view/188490.htm" TargetMode="External"/><Relationship Id="rId11" Type="http://schemas.openxmlformats.org/officeDocument/2006/relationships/hyperlink" Target="http://baike.baidu.com/view/93510.htm" TargetMode="External"/><Relationship Id="rId12" Type="http://schemas.openxmlformats.org/officeDocument/2006/relationships/hyperlink" Target="http://baike.baidu.com/view/167788.htm" TargetMode="External"/><Relationship Id="rId13" Type="http://schemas.openxmlformats.org/officeDocument/2006/relationships/hyperlink" Target="http://baike.baidu.com/view/128662.htm" TargetMode="External"/><Relationship Id="rId14" Type="http://schemas.openxmlformats.org/officeDocument/2006/relationships/image" Target="../media/image20.jpeg"/><Relationship Id="rId15" Type="http://schemas.openxmlformats.org/officeDocument/2006/relationships/image" Target="../media/image16.gif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pn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wind.wav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audio" Target="../media/wind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" descr="图片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0" name="WordArt 5"/>
          <p:cNvSpPr txBox="1"/>
          <p:nvPr/>
        </p:nvSpPr>
        <p:spPr>
          <a:xfrm>
            <a:off x="1995480" y="981000"/>
            <a:ext cx="51530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木偶戏</a:t>
            </a:r>
            <a:endParaRPr b="1" lang="en-US" sz="66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01" name="图片 1" descr=""/>
          <p:cNvPicPr/>
          <p:nvPr/>
        </p:nvPicPr>
        <p:blipFill>
          <a:blip r:embed="rId2"/>
          <a:stretch/>
        </p:blipFill>
        <p:spPr>
          <a:xfrm>
            <a:off x="1995480" y="2852640"/>
            <a:ext cx="5153040" cy="3157560"/>
          </a:xfrm>
          <a:prstGeom prst="rect">
            <a:avLst/>
          </a:prstGeom>
          <a:ln w="0">
            <a:noFill/>
          </a:ln>
        </p:spPr>
      </p:pic>
      <p:sp>
        <p:nvSpPr>
          <p:cNvPr id="502" name="矩形 6"/>
          <p:cNvSpPr/>
          <p:nvPr/>
        </p:nvSpPr>
        <p:spPr>
          <a:xfrm>
            <a:off x="2036520" y="6264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7030a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4" descr="图片44"/>
          <p:cNvPicPr/>
          <p:nvPr/>
        </p:nvPicPr>
        <p:blipFill>
          <a:blip r:embed="rId1"/>
          <a:stretch/>
        </p:blipFill>
        <p:spPr>
          <a:xfrm>
            <a:off x="-395280" y="-457200"/>
            <a:ext cx="9753480" cy="7315200"/>
          </a:xfrm>
          <a:prstGeom prst="rect">
            <a:avLst/>
          </a:prstGeom>
          <a:ln w="0">
            <a:noFill/>
          </a:ln>
        </p:spPr>
      </p:pic>
      <p:grpSp>
        <p:nvGrpSpPr>
          <p:cNvPr id="562" name="Group 5"/>
          <p:cNvGrpSpPr/>
          <p:nvPr/>
        </p:nvGrpSpPr>
        <p:grpSpPr>
          <a:xfrm>
            <a:off x="0" y="-387360"/>
            <a:ext cx="2448000" cy="1413000"/>
            <a:chOff x="0" y="-387360"/>
            <a:chExt cx="2448000" cy="1413000"/>
          </a:xfrm>
        </p:grpSpPr>
        <p:pic>
          <p:nvPicPr>
            <p:cNvPr id="563" name="Picture 6" descr="07"/>
            <p:cNvPicPr/>
            <p:nvPr/>
          </p:nvPicPr>
          <p:blipFill>
            <a:blip r:embed="rId2"/>
            <a:stretch/>
          </p:blipFill>
          <p:spPr>
            <a:xfrm>
              <a:off x="0" y="-387360"/>
              <a:ext cx="2040480" cy="14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 Box 7"/>
            <p:cNvSpPr/>
            <p:nvPr/>
          </p:nvSpPr>
          <p:spPr>
            <a:xfrm>
              <a:off x="472680" y="-101160"/>
              <a:ext cx="197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cc"/>
                  </a:solidFill>
                  <a:latin typeface="Times New Roman"/>
                  <a:ea typeface="楷体_GB2312"/>
                </a:rPr>
                <a:t>词语</a:t>
              </a:r>
              <a:r>
                <a:rPr b="1" lang="zh-CN" sz="24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理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Text Box 8"/>
          <p:cNvSpPr/>
          <p:nvPr/>
        </p:nvSpPr>
        <p:spPr>
          <a:xfrm>
            <a:off x="0" y="907920"/>
            <a:ext cx="889308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震颤：震动使害怕。文中指声音非常大，使人感到害怕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近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所向披靡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反义词：屡战屡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石破天惊：原形容箜篌的声音，忽而高亢，忽而低沉，出人意外，有难以形容的奇境。后多比喻文章议论新奇惊人。文中指锣鼓的声音之大，及其饱含的内容之多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近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惊天动地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反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默默无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所向无敌：敌：抵挡。力量所指向的地方，谁也抵挡不住。形容力量强大，无往不胜。文中形容气势之大，不可抵挡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驰骋：骑马奔跑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文中指木偶戏中的动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天抢地：抢地：触地。大声叫天，用头撞地。形容极度悲伤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近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嚎啕大哭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反义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兴高采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不可思议：不可想象，不能理解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近义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：不可捉摸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反义词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：通俗易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心满意足：非常满足。文中形容艺人们满意的样子。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近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：称心如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兴高采烈：兴致高，精神足。文中指木偶登上台时的精神头儿大。近：欢天喜地。反：无精打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2556000" y="404640"/>
            <a:ext cx="63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浑如：很像。         甚或：有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3" name="chimes.wav"/>
      </p:stSnd>
    </p:sndAc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4" descr="图片44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8" name="Group 16"/>
          <p:cNvGrpSpPr/>
          <p:nvPr/>
        </p:nvGrpSpPr>
        <p:grpSpPr>
          <a:xfrm>
            <a:off x="539640" y="3303720"/>
            <a:ext cx="5977080" cy="2430360"/>
            <a:chOff x="539640" y="3303720"/>
            <a:chExt cx="5977080" cy="2430360"/>
          </a:xfrm>
        </p:grpSpPr>
        <p:sp>
          <p:nvSpPr>
            <p:cNvPr id="569" name="Text Box 6"/>
            <p:cNvSpPr/>
            <p:nvPr/>
          </p:nvSpPr>
          <p:spPr>
            <a:xfrm>
              <a:off x="755640" y="3618000"/>
              <a:ext cx="5761080" cy="17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新鲜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陈旧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硬朗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酥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抖擞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哆嗦           简陋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繁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细瘦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粗壮           奇异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普通        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8"/>
            <p:cNvSpPr/>
            <p:nvPr/>
          </p:nvSpPr>
          <p:spPr>
            <a:xfrm>
              <a:off x="539640" y="3303720"/>
              <a:ext cx="5400720" cy="2430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" name="Rectangle 5"/>
          <p:cNvSpPr/>
          <p:nvPr/>
        </p:nvSpPr>
        <p:spPr>
          <a:xfrm>
            <a:off x="3203640" y="549360"/>
            <a:ext cx="504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奇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奇妙          简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简单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震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震撼          驰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奔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蜷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蜷缩          遗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缺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奥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奇妙          叹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佩服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7"/>
          <p:cNvSpPr/>
          <p:nvPr/>
        </p:nvSpPr>
        <p:spPr>
          <a:xfrm>
            <a:off x="2987640" y="333360"/>
            <a:ext cx="5256360" cy="2303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" name="Group 11"/>
          <p:cNvGrpSpPr/>
          <p:nvPr/>
        </p:nvGrpSpPr>
        <p:grpSpPr>
          <a:xfrm>
            <a:off x="1332000" y="0"/>
            <a:ext cx="720720" cy="2421000"/>
            <a:chOff x="1332000" y="0"/>
            <a:chExt cx="720720" cy="2421000"/>
          </a:xfrm>
        </p:grpSpPr>
        <p:sp>
          <p:nvSpPr>
            <p:cNvPr id="574" name="Text Box 9"/>
            <p:cNvSpPr/>
            <p:nvPr/>
          </p:nvSpPr>
          <p:spPr>
            <a:xfrm>
              <a:off x="1403640" y="333360"/>
              <a:ext cx="5032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504d"/>
                  </a:solidFill>
                  <a:latin typeface="Arial"/>
                  <a:ea typeface="宋体"/>
                </a:rPr>
                <a:t>近义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AutoShape 10"/>
            <p:cNvSpPr/>
            <p:nvPr/>
          </p:nvSpPr>
          <p:spPr>
            <a:xfrm>
              <a:off x="1332000" y="0"/>
              <a:ext cx="720720" cy="2421000"/>
            </a:xfrm>
            <a:prstGeom prst="wedgeEllipseCallout">
              <a:avLst>
                <a:gd name="adj1" fmla="val 161675"/>
                <a:gd name="adj2" fmla="val 3583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14"/>
          <p:cNvGrpSpPr/>
          <p:nvPr/>
        </p:nvGrpSpPr>
        <p:grpSpPr>
          <a:xfrm>
            <a:off x="6877080" y="2924280"/>
            <a:ext cx="1008000" cy="2519280"/>
            <a:chOff x="6877080" y="2924280"/>
            <a:chExt cx="1008000" cy="2519280"/>
          </a:xfrm>
        </p:grpSpPr>
        <p:sp>
          <p:nvSpPr>
            <p:cNvPr id="577" name="Text Box 12"/>
            <p:cNvSpPr/>
            <p:nvPr/>
          </p:nvSpPr>
          <p:spPr>
            <a:xfrm>
              <a:off x="7020000" y="3429000"/>
              <a:ext cx="718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c0504d"/>
                  </a:solidFill>
                  <a:latin typeface="Arial"/>
                  <a:ea typeface="宋体"/>
                </a:rPr>
                <a:t>反义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AutoShape 13"/>
            <p:cNvSpPr/>
            <p:nvPr/>
          </p:nvSpPr>
          <p:spPr>
            <a:xfrm>
              <a:off x="6877080" y="2924280"/>
              <a:ext cx="1008000" cy="2519280"/>
            </a:xfrm>
            <a:prstGeom prst="wedgeEllipseCallout">
              <a:avLst>
                <a:gd name="adj1" fmla="val -144486"/>
                <a:gd name="adj2" fmla="val 40546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"/>
    <p:sndAc>
      <p:stSnd>
        <p:snd r:embed="rId2" name="type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图片44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Text Box 5"/>
          <p:cNvSpPr/>
          <p:nvPr/>
        </p:nvSpPr>
        <p:spPr>
          <a:xfrm>
            <a:off x="1187280" y="1413000"/>
            <a:ext cx="7129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挑                          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鲜                          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颤                         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1692360" y="981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tiāo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挑选   挑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1692360" y="170028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tiǎo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挑起   挑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5364000" y="981000"/>
            <a:ext cx="29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xì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关系  联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5435640" y="1700280"/>
            <a:ext cx="33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jì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系鞋带  系扣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692360" y="3429000"/>
            <a:ext cx="2808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8"/>
          <p:cNvSpPr/>
          <p:nvPr/>
        </p:nvSpPr>
        <p:spPr>
          <a:xfrm>
            <a:off x="1692360" y="270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xiān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鲜艳  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9"/>
          <p:cNvSpPr/>
          <p:nvPr/>
        </p:nvSpPr>
        <p:spPr>
          <a:xfrm>
            <a:off x="1692360" y="3500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xiǎn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朝鲜  鲜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20"/>
          <p:cNvSpPr/>
          <p:nvPr/>
        </p:nvSpPr>
        <p:spPr>
          <a:xfrm>
            <a:off x="5364000" y="2637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shí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家什  什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21"/>
          <p:cNvSpPr/>
          <p:nvPr/>
        </p:nvSpPr>
        <p:spPr>
          <a:xfrm>
            <a:off x="5364000" y="3429000"/>
            <a:ext cx="37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shén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什么  为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22"/>
          <p:cNvSpPr/>
          <p:nvPr/>
        </p:nvSpPr>
        <p:spPr>
          <a:xfrm>
            <a:off x="169236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chàn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颤动   颤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3"/>
          <p:cNvSpPr/>
          <p:nvPr/>
        </p:nvSpPr>
        <p:spPr>
          <a:xfrm>
            <a:off x="176364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zhàn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寒颤   打颤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24"/>
          <p:cNvSpPr/>
          <p:nvPr/>
        </p:nvSpPr>
        <p:spPr>
          <a:xfrm>
            <a:off x="5364000" y="429264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háo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号叫   哭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5"/>
          <p:cNvSpPr/>
          <p:nvPr/>
        </p:nvSpPr>
        <p:spPr>
          <a:xfrm>
            <a:off x="5292720" y="49417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hào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号码   记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WordArt 26"/>
          <p:cNvSpPr txBox="1"/>
          <p:nvPr/>
        </p:nvSpPr>
        <p:spPr>
          <a:xfrm>
            <a:off x="179280" y="0"/>
            <a:ext cx="12970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9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多音字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cover dir="u"/>
    <p:sndAc>
      <p:stSnd>
        <p:snd r:embed="rId2" name="wind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5"/>
          <p:cNvSpPr/>
          <p:nvPr/>
        </p:nvSpPr>
        <p:spPr>
          <a:xfrm>
            <a:off x="1332000" y="2133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11" descr="12"/>
          <p:cNvPicPr/>
          <p:nvPr/>
        </p:nvPicPr>
        <p:blipFill>
          <a:blip r:embed="rId1"/>
          <a:stretch/>
        </p:blipFill>
        <p:spPr>
          <a:xfrm rot="5400000">
            <a:off x="4551120" y="2661840"/>
            <a:ext cx="399960" cy="7991640"/>
          </a:xfrm>
          <a:prstGeom prst="rect">
            <a:avLst/>
          </a:prstGeom>
          <a:ln w="0">
            <a:noFill/>
          </a:ln>
        </p:spPr>
      </p:pic>
      <p:sp>
        <p:nvSpPr>
          <p:cNvPr id="597" name="Text Box 12"/>
          <p:cNvSpPr/>
          <p:nvPr/>
        </p:nvSpPr>
        <p:spPr>
          <a:xfrm>
            <a:off x="468360" y="1413000"/>
            <a:ext cx="8136000" cy="3732480"/>
          </a:xfrm>
          <a:prstGeom prst="rect">
            <a:avLst/>
          </a:prstGeom>
          <a:noFill/>
          <a:ln w="9360">
            <a:solidFill>
              <a:srgbClr val="e09a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由读课文，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木偶戏具有什么特点？哪些句子体现了这一特点？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“     ”从文章中标出相关句子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作者是从哪些方面来介绍木偶戏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作者对木偶戏艺人是从哪几方面进行描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你认为木偶戏最有趣的地方在哪里？标记相关句子仔细品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文章在表达方法上具有哪些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3">
            <a:hlinkClick r:id="" action="ppaction://hlinkshowjump?jump=nextslide"/>
          </p:cNvPr>
          <p:cNvSpPr/>
          <p:nvPr/>
        </p:nvSpPr>
        <p:spPr>
          <a:xfrm>
            <a:off x="8028000" y="285264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5938"/>
                </a:moveTo>
                <a:lnTo>
                  <a:pt x="17806" y="12945"/>
                </a:lnTo>
                <a:lnTo>
                  <a:pt x="3794" y="19951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6" descr="图片1"/>
          <p:cNvPicPr/>
          <p:nvPr/>
        </p:nvPicPr>
        <p:blipFill>
          <a:blip r:embed="rId2"/>
          <a:stretch/>
        </p:blipFill>
        <p:spPr>
          <a:xfrm>
            <a:off x="395280" y="189000"/>
            <a:ext cx="2643120" cy="990360"/>
          </a:xfrm>
          <a:prstGeom prst="rect">
            <a:avLst/>
          </a:prstGeom>
          <a:ln w="0">
            <a:noFill/>
          </a:ln>
        </p:spPr>
      </p:pic>
      <p:grpSp>
        <p:nvGrpSpPr>
          <p:cNvPr id="600" name="Group 26"/>
          <p:cNvGrpSpPr/>
          <p:nvPr/>
        </p:nvGrpSpPr>
        <p:grpSpPr>
          <a:xfrm>
            <a:off x="4500720" y="260280"/>
            <a:ext cx="4103640" cy="1727280"/>
            <a:chOff x="4500720" y="260280"/>
            <a:chExt cx="4103640" cy="1727280"/>
          </a:xfrm>
        </p:grpSpPr>
        <p:sp>
          <p:nvSpPr>
            <p:cNvPr id="601" name="AutoShape 24"/>
            <p:cNvSpPr/>
            <p:nvPr/>
          </p:nvSpPr>
          <p:spPr>
            <a:xfrm>
              <a:off x="4500720" y="260280"/>
              <a:ext cx="4032360" cy="1727280"/>
            </a:xfrm>
            <a:prstGeom prst="wedgeRoundRectCallout">
              <a:avLst>
                <a:gd name="adj1" fmla="val -18699"/>
                <a:gd name="adj2" fmla="val 135384"/>
                <a:gd name="adj3" fmla="val 16667"/>
              </a:avLst>
            </a:prstGeom>
            <a:solidFill>
              <a:srgbClr val="e5c6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Text Box 25"/>
            <p:cNvSpPr/>
            <p:nvPr/>
          </p:nvSpPr>
          <p:spPr>
            <a:xfrm>
              <a:off x="4500720" y="40464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作者分别从敲锣人、木偶表演的内容、木偶 面部的表情及木偶戏艺人等几个方面来介绍木偶戏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3" name="AutoShape 27">
            <a:hlinkClick r:id="rId3" action="ppaction://hlinksldjump"/>
          </p:cNvPr>
          <p:cNvSpPr/>
          <p:nvPr/>
        </p:nvSpPr>
        <p:spPr>
          <a:xfrm>
            <a:off x="7812000" y="4869000"/>
            <a:ext cx="360360" cy="4316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1640"/>
              <a:gd name="textAreaBottom" fmla="*/ 408600 h 431640"/>
            </a:gdLst>
            <a:ahLst/>
            <a:rect l="textAreaLeft" t="textAreaTop" r="textAreaRight" b="textAreaBottom"/>
            <a:pathLst>
              <a:path w="21600" h="25868">
                <a:moveTo>
                  <a:pt x="0" y="0"/>
                </a:moveTo>
                <a:lnTo>
                  <a:pt x="21600" y="0"/>
                </a:lnTo>
                <a:lnTo>
                  <a:pt x="21600" y="25868"/>
                </a:lnTo>
                <a:lnTo>
                  <a:pt x="0" y="25868"/>
                </a:lnTo>
                <a:close/>
              </a:path>
              <a:path fill="lightenLess" w="21600" h="258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68">
                <a:moveTo>
                  <a:pt x="21600" y="0"/>
                </a:moveTo>
                <a:lnTo>
                  <a:pt x="21600" y="25868"/>
                </a:lnTo>
                <a:lnTo>
                  <a:pt x="20200" y="24468"/>
                </a:lnTo>
                <a:lnTo>
                  <a:pt x="20200" y="1400"/>
                </a:lnTo>
                <a:close/>
              </a:path>
              <a:path fill="darkenLess" w="21600" h="25868">
                <a:moveTo>
                  <a:pt x="21600" y="25868"/>
                </a:moveTo>
                <a:lnTo>
                  <a:pt x="0" y="25868"/>
                </a:lnTo>
                <a:lnTo>
                  <a:pt x="1400" y="24468"/>
                </a:lnTo>
                <a:lnTo>
                  <a:pt x="20200" y="24468"/>
                </a:lnTo>
                <a:close/>
              </a:path>
              <a:path fill="lighten" w="21600" h="25868">
                <a:moveTo>
                  <a:pt x="0" y="258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68"/>
                </a:lnTo>
                <a:close/>
              </a:path>
              <a:path fill="darken" w="21600" h="25868">
                <a:moveTo>
                  <a:pt x="3794" y="5928"/>
                </a:moveTo>
                <a:lnTo>
                  <a:pt x="17806" y="12934"/>
                </a:lnTo>
                <a:lnTo>
                  <a:pt x="3794" y="19941"/>
                </a:lnTo>
                <a:close/>
              </a:path>
            </a:pathLst>
          </a:custGeom>
          <a:solidFill>
            <a:srgbClr val="c9f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28">
            <a:hlinkClick r:id="rId4" action="ppaction://hlinksldjump"/>
          </p:cNvPr>
          <p:cNvSpPr/>
          <p:nvPr/>
        </p:nvSpPr>
        <p:spPr>
          <a:xfrm>
            <a:off x="7740720" y="5589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31"/>
          <p:cNvSpPr/>
          <p:nvPr/>
        </p:nvSpPr>
        <p:spPr>
          <a:xfrm>
            <a:off x="755640" y="220500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36"/>
          <p:cNvSpPr/>
          <p:nvPr/>
        </p:nvSpPr>
        <p:spPr>
          <a:xfrm>
            <a:off x="1835280" y="0"/>
            <a:ext cx="302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46"/>
          <p:cNvGrpSpPr/>
          <p:nvPr/>
        </p:nvGrpSpPr>
        <p:grpSpPr>
          <a:xfrm>
            <a:off x="900000" y="981000"/>
            <a:ext cx="3024000" cy="2448000"/>
            <a:chOff x="900000" y="981000"/>
            <a:chExt cx="3024000" cy="2448000"/>
          </a:xfrm>
        </p:grpSpPr>
        <p:sp>
          <p:nvSpPr>
            <p:cNvPr id="608" name="AutoShape 44"/>
            <p:cNvSpPr/>
            <p:nvPr/>
          </p:nvSpPr>
          <p:spPr>
            <a:xfrm>
              <a:off x="900000" y="981000"/>
              <a:ext cx="3024000" cy="2448000"/>
            </a:xfrm>
            <a:prstGeom prst="wedgeRoundRectCallout">
              <a:avLst>
                <a:gd name="adj1" fmla="val 48162"/>
                <a:gd name="adj2" fmla="val 76328"/>
                <a:gd name="adj3" fmla="val 16667"/>
              </a:avLst>
            </a:prstGeom>
            <a:solidFill>
              <a:srgbClr val="e5c6b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Text Box 45"/>
            <p:cNvSpPr/>
            <p:nvPr/>
          </p:nvSpPr>
          <p:spPr>
            <a:xfrm>
              <a:off x="1044360" y="981000"/>
              <a:ext cx="2808360" cy="18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作者分别从正面和侧面对木偶戏艺人进行了描写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、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自然段是对艺人的直接描写，对木偶戏的描写及观众的表现是侧面描写。都是为了突出艺人技艺的高超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Line 47"/>
          <p:cNvSpPr/>
          <p:nvPr/>
        </p:nvSpPr>
        <p:spPr>
          <a:xfrm>
            <a:off x="212400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5" name="suction.wav"/>
      </p:stSnd>
    </p:sndAc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6" descr="0"/>
          <p:cNvPicPr/>
          <p:nvPr/>
        </p:nvPicPr>
        <p:blipFill>
          <a:blip r:embed="rId2"/>
          <a:stretch/>
        </p:blipFill>
        <p:spPr>
          <a:xfrm rot="5400000">
            <a:off x="4087080" y="2400120"/>
            <a:ext cx="750960" cy="727236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8"/>
          <p:cNvSpPr/>
          <p:nvPr/>
        </p:nvSpPr>
        <p:spPr>
          <a:xfrm>
            <a:off x="1116000" y="2637000"/>
            <a:ext cx="6624720" cy="459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木偶戏比较简陋，几个艺人，三两挑子，有时甚或一个人也就够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9"/>
          <p:cNvSpPr/>
          <p:nvPr/>
        </p:nvSpPr>
        <p:spPr>
          <a:xfrm>
            <a:off x="971640" y="1700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宋体"/>
              </a:rPr>
              <a:t>形式简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0"/>
          <p:cNvSpPr/>
          <p:nvPr/>
        </p:nvSpPr>
        <p:spPr>
          <a:xfrm>
            <a:off x="1260720" y="3716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504d"/>
                </a:solidFill>
                <a:latin typeface="Arial"/>
                <a:ea typeface="宋体"/>
              </a:rPr>
              <a:t>内容奇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3"/>
          <p:cNvSpPr/>
          <p:nvPr/>
        </p:nvSpPr>
        <p:spPr>
          <a:xfrm>
            <a:off x="3995640" y="3068640"/>
            <a:ext cx="100800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"/>
          <p:cNvSpPr/>
          <p:nvPr/>
        </p:nvSpPr>
        <p:spPr>
          <a:xfrm>
            <a:off x="5508720" y="3068640"/>
            <a:ext cx="100656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"/>
          <p:cNvSpPr/>
          <p:nvPr/>
        </p:nvSpPr>
        <p:spPr>
          <a:xfrm>
            <a:off x="1258920" y="3429000"/>
            <a:ext cx="1366920" cy="0"/>
          </a:xfrm>
          <a:prstGeom prst="line">
            <a:avLst/>
          </a:prstGeom>
          <a:ln w="38160">
            <a:solidFill>
              <a:srgbClr val="ff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6"/>
          <p:cNvSpPr/>
          <p:nvPr/>
        </p:nvSpPr>
        <p:spPr>
          <a:xfrm>
            <a:off x="1116000" y="4508640"/>
            <a:ext cx="6624720" cy="459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要的是挑子里挑着一个奇异的世界，一些新鲜的故事就要开演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7">
            <a:hlinkClick r:id="" action="ppaction://hlinkshowjump?jump=previousslide"/>
          </p:cNvPr>
          <p:cNvSpPr/>
          <p:nvPr/>
        </p:nvSpPr>
        <p:spPr>
          <a:xfrm>
            <a:off x="8604360" y="5516640"/>
            <a:ext cx="360360" cy="28872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26953" h="21600">
                <a:moveTo>
                  <a:pt x="0" y="0"/>
                </a:moveTo>
                <a:lnTo>
                  <a:pt x="26953" y="0"/>
                </a:lnTo>
                <a:lnTo>
                  <a:pt x="26953" y="21600"/>
                </a:lnTo>
                <a:lnTo>
                  <a:pt x="0" y="21600"/>
                </a:lnTo>
                <a:close/>
              </a:path>
              <a:path fill="lightenLess" w="26953" h="21600">
                <a:moveTo>
                  <a:pt x="0" y="0"/>
                </a:moveTo>
                <a:lnTo>
                  <a:pt x="26953" y="0"/>
                </a:lnTo>
                <a:lnTo>
                  <a:pt x="25553" y="1400"/>
                </a:lnTo>
                <a:lnTo>
                  <a:pt x="1400" y="1400"/>
                </a:lnTo>
                <a:close/>
              </a:path>
              <a:path fill="darken" w="26953" h="21600">
                <a:moveTo>
                  <a:pt x="26953" y="0"/>
                </a:moveTo>
                <a:lnTo>
                  <a:pt x="26953" y="21600"/>
                </a:lnTo>
                <a:lnTo>
                  <a:pt x="25553" y="20200"/>
                </a:lnTo>
                <a:lnTo>
                  <a:pt x="25553" y="1400"/>
                </a:lnTo>
                <a:close/>
              </a:path>
              <a:path fill="darkenLess" w="26953" h="21600">
                <a:moveTo>
                  <a:pt x="269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53" y="20200"/>
                </a:lnTo>
                <a:close/>
              </a:path>
              <a:path fill="lighten" w="269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53" h="21600">
                <a:moveTo>
                  <a:pt x="6470" y="10800"/>
                </a:moveTo>
                <a:lnTo>
                  <a:pt x="20483" y="3794"/>
                </a:lnTo>
                <a:lnTo>
                  <a:pt x="20483" y="1780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20"/>
          <p:cNvGrpSpPr/>
          <p:nvPr/>
        </p:nvGrpSpPr>
        <p:grpSpPr>
          <a:xfrm>
            <a:off x="755640" y="333360"/>
            <a:ext cx="2808360" cy="609480"/>
            <a:chOff x="755640" y="333360"/>
            <a:chExt cx="2808360" cy="609480"/>
          </a:xfrm>
        </p:grpSpPr>
        <p:sp>
          <p:nvSpPr>
            <p:cNvPr id="622" name="AutoShape 19"/>
            <p:cNvSpPr/>
            <p:nvPr/>
          </p:nvSpPr>
          <p:spPr>
            <a:xfrm>
              <a:off x="755640" y="333360"/>
              <a:ext cx="27320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602" y="4050"/>
                  </a:moveTo>
                  <a:lnTo>
                    <a:pt x="-766" y="4050"/>
                  </a:lnTo>
                  <a:lnTo>
                    <a:pt x="-766" y="26213"/>
                  </a:lnTo>
                  <a:lnTo>
                    <a:pt x="25190" y="48431"/>
                  </a:lnTo>
                </a:path>
                <a:path w="21600" h="21600">
                  <a:moveTo>
                    <a:pt x="-602" y="0"/>
                  </a:moveTo>
                  <a:lnTo>
                    <a:pt x="-602" y="21600"/>
                  </a:lnTo>
                </a:path>
              </a:pathLst>
            </a:custGeom>
            <a:noFill/>
            <a:ln w="9360">
              <a:solidFill>
                <a:srgbClr val="e09a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Text Box 18"/>
            <p:cNvSpPr/>
            <p:nvPr/>
          </p:nvSpPr>
          <p:spPr>
            <a:xfrm>
              <a:off x="755640" y="3333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木偶戏的特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rd"/>
    <p:sndAc>
      <p:stSnd>
        <p:snd r:embed="rId3" name="voltage.wav"/>
      </p:stSnd>
    </p:sndAc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7"/>
          <p:cNvSpPr/>
          <p:nvPr/>
        </p:nvSpPr>
        <p:spPr>
          <a:xfrm>
            <a:off x="755640" y="155736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几枝竹竿子一挑，搭上艳红的帘布，戏台子就搭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8"/>
          <p:cNvSpPr/>
          <p:nvPr/>
        </p:nvSpPr>
        <p:spPr>
          <a:xfrm>
            <a:off x="500040" y="264312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敲锣人手脚并用，浑如奇巧的机器，脚尖踏着响，脚跟踢着响，膝盖屈直之间也响，手中一对槌子，翻动如飞花流星，发出乱箭一般震慑四方的轰响，口中还衔着一枚锐利的竹叫子。只一个人，便制造了千军万马的动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WordArt 11"/>
          <p:cNvSpPr txBox="1"/>
          <p:nvPr/>
        </p:nvSpPr>
        <p:spPr>
          <a:xfrm>
            <a:off x="642960" y="571680"/>
            <a:ext cx="4114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木偶戏的表演有趣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628" name="Picture 12" descr="12"/>
          <p:cNvPicPr/>
          <p:nvPr/>
        </p:nvPicPr>
        <p:blipFill>
          <a:blip r:embed="rId2"/>
          <a:stretch/>
        </p:blipFill>
        <p:spPr>
          <a:xfrm rot="5400000">
            <a:off x="4379760" y="2490840"/>
            <a:ext cx="739800" cy="7991280"/>
          </a:xfrm>
          <a:prstGeom prst="rect">
            <a:avLst/>
          </a:prstGeom>
          <a:ln w="0">
            <a:noFill/>
          </a:ln>
        </p:spPr>
      </p:pic>
      <p:sp>
        <p:nvSpPr>
          <p:cNvPr id="629" name="TextBox 7"/>
          <p:cNvSpPr/>
          <p:nvPr/>
        </p:nvSpPr>
        <p:spPr>
          <a:xfrm>
            <a:off x="1285920" y="2109960"/>
            <a:ext cx="62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这句话写出木偶戏台极为简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组合 10"/>
          <p:cNvGrpSpPr/>
          <p:nvPr/>
        </p:nvGrpSpPr>
        <p:grpSpPr>
          <a:xfrm>
            <a:off x="5500800" y="0"/>
            <a:ext cx="3071880" cy="2071800"/>
            <a:chOff x="5500800" y="0"/>
            <a:chExt cx="3071880" cy="2071800"/>
          </a:xfrm>
        </p:grpSpPr>
        <p:sp>
          <p:nvSpPr>
            <p:cNvPr id="631" name="椭圆形标注 9"/>
            <p:cNvSpPr/>
            <p:nvPr/>
          </p:nvSpPr>
          <p:spPr>
            <a:xfrm>
              <a:off x="5500800" y="0"/>
              <a:ext cx="3071880" cy="2071800"/>
            </a:xfrm>
            <a:prstGeom prst="wedgeEllipseCallout">
              <a:avLst>
                <a:gd name="adj1" fmla="val -39078"/>
                <a:gd name="adj2" fmla="val 8528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TextBox 8"/>
            <p:cNvSpPr/>
            <p:nvPr/>
          </p:nvSpPr>
          <p:spPr>
            <a:xfrm>
              <a:off x="5500800" y="299880"/>
              <a:ext cx="3000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这句话运用       手法将             比作                写出了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" name="TextBox 11"/>
          <p:cNvSpPr/>
          <p:nvPr/>
        </p:nvSpPr>
        <p:spPr>
          <a:xfrm>
            <a:off x="7500960" y="28584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12"/>
          <p:cNvSpPr/>
          <p:nvPr/>
        </p:nvSpPr>
        <p:spPr>
          <a:xfrm>
            <a:off x="6143760" y="64296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敲锣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3"/>
          <p:cNvSpPr/>
          <p:nvPr/>
        </p:nvSpPr>
        <p:spPr>
          <a:xfrm>
            <a:off x="7786800" y="642960"/>
            <a:ext cx="10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机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4"/>
          <p:cNvSpPr/>
          <p:nvPr/>
        </p:nvSpPr>
        <p:spPr>
          <a:xfrm>
            <a:off x="6500880" y="10717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敲锣人高超的技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5"/>
          <p:cNvSpPr/>
          <p:nvPr/>
        </p:nvSpPr>
        <p:spPr>
          <a:xfrm>
            <a:off x="642960" y="4357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敲锣人的全身各个部位共用，灵活的动作，制造出了种种奇特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6"/>
          <p:cNvSpPr/>
          <p:nvPr/>
        </p:nvSpPr>
        <p:spPr>
          <a:xfrm>
            <a:off x="857160" y="5286240"/>
            <a:ext cx="764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震慑四方的意思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用震慑四方造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3" name="wind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8" descr="图片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TextBox 1"/>
          <p:cNvSpPr/>
          <p:nvPr/>
        </p:nvSpPr>
        <p:spPr>
          <a:xfrm>
            <a:off x="785880" y="557208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这句话说明木偶戏中角色很多，各种各样的都有，可以看出制作人的想象力非常丰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0"/>
          <p:cNvSpPr/>
          <p:nvPr/>
        </p:nvSpPr>
        <p:spPr>
          <a:xfrm>
            <a:off x="714240" y="4143240"/>
            <a:ext cx="78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挑子里那个灰扑扑的魔袋，可以掏出皇上，可以掏出臣子，还有阎王、土地、雷公、电母、观世音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……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想得出的有，想不出的也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500040" y="12970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这些蜷曲在灰扑扑的布袋里的木偶，一旦让艺人们从口袋里掏出来，身板就硬朗了，手足就舞动了，脸上尽镀着太阳的金辉，英雄一般呼啸而至，披挂着小弓小箭，小幡小旌，头顶上还有象征神武和权力的雉鸡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11"/>
          <p:cNvSpPr txBox="1"/>
          <p:nvPr/>
        </p:nvSpPr>
        <p:spPr>
          <a:xfrm>
            <a:off x="285840" y="423720"/>
            <a:ext cx="4114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木偶戏的表演有趣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642960" y="321480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将这些用木头制作成的东西写成了有生命、有活力、有灵性的生灵，富有人情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46" name="WordArt 11"/>
          <p:cNvSpPr txBox="1"/>
          <p:nvPr/>
        </p:nvSpPr>
        <p:spPr>
          <a:xfrm>
            <a:off x="285840" y="423720"/>
            <a:ext cx="4114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木偶戏的表演有趣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47" name="TextBox 3"/>
          <p:cNvSpPr/>
          <p:nvPr/>
        </p:nvSpPr>
        <p:spPr>
          <a:xfrm>
            <a:off x="1643040" y="18572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仰面朝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4"/>
          <p:cNvSpPr/>
          <p:nvPr/>
        </p:nvSpPr>
        <p:spPr>
          <a:xfrm>
            <a:off x="3714840" y="18572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弯腰捧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5"/>
          <p:cNvSpPr/>
          <p:nvPr/>
        </p:nvSpPr>
        <p:spPr>
          <a:xfrm>
            <a:off x="7429680" y="18572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抖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7"/>
          <p:cNvSpPr/>
          <p:nvPr/>
        </p:nvSpPr>
        <p:spPr>
          <a:xfrm>
            <a:off x="5000760" y="221472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以袖遮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8"/>
          <p:cNvSpPr/>
          <p:nvPr/>
        </p:nvSpPr>
        <p:spPr>
          <a:xfrm>
            <a:off x="7000920" y="221472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哭天抢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9"/>
          <p:cNvSpPr/>
          <p:nvPr/>
        </p:nvSpPr>
        <p:spPr>
          <a:xfrm>
            <a:off x="2071800" y="257184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抽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0"/>
          <p:cNvSpPr/>
          <p:nvPr/>
        </p:nvSpPr>
        <p:spPr>
          <a:xfrm>
            <a:off x="857160" y="3214800"/>
            <a:ext cx="77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0d0d0d"/>
                </a:solidFill>
                <a:latin typeface="Arial"/>
                <a:ea typeface="宋体"/>
              </a:rPr>
              <a:t>这些句子具体描写了                                      。写出了木偶戏表演时的局限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Box 11"/>
          <p:cNvSpPr/>
          <p:nvPr/>
        </p:nvSpPr>
        <p:spPr>
          <a:xfrm>
            <a:off x="3857760" y="32148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木偶戏表演时的固定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13"/>
          <p:cNvSpPr/>
          <p:nvPr/>
        </p:nvSpPr>
        <p:spPr>
          <a:xfrm>
            <a:off x="468360" y="1500120"/>
            <a:ext cx="839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e46c0a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e46c0a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e46c0a"/>
                </a:solidFill>
                <a:latin typeface="Arial"/>
                <a:ea typeface="宋体"/>
              </a:rPr>
              <a:t>木偶表演喜怒哀乐，总是以固定的程序动作全身。笑的时候，或                 ，或                ，配合全身有节奏的         ，让人看不见它的脸。哭的时候或                  ，或 呼             配合全身的         ，也让人看不见它的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571680" y="407196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e46c0a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e46c0a"/>
                </a:solidFill>
                <a:latin typeface="宋体"/>
                <a:ea typeface="宋体"/>
              </a:rPr>
              <a:t>但是，没有脸的戏还是遗憾的，艺人们免不了在脸的问题上动心思。在一些木偶的颌处装上了活动机关，那木呆的脸孔便拥有了一个能开能合的嘴巴。它登场就开开合合地表演，兴高采烈、自由自主地说着唱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642960" y="5643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艺人们经过改装木偶，弥补了木偶戏表演时的不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  <p:sndAc>
      <p:stSnd>
        <p:snd r:embed="rId2" name="chimes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8"/>
          <p:cNvSpPr/>
          <p:nvPr/>
        </p:nvSpPr>
        <p:spPr>
          <a:xfrm>
            <a:off x="500040" y="142884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木偶戏艺人的每一个指关节都不可思议的机巧，俨如机器中的那些最奥妙的部件，弹指之间，便是一个人的悲欢离合，生死荣辱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;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反掌之下，便是冬去春来，换了人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8"/>
          <p:cNvSpPr/>
          <p:nvPr/>
        </p:nvSpPr>
        <p:spPr>
          <a:xfrm>
            <a:off x="617400" y="2679840"/>
            <a:ext cx="8136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运用了    修辞手法，用                       来比喻          ，新鲜贴切，突出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8"/>
          <p:cNvSpPr/>
          <p:nvPr/>
        </p:nvSpPr>
        <p:spPr>
          <a:xfrm>
            <a:off x="500040" y="36432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c0504d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c0504d"/>
                </a:solidFill>
                <a:latin typeface="宋体"/>
                <a:ea typeface="宋体"/>
              </a:rPr>
              <a:t>每一段剧情，都牵在他的指关节上面，戏台之下的每一阵波浪，都系在三尺帘布的戏台上面。他无处不在，又不现身。正因为他不现身，鬼才成其为鬼，神才成其为神，英雄方能评定天下，霸主方能统摄四方，木偶方能摆布看客，看客方能叹服木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WordArt 11"/>
          <p:cNvSpPr txBox="1"/>
          <p:nvPr/>
        </p:nvSpPr>
        <p:spPr>
          <a:xfrm>
            <a:off x="571680" y="571680"/>
            <a:ext cx="41148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木偶戏的表演有趣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63" name="TextBox 8"/>
          <p:cNvSpPr/>
          <p:nvPr/>
        </p:nvSpPr>
        <p:spPr>
          <a:xfrm>
            <a:off x="1857240" y="2714760"/>
            <a:ext cx="107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9"/>
          <p:cNvSpPr/>
          <p:nvPr/>
        </p:nvSpPr>
        <p:spPr>
          <a:xfrm>
            <a:off x="4429080" y="271476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机器中那些最奥妙的部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10"/>
          <p:cNvSpPr/>
          <p:nvPr/>
        </p:nvSpPr>
        <p:spPr>
          <a:xfrm>
            <a:off x="928800" y="3143160"/>
            <a:ext cx="20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木偶戏艺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1"/>
          <p:cNvSpPr/>
          <p:nvPr/>
        </p:nvSpPr>
        <p:spPr>
          <a:xfrm>
            <a:off x="5214960" y="3143160"/>
            <a:ext cx="38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木偶戏艺人手指异常灵活的特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2"/>
          <p:cNvSpPr/>
          <p:nvPr/>
        </p:nvSpPr>
        <p:spPr>
          <a:xfrm>
            <a:off x="642960" y="564372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这一句话高度概括了木偶戏艺人精湛的技艺。赞扬了木偶戏表演者默默无闻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  <p:sndAc>
      <p:stSnd>
        <p:snd r:embed="rId2" name="breeze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69" name="WordArt 4"/>
          <p:cNvSpPr txBox="1"/>
          <p:nvPr/>
        </p:nvSpPr>
        <p:spPr>
          <a:xfrm>
            <a:off x="539640" y="676440"/>
            <a:ext cx="4334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观众的神情有趣</a:t>
            </a:r>
            <a:endParaRPr b="1" lang="en-US" sz="4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684360" y="1773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人们仰着脖子，笑，发痴，拍掌。下巴像装了机关似的，齐齐的挂下来，像一个等待糖豆的姿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7"/>
          <p:cNvSpPr/>
          <p:nvPr/>
        </p:nvSpPr>
        <p:spPr>
          <a:xfrm>
            <a:off x="2268360" y="34495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动作、神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3500280" y="39481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比喻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785880" y="444816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观众对木偶戏地入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2"/>
          <p:cNvSpPr/>
          <p:nvPr/>
        </p:nvSpPr>
        <p:spPr>
          <a:xfrm>
            <a:off x="2627280" y="3882960"/>
            <a:ext cx="1368360" cy="0"/>
          </a:xfrm>
          <a:prstGeom prst="line">
            <a:avLst/>
          </a:prstGeom>
          <a:ln w="9360">
            <a:solidFill>
              <a:srgbClr val="c050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15"/>
          <p:cNvSpPr/>
          <p:nvPr/>
        </p:nvSpPr>
        <p:spPr>
          <a:xfrm>
            <a:off x="714240" y="523404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3300"/>
                </a:solidFill>
                <a:latin typeface="Arial"/>
                <a:ea typeface="楷体_GB2312"/>
              </a:rPr>
              <a:t>侧面烘托木偶戏的精彩、木偶艺人的技艺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16">
            <a:hlinkClick r:id="rId2" action="ppaction://hlinksldjump"/>
          </p:cNvPr>
          <p:cNvSpPr/>
          <p:nvPr/>
        </p:nvSpPr>
        <p:spPr>
          <a:xfrm>
            <a:off x="8459640" y="5683320"/>
            <a:ext cx="360360" cy="50328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503280"/>
              <a:gd name="textAreaBottom" fmla="*/ 480240 h 503280"/>
            </a:gdLst>
            <a:ahLst/>
            <a:rect l="textAreaLeft" t="textAreaTop" r="textAreaRight" b="textAreaBottom"/>
            <a:pathLst>
              <a:path w="21600" h="30158">
                <a:moveTo>
                  <a:pt x="0" y="0"/>
                </a:moveTo>
                <a:lnTo>
                  <a:pt x="21600" y="0"/>
                </a:lnTo>
                <a:lnTo>
                  <a:pt x="21600" y="30158"/>
                </a:lnTo>
                <a:lnTo>
                  <a:pt x="0" y="30158"/>
                </a:lnTo>
                <a:close/>
              </a:path>
              <a:path fill="lightenLess" w="21600" h="3015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58">
                <a:moveTo>
                  <a:pt x="21600" y="0"/>
                </a:moveTo>
                <a:lnTo>
                  <a:pt x="21600" y="30158"/>
                </a:lnTo>
                <a:lnTo>
                  <a:pt x="20200" y="28758"/>
                </a:lnTo>
                <a:lnTo>
                  <a:pt x="20200" y="1400"/>
                </a:lnTo>
                <a:close/>
              </a:path>
              <a:path fill="darkenLess" w="21600" h="30158">
                <a:moveTo>
                  <a:pt x="21600" y="30158"/>
                </a:moveTo>
                <a:lnTo>
                  <a:pt x="0" y="30158"/>
                </a:lnTo>
                <a:lnTo>
                  <a:pt x="1400" y="28758"/>
                </a:lnTo>
                <a:lnTo>
                  <a:pt x="20200" y="28758"/>
                </a:lnTo>
                <a:close/>
              </a:path>
              <a:path fill="lighten" w="21600" h="30158">
                <a:moveTo>
                  <a:pt x="0" y="3015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58"/>
                </a:lnTo>
                <a:close/>
              </a:path>
              <a:path fill="darken" w="21600" h="30158">
                <a:moveTo>
                  <a:pt x="3794" y="15079"/>
                </a:moveTo>
                <a:lnTo>
                  <a:pt x="17806" y="8073"/>
                </a:lnTo>
                <a:lnTo>
                  <a:pt x="17806" y="22086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组合 16"/>
          <p:cNvGrpSpPr/>
          <p:nvPr/>
        </p:nvGrpSpPr>
        <p:grpSpPr>
          <a:xfrm>
            <a:off x="642960" y="3876840"/>
            <a:ext cx="4173480" cy="1226520"/>
            <a:chOff x="642960" y="3876840"/>
            <a:chExt cx="4173480" cy="1226520"/>
          </a:xfrm>
        </p:grpSpPr>
        <p:sp>
          <p:nvSpPr>
            <p:cNvPr id="678" name="Line 8"/>
            <p:cNvSpPr/>
            <p:nvPr/>
          </p:nvSpPr>
          <p:spPr>
            <a:xfrm flipV="1">
              <a:off x="3530520" y="4516560"/>
              <a:ext cx="1285920" cy="71280"/>
            </a:xfrm>
            <a:prstGeom prst="line">
              <a:avLst/>
            </a:prstGeom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3"/>
            <p:cNvSpPr/>
            <p:nvPr/>
          </p:nvSpPr>
          <p:spPr>
            <a:xfrm flipV="1">
              <a:off x="642960" y="5057640"/>
              <a:ext cx="3316320" cy="45720"/>
            </a:xfrm>
            <a:prstGeom prst="line">
              <a:avLst/>
            </a:prstGeom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2"/>
            <p:cNvSpPr/>
            <p:nvPr/>
          </p:nvSpPr>
          <p:spPr>
            <a:xfrm>
              <a:off x="2473200" y="3876840"/>
              <a:ext cx="1368360" cy="0"/>
            </a:xfrm>
            <a:prstGeom prst="line">
              <a:avLst/>
            </a:prstGeom>
            <a:ln w="93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Text Box 6"/>
          <p:cNvSpPr/>
          <p:nvPr/>
        </p:nvSpPr>
        <p:spPr>
          <a:xfrm>
            <a:off x="642960" y="359100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话从          两方面来描写观众，写观众的神态时运用了       修辞手法，体现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  <p:sndAc>
      <p:stSnd>
        <p:snd r:embed="rId3" name="type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7" descr="图片93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5"/>
          <p:cNvSpPr/>
          <p:nvPr/>
        </p:nvSpPr>
        <p:spPr>
          <a:xfrm>
            <a:off x="1332000" y="333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539640" y="3435480"/>
            <a:ext cx="79218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木偶戏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用木偶来表演故事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戏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表演时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演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在幕后一边操纵木偶，一边演唱，并配以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音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根据木偶形体和操纵技术的不同，有布袋木偶、提线木偶、杖头木偶、铁线木偶等。 木偶戏是由演员在幕后操纵木制玩偶进行表演的戏剧形式。在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中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古代又称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傀儡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中国木偶戏历史悠久，三国时已有偶人可进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杂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表演，隋代则开始用偶人表演故事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木偶艺术精美绝伦，令人叹为观止。中华人民共和国成立以后，木偶戏的表演更加丰富多彩。除了演出传统的戏曲节目外，还表演话剧、歌舞剧、连续剧，甚至出演广告等。与此同时，木偶戏也面临着与其他艺术形式的激烈竞争。传统的木偶戏蕴藏着各地、各民族人民的思想、道德和审美意识，应加以扶持和保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WordArt 8"/>
          <p:cNvSpPr txBox="1"/>
          <p:nvPr/>
        </p:nvSpPr>
        <p:spPr>
          <a:xfrm>
            <a:off x="2484360" y="404640"/>
            <a:ext cx="3024360" cy="99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你知道吗</a:t>
            </a:r>
            <a:endParaRPr b="1" lang="en-US" sz="72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7" name="Text Box 8"/>
          <p:cNvSpPr/>
          <p:nvPr/>
        </p:nvSpPr>
        <p:spPr>
          <a:xfrm>
            <a:off x="447120" y="-79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导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  <p:sndAc>
      <p:stSnd>
        <p:snd r:embed="rId8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3" name="WordArt 5"/>
          <p:cNvSpPr txBox="1"/>
          <p:nvPr/>
        </p:nvSpPr>
        <p:spPr>
          <a:xfrm>
            <a:off x="1042920" y="981000"/>
            <a:ext cx="2781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表达方法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476360" y="2421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运用了大量生动形象的比喻。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请用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c0504d"/>
                </a:solidFill>
                <a:latin typeface="楷体_GB2312"/>
                <a:ea typeface="楷体_GB2312"/>
              </a:rPr>
              <a:t>标出文中的比喻句，说说其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描写极为细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面描写与侧面描写相结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Freeform 11"/>
          <p:cNvSpPr/>
          <p:nvPr/>
        </p:nvSpPr>
        <p:spPr>
          <a:xfrm>
            <a:off x="2627280" y="3141720"/>
            <a:ext cx="538200" cy="147600"/>
          </a:xfrm>
          <a:custGeom>
            <a:avLst/>
            <a:gdLst/>
            <a:ahLst/>
            <a:rect l="l" t="t" r="r" b="b"/>
            <a:pathLst>
              <a:path w="339" h="93">
                <a:moveTo>
                  <a:pt x="0" y="73"/>
                </a:moveTo>
                <a:cubicBezTo>
                  <a:pt x="3" y="64"/>
                  <a:pt x="3" y="53"/>
                  <a:pt x="10" y="46"/>
                </a:cubicBezTo>
                <a:cubicBezTo>
                  <a:pt x="57" y="0"/>
                  <a:pt x="29" y="62"/>
                  <a:pt x="28" y="64"/>
                </a:cubicBezTo>
                <a:cubicBezTo>
                  <a:pt x="63" y="76"/>
                  <a:pt x="85" y="66"/>
                  <a:pt x="119" y="55"/>
                </a:cubicBezTo>
                <a:cubicBezTo>
                  <a:pt x="158" y="92"/>
                  <a:pt x="115" y="63"/>
                  <a:pt x="165" y="55"/>
                </a:cubicBezTo>
                <a:cubicBezTo>
                  <a:pt x="174" y="53"/>
                  <a:pt x="183" y="61"/>
                  <a:pt x="192" y="64"/>
                </a:cubicBezTo>
                <a:cubicBezTo>
                  <a:pt x="201" y="61"/>
                  <a:pt x="210" y="53"/>
                  <a:pt x="220" y="55"/>
                </a:cubicBezTo>
                <a:cubicBezTo>
                  <a:pt x="270" y="63"/>
                  <a:pt x="227" y="92"/>
                  <a:pt x="266" y="55"/>
                </a:cubicBezTo>
                <a:cubicBezTo>
                  <a:pt x="304" y="93"/>
                  <a:pt x="294" y="85"/>
                  <a:pt x="339" y="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6" name="Picture 15" descr="0"/>
          <p:cNvPicPr/>
          <p:nvPr/>
        </p:nvPicPr>
        <p:blipFill>
          <a:blip r:embed="rId2"/>
          <a:stretch/>
        </p:blipFill>
        <p:spPr>
          <a:xfrm rot="5400000">
            <a:off x="3979440" y="2363400"/>
            <a:ext cx="966600" cy="7272360"/>
          </a:xfrm>
          <a:prstGeom prst="rect">
            <a:avLst/>
          </a:prstGeom>
          <a:ln w="0">
            <a:noFill/>
          </a:ln>
        </p:spPr>
      </p:pic>
      <p:sp>
        <p:nvSpPr>
          <p:cNvPr id="687" name="文本框 1"/>
          <p:cNvSpPr/>
          <p:nvPr/>
        </p:nvSpPr>
        <p:spPr>
          <a:xfrm>
            <a:off x="2405160" y="5151600"/>
            <a:ext cx="533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9" name="Text Box 4"/>
          <p:cNvSpPr/>
          <p:nvPr/>
        </p:nvSpPr>
        <p:spPr>
          <a:xfrm>
            <a:off x="755640" y="765000"/>
            <a:ext cx="518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木偶戏打一成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2771640" y="2565360"/>
            <a:ext cx="7129440" cy="26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装腔作势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手忙脚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任人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993300"/>
                </a:solidFill>
                <a:latin typeface="Arial"/>
                <a:ea typeface="宋体"/>
              </a:rPr>
              <a:t>步履蹒跚</a:t>
            </a:r>
            <a:r>
              <a:rPr b="0" lang="zh-CN" sz="1800" spc="-1" strike="noStrike">
                <a:solidFill>
                  <a:srgbClr val="9933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Picture 9" descr="06493638acdabb1bb9998f0f"/>
          <p:cNvPicPr/>
          <p:nvPr/>
        </p:nvPicPr>
        <p:blipFill>
          <a:blip r:embed="rId2"/>
          <a:stretch/>
        </p:blipFill>
        <p:spPr>
          <a:xfrm>
            <a:off x="6443640" y="2133720"/>
            <a:ext cx="1676520" cy="3403440"/>
          </a:xfrm>
          <a:prstGeom prst="rect">
            <a:avLst/>
          </a:prstGeom>
          <a:ln w="0">
            <a:noFill/>
          </a:ln>
        </p:spPr>
      </p:pic>
    </p:spTree>
  </p:cSld>
  <p:transition>
    <p:pull dir="rd"/>
    <p:sndAc>
      <p:stSnd>
        <p:snd r:embed="rId3" name="click.wav"/>
      </p:stSnd>
    </p:sndAc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5" descr="图片93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8"/>
          <p:cNvSpPr/>
          <p:nvPr/>
        </p:nvSpPr>
        <p:spPr>
          <a:xfrm>
            <a:off x="4140360" y="1484280"/>
            <a:ext cx="50036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黄梅戏，旧称黄梅调或采茶戏，与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京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越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评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豫剧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并称中国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五大剧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它发源于湖北、安徽、江西三省交界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黄梅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多云山，与鄂东和赣东北的采茶戏同出一源，其最初形式是湖北黄梅一带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采茶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黄梅戏用安庆语言念唱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唱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淳朴流畅，以明快抒情见长，具有丰富的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表现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；黄梅戏的表演质朴细致，以真实活泼著称。 黄梅戏来自于民间，雅俗共赏、怡情悦性，她以浓郁的生活气息和清新的乡土风味感染观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9" descr="黄梅戏"/>
          <p:cNvPicPr/>
          <p:nvPr/>
        </p:nvPicPr>
        <p:blipFill>
          <a:blip r:embed="rId11"/>
          <a:stretch/>
        </p:blipFill>
        <p:spPr>
          <a:xfrm>
            <a:off x="250920" y="1484280"/>
            <a:ext cx="3382920" cy="4392720"/>
          </a:xfrm>
          <a:prstGeom prst="rect">
            <a:avLst/>
          </a:prstGeom>
          <a:ln w="0">
            <a:noFill/>
          </a:ln>
        </p:spPr>
      </p:pic>
      <p:grpSp>
        <p:nvGrpSpPr>
          <p:cNvPr id="695" name="Group 16"/>
          <p:cNvGrpSpPr/>
          <p:nvPr/>
        </p:nvGrpSpPr>
        <p:grpSpPr>
          <a:xfrm>
            <a:off x="395280" y="189000"/>
            <a:ext cx="4537080" cy="1341360"/>
            <a:chOff x="395280" y="189000"/>
            <a:chExt cx="4537080" cy="1341360"/>
          </a:xfrm>
        </p:grpSpPr>
        <p:sp>
          <p:nvSpPr>
            <p:cNvPr id="696" name="AutoShape 14"/>
            <p:cNvSpPr/>
            <p:nvPr/>
          </p:nvSpPr>
          <p:spPr>
            <a:xfrm>
              <a:off x="395280" y="189000"/>
              <a:ext cx="3960720" cy="907920"/>
            </a:xfrm>
            <a:custGeom>
              <a:avLst/>
              <a:gdLst>
                <a:gd name="textAreaLeft" fmla="*/ 0 w 3960720"/>
                <a:gd name="textAreaRight" fmla="*/ 3960720 w 3960720"/>
                <a:gd name="textAreaTop" fmla="*/ 117720 h 907920"/>
                <a:gd name="textAreaBottom" fmla="*/ 790200 h 9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Text Box 7"/>
            <p:cNvSpPr/>
            <p:nvPr/>
          </p:nvSpPr>
          <p:spPr>
            <a:xfrm>
              <a:off x="539640" y="378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国乡土传统文化艺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AutoShape 12"/>
            <p:cNvSpPr/>
            <p:nvPr/>
          </p:nvSpPr>
          <p:spPr>
            <a:xfrm>
              <a:off x="4356000" y="665280"/>
              <a:ext cx="576360" cy="865080"/>
            </a:xfrm>
            <a:custGeom>
              <a:avLst/>
              <a:gdLst>
                <a:gd name="textAreaLeft" fmla="*/ 77040 w 576360"/>
                <a:gd name="textAreaRight" fmla="*/ 499320 w 576360"/>
                <a:gd name="textAreaTop" fmla="*/ 151200 h 865080"/>
                <a:gd name="textAreaBottom" fmla="*/ 62712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3443"/>
                  <a:lnTo>
                    <a:pt x="7197" y="21168"/>
                  </a:lnTo>
                  <a:lnTo>
                    <a:pt x="0" y="17280"/>
                  </a:lnTo>
                  <a:lnTo>
                    <a:pt x="7197" y="12528"/>
                  </a:lnTo>
                  <a:lnTo>
                    <a:pt x="7197" y="14688"/>
                  </a:lnTo>
                  <a:arcTo wR="21600" hR="7560" stAng="2683443" swAng="-2326008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Text Box 17"/>
          <p:cNvSpPr/>
          <p:nvPr/>
        </p:nvSpPr>
        <p:spPr>
          <a:xfrm>
            <a:off x="611280" y="6093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黄梅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天仙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剧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12" name="chimes.wav"/>
      </p:stSnd>
    </p:sndAc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5" descr="图片93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01" name="Text Box 6"/>
          <p:cNvSpPr/>
          <p:nvPr/>
        </p:nvSpPr>
        <p:spPr>
          <a:xfrm>
            <a:off x="4356000" y="1557360"/>
            <a:ext cx="44640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二人转：史称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小秧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双玩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蹦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又称过口、双条边曲、风柳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春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半班戏、东北地方戏等。表现形式为：一男一女，服饰鲜艳，手拿扇子、手绢，边走边唱边舞，表现一段故事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唱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亢粗犷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唱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诙谐风趣。二人转属走唱类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8"/>
              </a:rPr>
              <a:t>曲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流行于辽宁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9"/>
              </a:rPr>
              <a:t>吉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黑龙江三省和内蒙古东部三盟一市（现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0"/>
              </a:rPr>
              <a:t>呼伦贝尔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1"/>
              </a:rPr>
              <a:t>兴安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2"/>
              </a:rPr>
              <a:t>通辽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zh-CN" sz="24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3"/>
              </a:rPr>
              <a:t>赤峰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7"/>
          <p:cNvGrpSpPr/>
          <p:nvPr/>
        </p:nvGrpSpPr>
        <p:grpSpPr>
          <a:xfrm>
            <a:off x="179280" y="189000"/>
            <a:ext cx="4537080" cy="1341360"/>
            <a:chOff x="179280" y="189000"/>
            <a:chExt cx="4537080" cy="1341360"/>
          </a:xfrm>
        </p:grpSpPr>
        <p:sp>
          <p:nvSpPr>
            <p:cNvPr id="703" name="AutoShape 8"/>
            <p:cNvSpPr/>
            <p:nvPr/>
          </p:nvSpPr>
          <p:spPr>
            <a:xfrm>
              <a:off x="179280" y="189000"/>
              <a:ext cx="3960720" cy="907920"/>
            </a:xfrm>
            <a:custGeom>
              <a:avLst/>
              <a:gdLst>
                <a:gd name="textAreaLeft" fmla="*/ 0 w 3960720"/>
                <a:gd name="textAreaRight" fmla="*/ 3960720 w 3960720"/>
                <a:gd name="textAreaTop" fmla="*/ 117720 h 907920"/>
                <a:gd name="textAreaBottom" fmla="*/ 790200 h 90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9"/>
            <p:cNvSpPr/>
            <p:nvPr/>
          </p:nvSpPr>
          <p:spPr>
            <a:xfrm>
              <a:off x="323640" y="378000"/>
              <a:ext cx="4103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中国乡土传统文化艺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10"/>
            <p:cNvSpPr/>
            <p:nvPr/>
          </p:nvSpPr>
          <p:spPr>
            <a:xfrm>
              <a:off x="4140000" y="665280"/>
              <a:ext cx="576360" cy="865080"/>
            </a:xfrm>
            <a:custGeom>
              <a:avLst/>
              <a:gdLst>
                <a:gd name="textAreaLeft" fmla="*/ 77040 w 576360"/>
                <a:gd name="textAreaRight" fmla="*/ 499320 w 576360"/>
                <a:gd name="textAreaTop" fmla="*/ 151200 h 865080"/>
                <a:gd name="textAreaBottom" fmla="*/ 62712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3443"/>
                  <a:lnTo>
                    <a:pt x="7197" y="21168"/>
                  </a:lnTo>
                  <a:lnTo>
                    <a:pt x="0" y="17280"/>
                  </a:lnTo>
                  <a:lnTo>
                    <a:pt x="7197" y="12528"/>
                  </a:lnTo>
                  <a:lnTo>
                    <a:pt x="7197" y="14688"/>
                  </a:lnTo>
                  <a:arcTo wR="21600" hR="7560" stAng="2683443" swAng="-2326008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6" name="Picture 13" descr="二人转"/>
          <p:cNvPicPr/>
          <p:nvPr/>
        </p:nvPicPr>
        <p:blipFill>
          <a:blip r:embed="rId14"/>
          <a:stretch/>
        </p:blipFill>
        <p:spPr>
          <a:xfrm>
            <a:off x="324000" y="1341360"/>
            <a:ext cx="3528720" cy="431964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14"/>
          <p:cNvSpPr/>
          <p:nvPr/>
        </p:nvSpPr>
        <p:spPr>
          <a:xfrm>
            <a:off x="539640" y="595008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人转（韩子平、董玮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15" descr="0"/>
          <p:cNvPicPr/>
          <p:nvPr/>
        </p:nvPicPr>
        <p:blipFill>
          <a:blip r:embed="rId15"/>
          <a:stretch/>
        </p:blipFill>
        <p:spPr>
          <a:xfrm rot="5400000">
            <a:off x="6390000" y="4199760"/>
            <a:ext cx="390600" cy="4319640"/>
          </a:xfrm>
          <a:prstGeom prst="rect">
            <a:avLst/>
          </a:prstGeom>
          <a:ln w="0">
            <a:noFill/>
          </a:ln>
        </p:spPr>
      </p:pic>
    </p:spTree>
  </p:cSld>
  <p:transition>
    <p:comb dir="horz"/>
    <p:sndAc>
      <p:stSnd>
        <p:snd r:embed="rId16" name="chimes.wav"/>
      </p:stSnd>
    </p:sndAc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710" name="线形标注 3 3" descr=""/>
          <p:cNvPicPr/>
          <p:nvPr/>
        </p:nvPicPr>
        <p:blipFill>
          <a:blip r:embed="rId2"/>
          <a:stretch/>
        </p:blipFill>
        <p:spPr>
          <a:xfrm>
            <a:off x="1155600" y="822240"/>
            <a:ext cx="5380200" cy="2367000"/>
          </a:xfrm>
          <a:prstGeom prst="rect">
            <a:avLst/>
          </a:prstGeom>
          <a:ln w="0">
            <a:noFill/>
          </a:ln>
        </p:spPr>
      </p:pic>
      <p:sp>
        <p:nvSpPr>
          <p:cNvPr id="711" name="TextBox 1"/>
          <p:cNvSpPr/>
          <p:nvPr/>
        </p:nvSpPr>
        <p:spPr>
          <a:xfrm>
            <a:off x="2214720" y="1143000"/>
            <a:ext cx="435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读写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结合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2"/>
          <p:cNvSpPr/>
          <p:nvPr/>
        </p:nvSpPr>
        <p:spPr>
          <a:xfrm>
            <a:off x="684360" y="3068640"/>
            <a:ext cx="73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学习课文的写作方法，按照，（活动）前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演出（活动）中     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—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   演出</a:t>
            </a:r>
            <a:r>
              <a:rPr b="1" lang="en-US" sz="3600" spc="-1" strike="noStrike">
                <a:solidFill>
                  <a:srgbClr val="0070c0"/>
                </a:solidFill>
                <a:latin typeface="Arial"/>
              </a:rPr>
              <a:t>(</a:t>
            </a:r>
            <a:r>
              <a:rPr b="1" lang="zh-CN" sz="3600" spc="-1" strike="noStrike">
                <a:solidFill>
                  <a:srgbClr val="0070c0"/>
                </a:solidFill>
                <a:latin typeface="Arial"/>
                <a:ea typeface="宋体"/>
              </a:rPr>
              <a:t>活动）后的时间顺序写你看过的一次演出或活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  <p:sndAc>
      <p:stSnd>
        <p:snd r:embed="rId3" name="type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7A12-B0D6-408C-8A4E-7568B5B790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8" name="组合 10"/>
          <p:cNvGrpSpPr/>
          <p:nvPr/>
        </p:nvGrpSpPr>
        <p:grpSpPr>
          <a:xfrm>
            <a:off x="0" y="0"/>
            <a:ext cx="9144000" cy="6862680"/>
            <a:chOff x="0" y="0"/>
            <a:chExt cx="9144000" cy="6862680"/>
          </a:xfrm>
        </p:grpSpPr>
        <p:pic>
          <p:nvPicPr>
            <p:cNvPr id="509" name="Picture 7" descr="图片93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62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10" name="Group 11"/>
            <p:cNvGrpSpPr/>
            <p:nvPr/>
          </p:nvGrpSpPr>
          <p:grpSpPr>
            <a:xfrm>
              <a:off x="250560" y="260280"/>
              <a:ext cx="4033800" cy="6408720"/>
              <a:chOff x="250560" y="260280"/>
              <a:chExt cx="4033800" cy="6408720"/>
            </a:xfrm>
          </p:grpSpPr>
          <p:pic>
            <p:nvPicPr>
              <p:cNvPr id="511" name="Picture 4" descr="布袋木偶"/>
              <p:cNvPicPr/>
              <p:nvPr/>
            </p:nvPicPr>
            <p:blipFill>
              <a:blip r:embed="rId2"/>
              <a:stretch/>
            </p:blipFill>
            <p:spPr>
              <a:xfrm>
                <a:off x="250560" y="1125360"/>
                <a:ext cx="4033800" cy="554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Text Box 8"/>
              <p:cNvSpPr/>
              <p:nvPr/>
            </p:nvSpPr>
            <p:spPr>
              <a:xfrm>
                <a:off x="899640" y="260280"/>
                <a:ext cx="2448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布袋木偶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3" name="Group 12"/>
          <p:cNvGrpSpPr/>
          <p:nvPr/>
        </p:nvGrpSpPr>
        <p:grpSpPr>
          <a:xfrm>
            <a:off x="4500720" y="260280"/>
            <a:ext cx="4464000" cy="6408720"/>
            <a:chOff x="4500720" y="260280"/>
            <a:chExt cx="4464000" cy="6408720"/>
          </a:xfrm>
        </p:grpSpPr>
        <p:pic>
          <p:nvPicPr>
            <p:cNvPr id="514" name="Picture 5" descr="木偶艺术"/>
            <p:cNvPicPr/>
            <p:nvPr/>
          </p:nvPicPr>
          <p:blipFill>
            <a:blip r:embed="rId3"/>
            <a:stretch/>
          </p:blipFill>
          <p:spPr>
            <a:xfrm>
              <a:off x="4500720" y="1125360"/>
              <a:ext cx="4464000" cy="554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9"/>
            <p:cNvSpPr/>
            <p:nvPr/>
          </p:nvSpPr>
          <p:spPr>
            <a:xfrm>
              <a:off x="5867280" y="260280"/>
              <a:ext cx="244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木偶艺术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矩形 7"/>
          <p:cNvSpPr/>
          <p:nvPr/>
        </p:nvSpPr>
        <p:spPr>
          <a:xfrm>
            <a:off x="1900080" y="36212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图片93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268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8" descr="四川大木偶戏"/>
          <p:cNvPicPr/>
          <p:nvPr/>
        </p:nvPicPr>
        <p:blipFill>
          <a:blip r:embed="rId2"/>
          <a:stretch/>
        </p:blipFill>
        <p:spPr>
          <a:xfrm>
            <a:off x="250920" y="1125360"/>
            <a:ext cx="4176720" cy="554364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9"/>
          <p:cNvSpPr/>
          <p:nvPr/>
        </p:nvSpPr>
        <p:spPr>
          <a:xfrm>
            <a:off x="684360" y="33336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四川大木偶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0"/>
          <p:cNvSpPr/>
          <p:nvPr/>
        </p:nvSpPr>
        <p:spPr>
          <a:xfrm>
            <a:off x="5580000" y="333360"/>
            <a:ext cx="31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托棒木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11" descr="托棍木偶"/>
          <p:cNvPicPr/>
          <p:nvPr/>
        </p:nvPicPr>
        <p:blipFill>
          <a:blip r:embed="rId3"/>
          <a:stretch/>
        </p:blipFill>
        <p:spPr>
          <a:xfrm>
            <a:off x="4572000" y="1125360"/>
            <a:ext cx="4392720" cy="5472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type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8" descr="图片4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4"/>
          <p:cNvSpPr/>
          <p:nvPr/>
        </p:nvSpPr>
        <p:spPr>
          <a:xfrm>
            <a:off x="1187280" y="134136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 自由地、小声地朗读课文，争取读通顺，画出不懂的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187280" y="2421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标出自然段，想想各段分别写了什么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6"/>
          <p:cNvSpPr/>
          <p:nvPr/>
        </p:nvSpPr>
        <p:spPr>
          <a:xfrm>
            <a:off x="1258920" y="335772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再读课文，想一想文章是按什么顺序介绍木偶戏的？全文可以分为几部分内容，怎样分？每部分讲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1187280" y="46530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标出文中新词，并联系上下文或借助工具书理解词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10" descr="初读感知"/>
          <p:cNvPicPr/>
          <p:nvPr/>
        </p:nvPicPr>
        <p:blipFill>
          <a:blip r:embed="rId2"/>
          <a:stretch/>
        </p:blipFill>
        <p:spPr>
          <a:xfrm>
            <a:off x="395280" y="189000"/>
            <a:ext cx="2881440" cy="936360"/>
          </a:xfrm>
          <a:prstGeom prst="rect">
            <a:avLst/>
          </a:prstGeom>
          <a:ln w="0">
            <a:noFill/>
          </a:ln>
        </p:spPr>
      </p:pic>
    </p:spTree>
  </p:cSld>
  <p:transition>
    <p:cover dir="d"/>
    <p:sndAc>
      <p:stSnd>
        <p:snd r:embed="rId3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图片44"/>
          <p:cNvPicPr/>
          <p:nvPr/>
        </p:nvPicPr>
        <p:blipFill>
          <a:blip r:embed="rId1"/>
          <a:stretch/>
        </p:blipFill>
        <p:spPr>
          <a:xfrm>
            <a:off x="-317520" y="-23328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整体感知"/>
          <p:cNvPicPr/>
          <p:nvPr/>
        </p:nvPicPr>
        <p:blipFill>
          <a:blip r:embed="rId2"/>
          <a:stretch/>
        </p:blipFill>
        <p:spPr>
          <a:xfrm>
            <a:off x="468360" y="476280"/>
            <a:ext cx="2017800" cy="86508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1187280" y="2205000"/>
            <a:ext cx="6913800" cy="1373760"/>
          </a:xfrm>
          <a:prstGeom prst="rect">
            <a:avLst/>
          </a:prstGeom>
          <a:noFill/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部分（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写演出前的行头、观众、戏台等情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部分（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写演出的全过程。表现木偶艺人的技艺高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三部分（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）：写曲终人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7"/>
          <p:cNvGrpSpPr/>
          <p:nvPr/>
        </p:nvGrpSpPr>
        <p:grpSpPr>
          <a:xfrm>
            <a:off x="468360" y="476280"/>
            <a:ext cx="2042640" cy="1079640"/>
            <a:chOff x="468360" y="476280"/>
            <a:chExt cx="2042640" cy="1079640"/>
          </a:xfrm>
        </p:grpSpPr>
        <p:pic>
          <p:nvPicPr>
            <p:cNvPr id="532" name="Picture 8" descr="09"/>
            <p:cNvPicPr/>
            <p:nvPr/>
          </p:nvPicPr>
          <p:blipFill>
            <a:blip r:embed="rId3"/>
            <a:stretch/>
          </p:blipFill>
          <p:spPr>
            <a:xfrm flipH="1">
              <a:off x="468360" y="476280"/>
              <a:ext cx="1931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" name="Text Box 9"/>
            <p:cNvSpPr/>
            <p:nvPr/>
          </p:nvSpPr>
          <p:spPr>
            <a:xfrm>
              <a:off x="554760" y="944280"/>
              <a:ext cx="195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文章结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ver dir="lu"/>
    <p:sndAc>
      <p:stSnd>
        <p:snd r:embed="rId4" name="wind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5"/>
          <p:cNvSpPr/>
          <p:nvPr/>
        </p:nvSpPr>
        <p:spPr>
          <a:xfrm>
            <a:off x="1476360" y="62064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组合 13"/>
          <p:cNvGrpSpPr/>
          <p:nvPr/>
        </p:nvGrpSpPr>
        <p:grpSpPr>
          <a:xfrm>
            <a:off x="-181080" y="0"/>
            <a:ext cx="9753840" cy="7315200"/>
            <a:chOff x="-181080" y="0"/>
            <a:chExt cx="9753840" cy="7315200"/>
          </a:xfrm>
        </p:grpSpPr>
        <p:pic>
          <p:nvPicPr>
            <p:cNvPr id="536" name="Picture 4" descr="图片44"/>
            <p:cNvPicPr/>
            <p:nvPr/>
          </p:nvPicPr>
          <p:blipFill>
            <a:blip r:embed="rId1"/>
            <a:stretch/>
          </p:blipFill>
          <p:spPr>
            <a:xfrm>
              <a:off x="-181080" y="0"/>
              <a:ext cx="9753840" cy="7315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7" name="Group 6"/>
            <p:cNvGrpSpPr/>
            <p:nvPr/>
          </p:nvGrpSpPr>
          <p:grpSpPr>
            <a:xfrm>
              <a:off x="468000" y="620640"/>
              <a:ext cx="2042640" cy="1079280"/>
              <a:chOff x="468000" y="620640"/>
              <a:chExt cx="2042640" cy="1079280"/>
            </a:xfrm>
          </p:grpSpPr>
          <p:pic>
            <p:nvPicPr>
              <p:cNvPr id="538" name="Picture 7" descr="09"/>
              <p:cNvPicPr/>
              <p:nvPr/>
            </p:nvPicPr>
            <p:blipFill>
              <a:blip r:embed="rId2"/>
              <a:stretch/>
            </p:blipFill>
            <p:spPr>
              <a:xfrm flipH="1">
                <a:off x="468000" y="620640"/>
                <a:ext cx="193104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8"/>
              <p:cNvSpPr/>
              <p:nvPr/>
            </p:nvSpPr>
            <p:spPr>
              <a:xfrm>
                <a:off x="554400" y="1088640"/>
                <a:ext cx="19562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主要内容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0" name="Text Box 9"/>
          <p:cNvSpPr/>
          <p:nvPr/>
        </p:nvSpPr>
        <p:spPr>
          <a:xfrm>
            <a:off x="611280" y="213372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文按演出前、演出中、演出后的顺序详细介绍了木偶戏表演的全过程。展现了木偶戏神奇的艺术魅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Group 13"/>
          <p:cNvGrpSpPr/>
          <p:nvPr/>
        </p:nvGrpSpPr>
        <p:grpSpPr>
          <a:xfrm>
            <a:off x="6156360" y="3429000"/>
            <a:ext cx="2042640" cy="1079640"/>
            <a:chOff x="6156360" y="3429000"/>
            <a:chExt cx="2042640" cy="1079640"/>
          </a:xfrm>
        </p:grpSpPr>
        <p:pic>
          <p:nvPicPr>
            <p:cNvPr id="542" name="Picture 14" descr="09"/>
            <p:cNvPicPr/>
            <p:nvPr/>
          </p:nvPicPr>
          <p:blipFill>
            <a:blip r:embed="rId3"/>
            <a:stretch/>
          </p:blipFill>
          <p:spPr>
            <a:xfrm flipH="1">
              <a:off x="6156360" y="3429000"/>
              <a:ext cx="19310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5"/>
            <p:cNvSpPr/>
            <p:nvPr/>
          </p:nvSpPr>
          <p:spPr>
            <a:xfrm>
              <a:off x="6242760" y="3897000"/>
              <a:ext cx="1956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中心思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4" name="Text Box 16"/>
          <p:cNvSpPr/>
          <p:nvPr/>
        </p:nvSpPr>
        <p:spPr>
          <a:xfrm>
            <a:off x="611280" y="48690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通过对木偶戏表演的全过程的介绍，表达了作者对祖国传统文化艺术的赞叹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  <p:sndAc>
      <p:stSnd>
        <p:snd r:embed="rId4" name="wind.wav"/>
      </p:stSnd>
    </p:sndAc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8" descr="图片44"/>
          <p:cNvPicPr/>
          <p:nvPr/>
        </p:nvPicPr>
        <p:blipFill>
          <a:blip r:embed="rId1"/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17"/>
          <p:cNvSpPr/>
          <p:nvPr/>
        </p:nvSpPr>
        <p:spPr>
          <a:xfrm>
            <a:off x="179280" y="765000"/>
            <a:ext cx="865440" cy="3097440"/>
          </a:xfrm>
          <a:prstGeom prst="wedgeEllipseCallout">
            <a:avLst>
              <a:gd name="adj1" fmla="val 93300"/>
              <a:gd name="adj2" fmla="val 52666"/>
            </a:avLst>
          </a:prstGeom>
          <a:solidFill>
            <a:srgbClr val="4f81bd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547640" y="1628640"/>
            <a:ext cx="6553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小幡          小旌           雉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羽翎          驰骋           颌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俨如          阎王           霸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1908000" y="981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995640" y="1052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jī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6012000" y="105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1692360" y="2708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í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851280" y="26431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ě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1403280" y="43005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492360" y="43005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y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5940360" y="258300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5940360" y="429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250920" y="907920"/>
            <a:ext cx="86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Arial"/>
                <a:ea typeface="宋体"/>
              </a:rPr>
              <a:t>生字学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" descr="图片44"/>
          <p:cNvPicPr/>
          <p:nvPr/>
        </p:nvPicPr>
        <p:blipFill>
          <a:blip r:embed="rId1"/>
          <a:stretch/>
        </p:blipFill>
        <p:spPr>
          <a:xfrm>
            <a:off x="-39672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6"/>
          <p:cNvSpPr/>
          <p:nvPr/>
        </p:nvSpPr>
        <p:spPr>
          <a:xfrm>
            <a:off x="468360" y="1647720"/>
            <a:ext cx="8388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简陋    殿堂    浑如    棰子     飞花流星      震慑四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衔着    蜷曲    硬朗    舞动      灰扑扑         呼啸而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镀着    小幡    小旌    驰骋       雉鸡翎        石破天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阎王    程序    抖颤     遗憾      所向无敌     朗朗天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颌处   甚或     发痴     奥妙      喜怒哀乐     弯腰捧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俨如   兴高采烈     心满意足    弹指之间     悲欢离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叹服   生死荣辱     统摄四方    冬去春来     无处不在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7" descr="复件 读一读"/>
          <p:cNvPicPr/>
          <p:nvPr/>
        </p:nvPicPr>
        <p:blipFill>
          <a:blip r:embed="rId2"/>
          <a:stretch/>
        </p:blipFill>
        <p:spPr>
          <a:xfrm>
            <a:off x="0" y="0"/>
            <a:ext cx="2114640" cy="1584360"/>
          </a:xfrm>
          <a:prstGeom prst="rect">
            <a:avLst/>
          </a:prstGeom>
          <a:ln w="0">
            <a:noFill/>
          </a:ln>
        </p:spPr>
      </p:pic>
    </p:spTree>
  </p:cSld>
  <p:transition>
    <p:cover dir="rd"/>
    <p:sndAc>
      <p:stSnd>
        <p:snd r:embed="rId3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0:58:5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37:31Z</dcterms:modified>
  <cp:revision>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