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413-D2C9-454D-9242-23BA85E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20C-D079-4A99-A0AC-20FE849D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F37-47ED-4843-A359-285F2970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4BF-D78C-42FF-AA52-282CBB4E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A935-9F16-46C1-9051-9B1A54F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1AC-9AE6-4645-968B-AE65714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139-169F-428D-86A3-616F47B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09D-3205-4FDA-906F-FEEF5B0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18D-2F3E-49B4-9739-5FE87EEA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505-8350-41AA-B6E5-AE251E7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FA6-D534-4B61-8212-FF7DD71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5BC-8D08-49F2-A3BE-441E1075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A6FB-5416-4523-AA53-C84E67C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A90-7C25-404A-8378-302E6FDF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55A-F734-442F-ABBA-2F56397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B49-3C94-4DA8-8295-F49A0CF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6C0-D31F-44A1-BABD-427ED761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7DC-A18A-4DB8-8773-22747BD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046-E574-4FF6-9737-E269B96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90D-6D55-4D0E-A8AB-DEE2335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9D4-450F-44F1-BEEE-E92CADF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B5C-9BFD-4DD4-AE4B-05BAE8F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A49-C8E8-49B6-A766-17BCCAF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ED8-BE70-43BC-9397-B332A57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3E75-6AC4-48ED-9886-2149A49D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2E3-A42A-4DE9-BCE0-9E1725D67D5F}" type="slidenum">
              <a:rPr b="0" lang="zh-CN" sz="1400" spc="-1" strike="noStrike">
                <a:solidFill>
                  <a:srgbClr val="33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柳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1" descr=""/>
          <p:cNvPicPr/>
          <p:nvPr/>
        </p:nvPicPr>
        <p:blipFill>
          <a:blip r:embed="rId2"/>
          <a:stretch/>
        </p:blipFill>
        <p:spPr>
          <a:xfrm>
            <a:off x="2182680" y="1193760"/>
            <a:ext cx="5688000" cy="2317680"/>
          </a:xfrm>
          <a:prstGeom prst="rect">
            <a:avLst/>
          </a:prstGeom>
          <a:ln w="0">
            <a:noFill/>
          </a:ln>
        </p:spPr>
      </p:pic>
      <p:pic>
        <p:nvPicPr>
          <p:cNvPr id="84" name="矩形 3" descr=""/>
          <p:cNvPicPr/>
          <p:nvPr/>
        </p:nvPicPr>
        <p:blipFill>
          <a:blip r:embed="rId3"/>
          <a:stretch/>
        </p:blipFill>
        <p:spPr>
          <a:xfrm>
            <a:off x="993600" y="5767560"/>
            <a:ext cx="7302600" cy="62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611280" y="836640"/>
            <a:ext cx="741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227640" y="2349360"/>
            <a:ext cx="144720" cy="1008360"/>
          </a:xfrm>
          <a:custGeom>
            <a:avLst/>
            <a:gdLst>
              <a:gd name="textAreaLeft" fmla="*/ 0 w 144720"/>
              <a:gd name="textAreaRight" fmla="*/ 52200 w 144720"/>
              <a:gd name="textAreaTop" fmla="*/ 25920 h 1008360"/>
              <a:gd name="textAreaBottom" fmla="*/ 98244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8499"/>
                </a:lnTo>
                <a:cubicBezTo>
                  <a:pt x="10800" y="9398"/>
                  <a:pt x="16200" y="10297"/>
                  <a:pt x="21600" y="10297"/>
                </a:cubicBezTo>
                <a:cubicBezTo>
                  <a:pt x="16200" y="10297"/>
                  <a:pt x="10800" y="11196"/>
                  <a:pt x="10800" y="12095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443640" y="3645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问自答，把对柳树的赞美引向对春天的赞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516720" y="24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赞美柳树内在生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227640" y="3718080"/>
            <a:ext cx="144720" cy="1008000"/>
          </a:xfrm>
          <a:custGeom>
            <a:avLst/>
            <a:gdLst>
              <a:gd name="textAreaLeft" fmla="*/ 0 w 144720"/>
              <a:gd name="textAreaRight" fmla="*/ 52200 w 1447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8499"/>
                </a:lnTo>
                <a:cubicBezTo>
                  <a:pt x="10800" y="9398"/>
                  <a:pt x="16200" y="10297"/>
                  <a:pt x="21600" y="10297"/>
                </a:cubicBezTo>
                <a:cubicBezTo>
                  <a:pt x="16200" y="10297"/>
                  <a:pt x="10800" y="11196"/>
                  <a:pt x="10800" y="12095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228680" y="5629320"/>
            <a:ext cx="53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题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选择题：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咏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用“碧玉”比喻柳树的原因是（　　）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的枝叶鲜嫩新翠有如碧玉一般碧绿润泽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高高地站在那儿，像年轻美貌的女子一般亭亭玉立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不但有如碧玉一般碧绿润泽，而且又如年轻美貌的女子般袅娜多姿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的枝叶轻盈、下垂，被风一吹，飘飘摇摇，像一位年轻潇洒的女子。　　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756-E04F-49B4-9DA4-F595B939AD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柳2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324000" y="907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"/>
          <p:cNvSpPr/>
          <p:nvPr/>
        </p:nvSpPr>
        <p:spPr>
          <a:xfrm>
            <a:off x="1523880" y="5105520"/>
            <a:ext cx="609624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碧 玉 妆 成 一 树 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60020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碧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5053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这里是把柳树的枝叶比做碧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2096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绿色的玉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523880" y="6324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743200" y="6172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，表示“满”“全”“整”的意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3623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满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639762_9105347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bdbc6bb23fa8788bd8335ac2"/>
          <p:cNvPicPr/>
          <p:nvPr/>
        </p:nvPicPr>
        <p:blipFill>
          <a:blip r:embed="rId1"/>
          <a:stretch/>
        </p:blipFill>
        <p:spPr>
          <a:xfrm>
            <a:off x="914400" y="1440"/>
            <a:ext cx="7467480" cy="48754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1600200" y="5029200"/>
            <a:ext cx="640080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 条 垂 下 绿 丝 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82880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无数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581280" y="571500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3526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在这里不表示数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形容很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288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丝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590920" y="6324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用丝纺织成的带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236232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00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00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e05bfca79bdc19bc91768c9"/>
          <p:cNvPicPr/>
          <p:nvPr/>
        </p:nvPicPr>
        <p:blipFill>
          <a:blip r:embed="rId1"/>
          <a:stretch/>
        </p:blipFill>
        <p:spPr>
          <a:xfrm>
            <a:off x="609480" y="0"/>
            <a:ext cx="7926480" cy="53593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1143000" y="5257800"/>
            <a:ext cx="6858000" cy="1066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 知 细 叶 谁 裁 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14600" y="62485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裁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用刀或剪子把物体分成若干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133720" y="6248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3_1800_4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1523880" y="5105520"/>
            <a:ext cx="617220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 月 春 风 似 剪 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90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438280" y="61722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二月：农历二月，正是初春时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fe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20097811255646"/>
          <p:cNvPicPr/>
          <p:nvPr/>
        </p:nvPicPr>
        <p:blipFill>
          <a:blip r:embed="rId1"/>
          <a:stretch/>
        </p:blipFill>
        <p:spPr>
          <a:xfrm>
            <a:off x="0" y="-3747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228600" y="4648320"/>
            <a:ext cx="8610480" cy="1447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碧 玉 妆 成  一 树 高，万 条 垂 下  绿 丝 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 知 细 叶  谁 裁 出，二 月 春 风  似 剪 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676520" y="4876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817360" y="4876920"/>
            <a:ext cx="2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181480" y="48769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6095880" y="4876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676520" y="5257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590920" y="5280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181480" y="5280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6321960" y="5334120"/>
            <a:ext cx="2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80880" y="601992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高的柳树好像用碧绿的玉石打扮起来的一样，无数条柳枝低垂摇荡，好像根根丝织的带子。不知道这纤细的叶片是谁用心裁剪出来的，大概是二月的春风这把神奇的大剪刀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7772400" y="647712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07" h="21600">
                <a:moveTo>
                  <a:pt x="29697" y="10800"/>
                </a:moveTo>
                <a:lnTo>
                  <a:pt x="43710" y="3794"/>
                </a:lnTo>
                <a:lnTo>
                  <a:pt x="437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7010280" y="3809880"/>
            <a:ext cx="1600200" cy="762120"/>
            <a:chOff x="7010280" y="3809880"/>
            <a:chExt cx="1600200" cy="762120"/>
          </a:xfrm>
        </p:grpSpPr>
        <p:sp>
          <p:nvSpPr>
            <p:cNvPr id="127" name="Text Box 16"/>
            <p:cNvSpPr/>
            <p:nvPr/>
          </p:nvSpPr>
          <p:spPr>
            <a:xfrm>
              <a:off x="7010280" y="38098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8e82c"/>
                  </a:solidFill>
                  <a:latin typeface="Arial"/>
                </a:rPr>
                <a:t>阅读与赏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咏柳 歌曲.mp3" descr="咏柳 歌曲"/>
            <p:cNvPicPr/>
            <p:nvPr/>
          </p:nvPicPr>
          <p:blipFill>
            <a:blip r:embed="rId2"/>
            <a:stretch/>
          </p:blipFill>
          <p:spPr>
            <a:xfrm>
              <a:off x="7619760" y="4267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  <p:sndAc>
      <p:stSnd>
        <p:snd r:embed="rId3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-1474920" y="836640"/>
            <a:ext cx="741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435640" y="2492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实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508720" y="3789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16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53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