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2.wmf" ContentType="image/x-wmf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9455-73BE-414E-BF09-34D52BA9A7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5DB2-6F7F-49E4-A4AF-52AE2DAFBF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8D6-832D-430E-A567-8A3A64F6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D30-9F2A-4D09-8F10-5CBCE32A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6EF-0ADA-4753-873D-DB3259A5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540-8C81-4431-AC52-931F6206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673-7996-455B-BE59-F828AF9F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9A6-4FEE-484B-8484-E5C29B25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308-559E-43CB-A44E-2F095C20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77C-BEF8-4708-9DDD-554039B1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6DD-77CE-4B0B-AD93-190206A0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885-1382-4C05-8C09-01B7336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9C3-FB4C-4DA6-A56B-E700F2B5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82D-44EC-4CD3-85AB-3FD394F0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4C95-C789-4000-854C-0A5768952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51920" y="1295280"/>
            <a:ext cx="48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斯基摩人的冰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6" descr=""/>
          <p:cNvPicPr/>
          <p:nvPr/>
        </p:nvPicPr>
        <p:blipFill>
          <a:blip r:embed="rId2"/>
          <a:stretch/>
        </p:blipFill>
        <p:spPr>
          <a:xfrm>
            <a:off x="1595520" y="579420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09480" y="105084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建造时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在避风的地方选好地基，卡一个坑；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在坑上垒成半球形的冰屋顶；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然后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，开一个小窗，使光线能够射进屋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04920" y="34894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__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__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然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71680" y="1155600"/>
            <a:ext cx="796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床也是冰块垒成的。晚上睡觉，一家人钻进皮制的大袋子里。招待客人时，他们在冰床上铺开垫毯和鹿皮，坐着暖和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晚上，爱斯基摩人点燃海豹油灯。这样，既能照明，又能取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1371600" y="1676520"/>
            <a:ext cx="2743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24280" y="115812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斯基摩人的冰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990720" y="304920"/>
            <a:ext cx="380880" cy="6172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60920 h 6172200"/>
              <a:gd name="textAreaBottom" fmla="*/ 6011280 h 61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216160" y="29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砖垒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032920" y="25970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屋顶             半球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654800" y="34815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铺野草     海豹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53440" y="5843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屋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263120" y="586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71680" y="1143000"/>
            <a:ext cx="796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种冰屋，住两三个月就会融化，爱斯基摩人总是忙着盖新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现在，爱斯基摩人住上了舒适的木板房，从原始生活一下子进入了现代文明。但是，他们没有忘记传统，还造一些冰屋供人们游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57200" y="4419720"/>
            <a:ext cx="3505320" cy="838080"/>
          </a:xfrm>
          <a:prstGeom prst="wedgeRoundRectCallout">
            <a:avLst>
              <a:gd name="adj1" fmla="val -44157"/>
              <a:gd name="adj2" fmla="val 10265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为什么爱斯基摩人会建造这样的冰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2179800" y="2041560"/>
            <a:ext cx="47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温度    能够    挖坑    海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345040" y="2895480"/>
            <a:ext cx="444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垫毯    盖上   照射    一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801880" y="3886200"/>
            <a:ext cx="315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斯基摩人     选地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huabai"/>
          <p:cNvPicPr/>
          <p:nvPr/>
        </p:nvPicPr>
        <p:blipFill>
          <a:blip r:embed="rId1"/>
          <a:stretch/>
        </p:blipFill>
        <p:spPr>
          <a:xfrm>
            <a:off x="914400" y="1947960"/>
            <a:ext cx="2714760" cy="2700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008080" y="2895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008080" y="2057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huabai"/>
          <p:cNvPicPr/>
          <p:nvPr/>
        </p:nvPicPr>
        <p:blipFill>
          <a:blip r:embed="rId2"/>
          <a:stretch/>
        </p:blipFill>
        <p:spPr>
          <a:xfrm>
            <a:off x="5257800" y="1947960"/>
            <a:ext cx="2714760" cy="2700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6351480" y="2895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351480" y="2041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69800" y="2937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103400" y="1136520"/>
            <a:ext cx="7038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斯  基  垒  坑 射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9560" y="7430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338880" y="762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ē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770120" y="43927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  盖  豹  毯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440520" y="39625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533680" y="76212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385240" y="39625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7310880" y="396252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628560" y="762120"/>
            <a:ext cx="7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7920360" y="762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h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1451520" y="3962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é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hockwaveFlash1" descr=""/>
          <p:cNvPicPr/>
          <p:nvPr/>
        </p:nvPicPr>
        <p:blipFill>
          <a:blip r:embed="rId2"/>
          <a:stretch/>
        </p:blipFill>
        <p:spPr>
          <a:xfrm>
            <a:off x="781200" y="24382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ShockwaveFlash2" descr=""/>
          <p:cNvPicPr/>
          <p:nvPr/>
        </p:nvPicPr>
        <p:blipFill>
          <a:blip r:embed="rId3"/>
          <a:stretch/>
        </p:blipFill>
        <p:spPr>
          <a:xfrm>
            <a:off x="268596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ShockwaveFlash3" descr=""/>
          <p:cNvPicPr/>
          <p:nvPr/>
        </p:nvPicPr>
        <p:blipFill>
          <a:blip r:embed="rId4"/>
          <a:stretch/>
        </p:blipFill>
        <p:spPr>
          <a:xfrm>
            <a:off x="4667400" y="24382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ShockwaveFlash4" descr=""/>
          <p:cNvPicPr/>
          <p:nvPr/>
        </p:nvPicPr>
        <p:blipFill>
          <a:blip r:embed="rId5"/>
          <a:stretch/>
        </p:blipFill>
        <p:spPr>
          <a:xfrm>
            <a:off x="664848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ShockwaveFlash5" descr=""/>
          <p:cNvPicPr/>
          <p:nvPr/>
        </p:nvPicPr>
        <p:blipFill>
          <a:blip r:embed="rId6"/>
          <a:stretch/>
        </p:blipFill>
        <p:spPr>
          <a:xfrm>
            <a:off x="794376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ShockwaveFlash6" descr=""/>
          <p:cNvPicPr/>
          <p:nvPr/>
        </p:nvPicPr>
        <p:blipFill>
          <a:blip r:embed="rId7"/>
          <a:stretch/>
        </p:blipFill>
        <p:spPr>
          <a:xfrm>
            <a:off x="1600200" y="5638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ShockwaveFlash7" descr=""/>
          <p:cNvPicPr/>
          <p:nvPr/>
        </p:nvPicPr>
        <p:blipFill>
          <a:blip r:embed="rId8"/>
          <a:stretch/>
        </p:blipFill>
        <p:spPr>
          <a:xfrm>
            <a:off x="3429000" y="5638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ShockwaveFlash8" descr=""/>
          <p:cNvPicPr/>
          <p:nvPr/>
        </p:nvPicPr>
        <p:blipFill>
          <a:blip r:embed="rId9"/>
          <a:stretch/>
        </p:blipFill>
        <p:spPr>
          <a:xfrm>
            <a:off x="5410080" y="5638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ShockwaveFlash9" descr=""/>
          <p:cNvPicPr/>
          <p:nvPr/>
        </p:nvPicPr>
        <p:blipFill>
          <a:blip r:embed="rId10"/>
          <a:stretch/>
        </p:blipFill>
        <p:spPr>
          <a:xfrm>
            <a:off x="7391520" y="563868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80880" y="3049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changcheng"/>
          <p:cNvPicPr/>
          <p:nvPr/>
        </p:nvPicPr>
        <p:blipFill>
          <a:blip r:embed="rId1"/>
          <a:stretch/>
        </p:blipFill>
        <p:spPr>
          <a:xfrm>
            <a:off x="804960" y="838080"/>
            <a:ext cx="7534080" cy="4754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4329000" y="6172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长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ta"/>
          <p:cNvPicPr/>
          <p:nvPr/>
        </p:nvPicPr>
        <p:blipFill>
          <a:blip r:embed="rId1"/>
          <a:stretch/>
        </p:blipFill>
        <p:spPr>
          <a:xfrm>
            <a:off x="285840" y="1373040"/>
            <a:ext cx="8572320" cy="4111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253040" y="6080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金字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3"/>
          <p:cNvPicPr/>
          <p:nvPr/>
        </p:nvPicPr>
        <p:blipFill>
          <a:blip r:embed="rId1"/>
          <a:stretch/>
        </p:blipFill>
        <p:spPr>
          <a:xfrm>
            <a:off x="2540160" y="152280"/>
            <a:ext cx="4063680" cy="609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253040" y="638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迪拜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80880" y="3049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01300000044935120418325913742"/>
          <p:cNvPicPr/>
          <p:nvPr/>
        </p:nvPicPr>
        <p:blipFill>
          <a:blip r:embed="rId1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200812221048416"/>
          <p:cNvPicPr/>
          <p:nvPr/>
        </p:nvPicPr>
        <p:blipFill>
          <a:blip r:embed="rId2"/>
          <a:stretch/>
        </p:blipFill>
        <p:spPr>
          <a:xfrm>
            <a:off x="152280" y="2666880"/>
            <a:ext cx="5791320" cy="3856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6996960" y="6019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与冰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拉什莫尔1"/>
          <p:cNvPicPr/>
          <p:nvPr/>
        </p:nvPicPr>
        <p:blipFill>
          <a:blip r:embed="rId1"/>
          <a:stretch/>
        </p:blipFill>
        <p:spPr>
          <a:xfrm>
            <a:off x="1409760" y="762120"/>
            <a:ext cx="6324480" cy="49179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4135320" y="6080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拉什莫尔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01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46292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3633840" y="5867280"/>
            <a:ext cx="170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和冰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633840" y="5867280"/>
            <a:ext cx="170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和冰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02"/>
          <p:cNvPicPr/>
          <p:nvPr/>
        </p:nvPicPr>
        <p:blipFill>
          <a:blip r:embed="rId1"/>
          <a:stretch/>
        </p:blipFill>
        <p:spPr>
          <a:xfrm>
            <a:off x="685800" y="533520"/>
            <a:ext cx="8229600" cy="48988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1"/>
          <p:cNvSpPr/>
          <p:nvPr/>
        </p:nvSpPr>
        <p:spPr>
          <a:xfrm>
            <a:off x="1488960" y="168120"/>
            <a:ext cx="61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633840" y="5867280"/>
            <a:ext cx="170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和冰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4F20-3562-464E-84FE-C9F02FF105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100332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eskimos_04"/>
          <p:cNvPicPr/>
          <p:nvPr/>
        </p:nvPicPr>
        <p:blipFill>
          <a:blip r:embed="rId1"/>
          <a:stretch/>
        </p:blipFill>
        <p:spPr>
          <a:xfrm>
            <a:off x="800280" y="685800"/>
            <a:ext cx="7543800" cy="4924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07320" y="609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狗拉雪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423240" y="304920"/>
            <a:ext cx="28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的冰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屋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wū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228600" y="114300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几十年前，爱斯基摩人的房屋是用冰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种冰屋，是用大小冰砖垒成的。建造时，先在避风的地方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xuǎ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好地基，挖一个坑；再在坑上垒成半球形的冰屋顶；然后，开一个小窗，使光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xià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够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ɡòu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射进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了保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温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wē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防风，爱斯基摩人在冰屋顶铺一层野草，还盖上海豹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571680" y="1155600"/>
            <a:ext cx="796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床也是冰块垒成的。晚上睡觉，一家人钻进皮制的大袋子里。招待客人时，他们在冰床上铺开垫毯和鹿皮，坐着暖和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晚上，爱斯基摩人点燃海豹油灯。这样，既能照明，又能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取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qǔ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暖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nuǎ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71680" y="1143000"/>
            <a:ext cx="796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种冰屋，住两三个月就会融化，爱斯基摩人总是忙着盖新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现在，爱斯基摩人住上了舒适的木板房，从原始生活一下子进入了现代文明。但是，他们没有忘记传统，还造一些冰屋供人们游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471120" y="304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的冰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28600" y="121932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几十年前，爱斯基摩人的房屋是用冰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种冰屋，是用大小冰砖垒成的。建造时，先在避风的地方选好地基，挖一个坑；再在坑上垒成半球形的冰屋顶；然后，开一个小窗，使光线能够射进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了保温和防风，爱斯基摩人在冰屋顶铺一层野草，还盖上海豹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76320" y="184320"/>
            <a:ext cx="2743200" cy="685800"/>
          </a:xfrm>
          <a:prstGeom prst="wedgeRoundRectCallout">
            <a:avLst>
              <a:gd name="adj1" fmla="val -49768"/>
              <a:gd name="adj2" fmla="val 102777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爱斯基摩人的冰屋有哪些奇特的地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3276720" y="2590920"/>
            <a:ext cx="2743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6400800" y="297180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80880" y="3429000"/>
            <a:ext cx="1676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6019920" y="4724280"/>
            <a:ext cx="23619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380880" y="5105520"/>
            <a:ext cx="2743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0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24280" y="115812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斯基摩人的冰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990720" y="304920"/>
            <a:ext cx="380880" cy="6172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60920 h 6172200"/>
              <a:gd name="textAreaBottom" fmla="*/ 6011280 h 61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216160" y="29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砖垒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053440" y="259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屋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654800" y="34815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铺野草     海豹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480920" y="2590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球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471120" y="304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的冰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28600" y="121932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几十年前，爱斯基摩人的房屋是用冰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种冰屋，是用大小冰砖垒成的。建造时，先在避风的地方选好地基，挖一个坑；再在坑上垒成半球形的冰屋顶；然后，开一个小窗，使光线能够射进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了保温和防风，爱斯基摩人在冰屋顶铺一层野草，还盖上海豹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7772400" y="259092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5638680" y="2971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438280" y="34290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3429000" y="4876920"/>
            <a:ext cx="3733920" cy="533160"/>
          </a:xfrm>
          <a:prstGeom prst="wedgeRectCallout">
            <a:avLst>
              <a:gd name="adj1" fmla="val -5185"/>
              <a:gd name="adj2" fmla="val -28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再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然后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1T06:42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3:51Z</dcterms:modified>
  <cp:revision>131</cp:revision>
  <dc:subject>第一PPT模板网-WWW.1PPT.COM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