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67DF-6C84-4650-94A6-E0164A86A4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B883-96B2-478F-911B-04B3C4794D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016-A6AF-49C3-B88F-A4012794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947-F746-44CA-AA6A-988D279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55A-2F43-475D-BB35-450935CD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C83-7F70-4091-AD81-DD3341BD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3F7-1966-4627-8BCC-4587439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8FD-2F62-47DE-9BE3-919EDECA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A93-ABAC-411F-BFD7-0EF68EED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4D0-D5AD-42D5-BCDF-88F2A4F8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2BB-6BC4-4255-932A-82141F44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FAE-90E5-4177-AD6D-122C01C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5F2-786F-4EC1-8DB5-F11512A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E2A-F0C7-4662-AC4D-900993F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EF2B-FCB3-4227-B58C-EB487586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=517354502,3206276941&amp;fm=0&amp;gp=20[1]"/>
          <p:cNvPicPr/>
          <p:nvPr/>
        </p:nvPicPr>
        <p:blipFill>
          <a:blip r:embed="rId1"/>
          <a:stretch/>
        </p:blipFill>
        <p:spPr>
          <a:xfrm>
            <a:off x="6588000" y="1052640"/>
            <a:ext cx="2121120" cy="130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u=3438313575,357028185&amp;fm=0&amp;gp=-26[1]"/>
          <p:cNvPicPr/>
          <p:nvPr/>
        </p:nvPicPr>
        <p:blipFill>
          <a:blip r:embed="rId2"/>
          <a:stretch/>
        </p:blipFill>
        <p:spPr>
          <a:xfrm>
            <a:off x="611280" y="4076640"/>
            <a:ext cx="2160360" cy="161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2168640" y="26082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八个鸡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96956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 rot="5400000">
            <a:off x="681480" y="3067560"/>
            <a:ext cx="2952720" cy="93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中缅界碑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Picture 5" descr="2007219205914"/>
          <p:cNvPicPr/>
          <p:nvPr/>
        </p:nvPicPr>
        <p:blipFill>
          <a:blip r:embed="rId1"/>
          <a:stretch/>
        </p:blipFill>
        <p:spPr>
          <a:xfrm>
            <a:off x="3132000" y="155736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2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520" indent="-7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主要写中国小姑娘依凤在放学回家的路上，发现缅甸境内大婶家的母鸡把八个鸡蛋下在了中国的土地上，而小依凤则悄悄地把这八个鸡蛋送还到缅甸大婶家门口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3348000" y="1700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主要内容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边框1"/>
          <p:cNvPicPr/>
          <p:nvPr/>
        </p:nvPicPr>
        <p:blipFill>
          <a:blip r:embed="rId1"/>
          <a:stretch/>
        </p:blipFill>
        <p:spPr>
          <a:xfrm>
            <a:off x="539640" y="981000"/>
            <a:ext cx="3513240" cy="1297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92360" y="2781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依凤姑娘是用什么办法把八个鸡蛋送还给缅甸大婶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她的眼睛像（泉水一样清亮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她的笑容像（像芒果一样甜蜜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31640" y="1988640"/>
            <a:ext cx="7056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茸茸（      ）        缅甸 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芦花 （　  ）           收拢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扭动（　  ）            泉水（　　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辉（　  ）　         映照（ 　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1770120" y="5648400"/>
            <a:ext cx="49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一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小依凤的品质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依凤有着一颗善良美好的心灵，我们要学习她无私的品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692360" y="2060640"/>
            <a:ext cx="4032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75D0-B0AF-4BBA-9791-A3752E3F45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1640" y="2349000"/>
            <a:ext cx="748800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准确、流利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依凤美好的心灵，培养无私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61680" y="836280"/>
            <a:ext cx="84819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yī  gèng   nèi   shěn   chuī 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依     凤        内     婶       炊      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máng   róng   miǎn  diàn    l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芒         茸       缅       甸       芦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lǒng   niǔ    quán   huī  y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拢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扭      泉       辉     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419640" y="0"/>
            <a:ext cx="24476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依靠  凤凰   内向  婶婶 炊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芒果  毛茸茸    缅甸    芦花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收拢  扭动  泉水  辉映  翅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依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凤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内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炊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2484360" y="1989000"/>
            <a:ext cx="3168720" cy="291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627280" y="19162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芒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84360" y="3429000"/>
            <a:ext cx="316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4067280" y="19890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224640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4635360" cy="616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635360" y="692280"/>
            <a:ext cx="4508640" cy="6165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987640" y="-100080"/>
            <a:ext cx="3429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欣赏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5:39:41Z</dcterms:created>
  <dc:creator>第一PPT模板网-WWW.1PPT.COM</dc:creator>
  <dc:description>第一PPT模板网-WWW.1PPT.COM
</dc:description>
  <cp:keywords>第一PPT模板网-WWW.1PPT.COM第一PPT模板网-WWW.1PPT.COM</cp:keywords>
  <dc:language>en-US</dc:language>
  <cp:lastModifiedBy>xinxing</cp:lastModifiedBy>
  <dcterms:modified xsi:type="dcterms:W3CDTF">2017-04-16T23:31:44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