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F94F-DEF3-4C36-8E51-0CD282981EB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4E18-664F-4047-862A-4E50C2534BF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4508-AB37-44B4-95B2-B31FF6B73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F467-2B39-4A93-857E-68F2DC3C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8A24-D91F-4695-8C4F-3F94D0AF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6DA-2CAF-4FDC-90D5-83ACD516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3AAD-DF86-4F5E-91FD-EE95B741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4A8B-7CE3-4E49-8648-539613C7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E717-1C41-439F-A3B3-8F2792C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5C1-18A0-4D0B-9D56-D4C5E7552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A1CB-F08D-413D-85B0-576493023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785-0329-42EB-9F72-DCA493BC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57BF-D8E2-43E4-A9CA-979004C5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AF41-4DFC-457F-B1EA-4DF51C70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BB83-860A-4359-BE40-B156F712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花边边~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2232000" y="2575080"/>
            <a:ext cx="46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比  赛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1109520" y="155736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湘教版一年级语文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1827000" y="4797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底纹边~8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5"/>
          <p:cNvSpPr/>
          <p:nvPr/>
        </p:nvSpPr>
        <p:spPr>
          <a:xfrm>
            <a:off x="3635280" y="1989000"/>
            <a:ext cx="28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兔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619280" y="3789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麻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724360" y="3789360"/>
            <a:ext cx="19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 rot="19320600">
            <a:off x="2843280" y="2997000"/>
            <a:ext cx="1368360" cy="236520"/>
          </a:xfrm>
          <a:prstGeom prst="rightArrow">
            <a:avLst>
              <a:gd name="adj1" fmla="val 58111"/>
              <a:gd name="adj2" fmla="val 152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 rot="10800000">
            <a:off x="3708000" y="4076640"/>
            <a:ext cx="1655640" cy="287280"/>
          </a:xfrm>
          <a:prstGeom prst="rightArrow">
            <a:avLst>
              <a:gd name="adj1" fmla="val 58111"/>
              <a:gd name="adj2" fmla="val 152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 rot="2750400">
            <a:off x="4653360" y="2986560"/>
            <a:ext cx="1368360" cy="236520"/>
          </a:xfrm>
          <a:prstGeom prst="rightArrow">
            <a:avLst>
              <a:gd name="adj1" fmla="val 58111"/>
              <a:gd name="adj2" fmla="val 1529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4140360" y="4365720"/>
            <a:ext cx="1152360" cy="504720"/>
          </a:xfrm>
          <a:prstGeom prst="wedgeEllipseCallout">
            <a:avLst>
              <a:gd name="adj1" fmla="val 0"/>
              <a:gd name="adj2" fmla="val 1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3"/>
          <p:cNvSpPr/>
          <p:nvPr/>
        </p:nvSpPr>
        <p:spPr>
          <a:xfrm>
            <a:off x="1908000" y="2781360"/>
            <a:ext cx="1152720" cy="504720"/>
          </a:xfrm>
          <a:prstGeom prst="wedgeEllipseCallout">
            <a:avLst>
              <a:gd name="adj1" fmla="val 16944"/>
              <a:gd name="adj2" fmla="val 43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4"/>
          <p:cNvSpPr/>
          <p:nvPr/>
        </p:nvSpPr>
        <p:spPr>
          <a:xfrm>
            <a:off x="5508720" y="2565360"/>
            <a:ext cx="1152360" cy="504720"/>
          </a:xfrm>
          <a:prstGeom prst="wedgeEllipseCallout">
            <a:avLst>
              <a:gd name="adj1" fmla="val 25620"/>
              <a:gd name="adj2" fmla="val -7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5"/>
          <p:cNvSpPr/>
          <p:nvPr/>
        </p:nvSpPr>
        <p:spPr>
          <a:xfrm>
            <a:off x="3780000" y="981000"/>
            <a:ext cx="194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羚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6"/>
          <p:cNvSpPr/>
          <p:nvPr/>
        </p:nvSpPr>
        <p:spPr>
          <a:xfrm>
            <a:off x="2195640" y="4724280"/>
            <a:ext cx="12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大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7"/>
          <p:cNvSpPr/>
          <p:nvPr/>
        </p:nvSpPr>
        <p:spPr>
          <a:xfrm>
            <a:off x="5796000" y="472428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8"/>
          <p:cNvSpPr/>
          <p:nvPr/>
        </p:nvSpPr>
        <p:spPr>
          <a:xfrm>
            <a:off x="2700360" y="4437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4284720" y="1628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0"/>
          <p:cNvSpPr/>
          <p:nvPr/>
        </p:nvSpPr>
        <p:spPr>
          <a:xfrm>
            <a:off x="6372360" y="4581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4"/>
          <p:cNvSpPr/>
          <p:nvPr/>
        </p:nvSpPr>
        <p:spPr>
          <a:xfrm>
            <a:off x="3059280" y="1197000"/>
            <a:ext cx="2881080" cy="1368360"/>
          </a:xfrm>
          <a:prstGeom prst="cloudCallout">
            <a:avLst>
              <a:gd name="adj1" fmla="val 48898"/>
              <a:gd name="adj2" fmla="val 48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找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14400" y="278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赛              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咱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拓展延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58920" y="278136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麻雀、兔子、和青蛙听了小猫的话，心里是怎么想的，大家想一想，然后把他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/>
          <p:cNvSpPr/>
          <p:nvPr/>
        </p:nvSpPr>
        <p:spPr>
          <a:xfrm>
            <a:off x="5796000" y="1197000"/>
            <a:ext cx="914400" cy="91440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总结提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42560" y="2637000"/>
            <a:ext cx="748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不管在学习还是生活中都要善于去发垷别人的长处，这样才能找到差距，从而不断进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2"/>
          <p:cNvSpPr txBox="1"/>
          <p:nvPr/>
        </p:nvSpPr>
        <p:spPr>
          <a:xfrm>
            <a:off x="1908000" y="1700280"/>
            <a:ext cx="4969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3C0D8-105E-4298-9035-D214F269C36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4000" y="1484280"/>
            <a:ext cx="778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认识本课生字，会用“和”字说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主朗读课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有趣的故事中体会，要善于发现别人的长处并学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090440" y="6010200"/>
            <a:ext cx="55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0" y="600120"/>
            <a:ext cx="4643280" cy="62578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4572000" y="620640"/>
            <a:ext cx="4572000" cy="3200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500720" y="3753000"/>
            <a:ext cx="4643280" cy="3105000"/>
          </a:xfrm>
          <a:prstGeom prst="rect">
            <a:avLst/>
          </a:prstGeom>
          <a:ln w="0">
            <a:noFill/>
          </a:ln>
        </p:spPr>
      </p:pic>
      <p:sp>
        <p:nvSpPr>
          <p:cNvPr id="58" name="WordArt 7"/>
          <p:cNvSpPr txBox="1"/>
          <p:nvPr/>
        </p:nvSpPr>
        <p:spPr>
          <a:xfrm>
            <a:off x="3419640" y="0"/>
            <a:ext cx="1866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宋体"/>
              </a:rPr>
              <a:t>课文欣赏</a:t>
            </a:r>
            <a:endParaRPr b="1" lang="en-US" sz="1800" spc="-1" strike="noStrike">
              <a:ln w="0">
                <a:noFill/>
              </a:ln>
              <a:blipFill rotWithShape="0">
                <a:blip r:embed="rId5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5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底纹~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3348000" y="11253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生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2195640" y="2565360"/>
            <a:ext cx="49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比  兔  棵  咱完  同  这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理解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39640" y="26370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麻雀、兔子、青蛙的样子看，你认为它们在干什么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话     商量比赛的事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它们是怎样商量的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用“和”说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/>
          <p:cNvSpPr/>
          <p:nvPr/>
        </p:nvSpPr>
        <p:spPr>
          <a:xfrm>
            <a:off x="7380360" y="4581360"/>
            <a:ext cx="104760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练习说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麻雀、兔子和青蛙在一棵大树下商量比赛的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动脑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63640" y="2349000"/>
            <a:ext cx="640872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麻雀为什么要比飞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兔子为什么要比跑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青蛙为什么要比游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底纹边~8"/>
          <p:cNvPicPr/>
          <p:nvPr/>
        </p:nvPicPr>
        <p:blipFill>
          <a:blip r:embed="rId1"/>
          <a:stretch/>
        </p:blipFill>
        <p:spPr>
          <a:xfrm>
            <a:off x="0" y="-146160"/>
            <a:ext cx="9144000" cy="7004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3635280" y="1989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兔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547640" y="3789360"/>
            <a:ext cx="18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麻雀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724360" y="378936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青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2050920" y="1125360"/>
            <a:ext cx="489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读课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课文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9"/>
          <p:cNvSpPr/>
          <p:nvPr/>
        </p:nvSpPr>
        <p:spPr>
          <a:xfrm rot="19320600">
            <a:off x="2411280" y="3213000"/>
            <a:ext cx="1368720" cy="236520"/>
          </a:xfrm>
          <a:prstGeom prst="rightArrow">
            <a:avLst>
              <a:gd name="adj1" fmla="val 58111"/>
              <a:gd name="adj2" fmla="val 1530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0"/>
          <p:cNvSpPr/>
          <p:nvPr/>
        </p:nvSpPr>
        <p:spPr>
          <a:xfrm rot="10800000">
            <a:off x="3563640" y="4365720"/>
            <a:ext cx="1655640" cy="287280"/>
          </a:xfrm>
          <a:prstGeom prst="rightArrow">
            <a:avLst>
              <a:gd name="adj1" fmla="val 58111"/>
              <a:gd name="adj2" fmla="val 1524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1"/>
          <p:cNvSpPr/>
          <p:nvPr/>
        </p:nvSpPr>
        <p:spPr>
          <a:xfrm rot="2750400">
            <a:off x="5013000" y="3203640"/>
            <a:ext cx="1368360" cy="235080"/>
          </a:xfrm>
          <a:prstGeom prst="rightArrow">
            <a:avLst>
              <a:gd name="adj1" fmla="val 58111"/>
              <a:gd name="adj2" fmla="val 1539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2"/>
          <p:cNvSpPr/>
          <p:nvPr/>
        </p:nvSpPr>
        <p:spPr>
          <a:xfrm>
            <a:off x="4067280" y="4869000"/>
            <a:ext cx="1152360" cy="504720"/>
          </a:xfrm>
          <a:prstGeom prst="wedgeEllipseCallout">
            <a:avLst>
              <a:gd name="adj1" fmla="val 828"/>
              <a:gd name="adj2" fmla="val -8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3"/>
          <p:cNvSpPr/>
          <p:nvPr/>
        </p:nvSpPr>
        <p:spPr>
          <a:xfrm>
            <a:off x="1908000" y="2781360"/>
            <a:ext cx="1152720" cy="504720"/>
          </a:xfrm>
          <a:prstGeom prst="wedgeEllipseCallout">
            <a:avLst>
              <a:gd name="adj1" fmla="val 16944"/>
              <a:gd name="adj2" fmla="val 43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4"/>
          <p:cNvSpPr/>
          <p:nvPr/>
        </p:nvSpPr>
        <p:spPr>
          <a:xfrm>
            <a:off x="6156360" y="2781360"/>
            <a:ext cx="1152360" cy="504720"/>
          </a:xfrm>
          <a:prstGeom prst="wedgeEllipseCallout">
            <a:avLst>
              <a:gd name="adj1" fmla="val 828"/>
              <a:gd name="adj2" fmla="val -84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2565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正因为如此，它们都想拿自己的长处和别人比，这样才能自己获胜。你们有这样的时候吗？你认为这样做好不好？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4:47:0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43:59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