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gif" ContentType="image/gif"/>
  <Override PartName="/ppt/media/image9.png" ContentType="image/png"/>
  <Override PartName="/ppt/media/image6.gif" ContentType="image/gif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jpeg" ContentType="image/jpeg"/>
  <Override PartName="/ppt/media/image5.png" ContentType="image/png"/>
  <Override PartName="/ppt/media/image13.wmf" ContentType="image/x-wmf"/>
  <Override PartName="/ppt/media/image19.png" ContentType="image/png"/>
  <Override PartName="/ppt/media/image18.jpeg" ContentType="image/jpeg"/>
  <Override PartName="/ppt/media/click.wav" ContentType="audio/x-wav"/>
  <Override PartName="/ppt/media/CAMERA.WAV" ContentType="audio/x-wav"/>
  <Override PartName="/ppt/media/type.wav" ContentType="audio/x-wav"/>
  <Override PartName="/ppt/media/image17.gif" ContentType="image/gif"/>
  <Override PartName="/ppt/media/image3.png" ContentType="image/png"/>
  <Override PartName="/ppt/media/image15.png" ContentType="image/png"/>
  <Override PartName="/ppt/media/image1.png" ContentType="image/png"/>
  <Override PartName="/ppt/media/image21.gif" ContentType="image/gif"/>
  <Override PartName="/ppt/media/image22.gif" ContentType="image/gi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FCA0-63ED-4D83-84CC-7FB9072979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FD63-4D0C-47B8-9B33-FD4D36DE95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700-CEED-4BBD-8D67-58191C7E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22C-43B1-46CF-9564-9B4EC56F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A40-5AA1-443B-BE33-173B02CB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1EB-3D9A-4D10-A03E-49E42E5E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CC4B-3427-4C59-99EB-72B92A1B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73BC-A9B4-47F9-9722-4852359C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896E-5134-46D9-9162-83F1BD78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7118-1A2E-4C9D-928E-CC19A512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8CBE-B3BE-45DF-BD29-9D22E1D9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5925-BBA1-4834-BC6B-7A617D1B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58A8-EFE9-48B9-B048-CB811765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890-7C1A-4C97-B94C-B227702C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66A9-B638-475A-B139-5D5B4963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AE37-E3A2-46CF-BEE7-DFD2E1D0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BA32-C791-43EB-A893-1CE3D9E2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5BBB-BAEB-4799-A293-AADBD2F6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CEA9-3D12-4B16-997E-BBB0031C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F35-EDDD-4954-818B-7A91F8F7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13BC-4692-4B27-8B98-05D8170E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788-3C1E-4C40-9A00-E1ED9E38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5BA-831B-44FB-A5AA-21A8DF74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7BB-2F41-4040-A355-6192FA6E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498-002A-4049-8431-064798A5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139-0DF1-4081-86C5-2654F43D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mboo"/>
          <p:cNvPicPr/>
          <p:nvPr/>
        </p:nvPicPr>
        <p:blipFill>
          <a:blip r:embed="rId3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4BFC-94B1-41C3-A1C9-99DFA3BA9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mboo"/>
          <p:cNvPicPr/>
          <p:nvPr/>
        </p:nvPicPr>
        <p:blipFill>
          <a:blip r:embed="rId3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59F5-0844-4880-B61E-B5714CD51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6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pic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10"/>
          <p:cNvSpPr txBox="1"/>
          <p:nvPr/>
        </p:nvSpPr>
        <p:spPr>
          <a:xfrm>
            <a:off x="2575080" y="2060640"/>
            <a:ext cx="4024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中宋"/>
              </a:rPr>
              <a:t>炊烟</a:t>
            </a:r>
            <a:endParaRPr b="1" lang="en-US" sz="9600" spc="-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93" name="矩形 7" descr=""/>
          <p:cNvPicPr/>
          <p:nvPr/>
        </p:nvPicPr>
        <p:blipFill>
          <a:blip r:embed="rId2"/>
          <a:stretch/>
        </p:blipFill>
        <p:spPr>
          <a:xfrm>
            <a:off x="1343160" y="5805360"/>
            <a:ext cx="65736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50920" y="260280"/>
            <a:ext cx="371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总结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692360" y="256536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生活中的美，需要我们用心去观察、体验、感受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1_9"/>
          <p:cNvPicPr/>
          <p:nvPr/>
        </p:nvPicPr>
        <p:blipFill>
          <a:blip r:embed="rId1"/>
          <a:stretch/>
        </p:blipFill>
        <p:spPr>
          <a:xfrm>
            <a:off x="0" y="2060640"/>
            <a:ext cx="2146320" cy="1528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1[1]"/>
          <p:cNvPicPr/>
          <p:nvPr/>
        </p:nvPicPr>
        <p:blipFill>
          <a:blip r:embed="rId2"/>
          <a:stretch/>
        </p:blipFill>
        <p:spPr>
          <a:xfrm>
            <a:off x="0" y="1371600"/>
            <a:ext cx="8675640" cy="46080"/>
          </a:xfrm>
          <a:prstGeom prst="rect">
            <a:avLst/>
          </a:prstGeom>
          <a:ln w="0">
            <a:noFill/>
          </a:ln>
        </p:spPr>
      </p:pic>
      <p:sp>
        <p:nvSpPr>
          <p:cNvPr id="184" name="文本框 1"/>
          <p:cNvSpPr/>
          <p:nvPr/>
        </p:nvSpPr>
        <p:spPr>
          <a:xfrm>
            <a:off x="250920" y="5699160"/>
            <a:ext cx="93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826920" y="7650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练习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116000" y="2492280"/>
            <a:ext cx="65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仔细观察班上某位同学，然后从外貌、语言、行动等方面来刻画其个性，并猜猜他（她）是谁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A2_003"/>
          <p:cNvPicPr/>
          <p:nvPr/>
        </p:nvPicPr>
        <p:blipFill>
          <a:blip r:embed="rId1"/>
          <a:stretch/>
        </p:blipFill>
        <p:spPr>
          <a:xfrm>
            <a:off x="7164360" y="4941720"/>
            <a:ext cx="1544760" cy="12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943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0696-F3D5-47EF-9890-B24224EEE7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755640" y="1557360"/>
            <a:ext cx="784872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炊             薯          自豪         塞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蔬菜      腊肉       寄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无声无息          热气腾腾         出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914400" y="533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读一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1[1]"/>
          <p:cNvPicPr/>
          <p:nvPr/>
        </p:nvPicPr>
        <p:blipFill>
          <a:blip r:embed="rId1"/>
          <a:stretch/>
        </p:blipFill>
        <p:spPr>
          <a:xfrm>
            <a:off x="0" y="1219320"/>
            <a:ext cx="8675640" cy="46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737640" y="191628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hu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576880" y="191628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h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653720" y="191628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á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176880" y="191628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ā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2502360" y="3429000"/>
            <a:ext cx="5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774000" y="342900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h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546440" y="350028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" descr="02403802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4023000" y="981000"/>
            <a:ext cx="69120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cc9900"/>
                </a:solidFill>
                <a:latin typeface="Times New Roman"/>
                <a:ea typeface="黑体"/>
              </a:rPr>
              <a:t>美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727720" y="2924280"/>
            <a:ext cx="69120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cc9900"/>
                </a:solidFill>
                <a:latin typeface="Times New Roman"/>
                <a:ea typeface="黑体"/>
              </a:rPr>
              <a:t>人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536080" y="2997360"/>
            <a:ext cx="69120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cc9900"/>
                </a:solidFill>
                <a:latin typeface="Times New Roman"/>
                <a:ea typeface="黑体"/>
              </a:rPr>
              <a:t>烟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 flipV="1">
            <a:off x="3276720" y="2133720"/>
            <a:ext cx="647640" cy="1079280"/>
          </a:xfrm>
          <a:prstGeom prst="line">
            <a:avLst/>
          </a:prstGeom>
          <a:ln cap="sq" w="12600">
            <a:solidFill>
              <a:srgbClr val="cc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6"/>
          <p:cNvSpPr/>
          <p:nvPr/>
        </p:nvSpPr>
        <p:spPr>
          <a:xfrm flipH="1" flipV="1">
            <a:off x="4858920" y="2060640"/>
            <a:ext cx="792360" cy="1079280"/>
          </a:xfrm>
          <a:prstGeom prst="line">
            <a:avLst/>
          </a:prstGeom>
          <a:ln cap="sq" w="12600">
            <a:solidFill>
              <a:srgbClr val="cc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3634920" y="3573360"/>
            <a:ext cx="1584360" cy="0"/>
          </a:xfrm>
          <a:prstGeom prst="line">
            <a:avLst/>
          </a:prstGeom>
          <a:ln cap="sq" w="12600">
            <a:solidFill>
              <a:srgbClr val="cc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8">
            <a:hlinkClick r:id="" action="ppaction://hlinkshowjump?jump=nextslide"/>
          </p:cNvPr>
          <p:cNvSpPr/>
          <p:nvPr/>
        </p:nvSpPr>
        <p:spPr>
          <a:xfrm>
            <a:off x="7451640" y="5445000"/>
            <a:ext cx="792360" cy="540000"/>
          </a:xfrm>
          <a:custGeom>
            <a:avLst/>
            <a:gdLst>
              <a:gd name="textAreaLeft" fmla="*/ 34920 w 792360"/>
              <a:gd name="textAreaRight" fmla="*/ 757440 w 792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1688" h="21600">
                <a:moveTo>
                  <a:pt x="0" y="0"/>
                </a:moveTo>
                <a:lnTo>
                  <a:pt x="31688" y="0"/>
                </a:lnTo>
                <a:lnTo>
                  <a:pt x="31688" y="21600"/>
                </a:lnTo>
                <a:lnTo>
                  <a:pt x="0" y="21600"/>
                </a:lnTo>
                <a:close/>
              </a:path>
              <a:path fill="lightenLess" w="31688" h="21600">
                <a:moveTo>
                  <a:pt x="0" y="0"/>
                </a:moveTo>
                <a:lnTo>
                  <a:pt x="31688" y="0"/>
                </a:lnTo>
                <a:lnTo>
                  <a:pt x="30288" y="1400"/>
                </a:lnTo>
                <a:lnTo>
                  <a:pt x="1400" y="1400"/>
                </a:lnTo>
                <a:close/>
              </a:path>
              <a:path fill="darken" w="31688" h="21600">
                <a:moveTo>
                  <a:pt x="31688" y="0"/>
                </a:moveTo>
                <a:lnTo>
                  <a:pt x="31688" y="21600"/>
                </a:lnTo>
                <a:lnTo>
                  <a:pt x="30288" y="20200"/>
                </a:lnTo>
                <a:lnTo>
                  <a:pt x="30288" y="1400"/>
                </a:lnTo>
                <a:close/>
              </a:path>
              <a:path fill="darkenLess" w="31688" h="21600">
                <a:moveTo>
                  <a:pt x="31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88" y="20200"/>
                </a:lnTo>
                <a:close/>
              </a:path>
              <a:path fill="lighten" w="31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88" h="21600">
                <a:moveTo>
                  <a:pt x="8837" y="3794"/>
                </a:moveTo>
                <a:lnTo>
                  <a:pt x="22850" y="10800"/>
                </a:lnTo>
                <a:lnTo>
                  <a:pt x="8837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9">
            <a:hlinkClick r:id="" action="ppaction://hlinkshowjump?jump=previousslide"/>
          </p:cNvPr>
          <p:cNvSpPr/>
          <p:nvPr/>
        </p:nvSpPr>
        <p:spPr>
          <a:xfrm>
            <a:off x="6443640" y="5445000"/>
            <a:ext cx="827280" cy="540000"/>
          </a:xfrm>
          <a:custGeom>
            <a:avLst/>
            <a:gdLst>
              <a:gd name="textAreaLeft" fmla="*/ 34920 w 827280"/>
              <a:gd name="textAreaRight" fmla="*/ 792360 w 827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3084" h="21600">
                <a:moveTo>
                  <a:pt x="0" y="0"/>
                </a:moveTo>
                <a:lnTo>
                  <a:pt x="33084" y="0"/>
                </a:lnTo>
                <a:lnTo>
                  <a:pt x="33084" y="21600"/>
                </a:lnTo>
                <a:lnTo>
                  <a:pt x="0" y="21600"/>
                </a:lnTo>
                <a:close/>
              </a:path>
              <a:path fill="lightenLess" w="33084" h="21600">
                <a:moveTo>
                  <a:pt x="0" y="0"/>
                </a:moveTo>
                <a:lnTo>
                  <a:pt x="33084" y="0"/>
                </a:lnTo>
                <a:lnTo>
                  <a:pt x="31684" y="1400"/>
                </a:lnTo>
                <a:lnTo>
                  <a:pt x="1400" y="1400"/>
                </a:lnTo>
                <a:close/>
              </a:path>
              <a:path fill="darken" w="33084" h="21600">
                <a:moveTo>
                  <a:pt x="33084" y="0"/>
                </a:moveTo>
                <a:lnTo>
                  <a:pt x="33084" y="21600"/>
                </a:lnTo>
                <a:lnTo>
                  <a:pt x="31684" y="20200"/>
                </a:lnTo>
                <a:lnTo>
                  <a:pt x="31684" y="1400"/>
                </a:lnTo>
                <a:close/>
              </a:path>
              <a:path fill="darkenLess" w="33084" h="21600">
                <a:moveTo>
                  <a:pt x="33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84" y="20200"/>
                </a:lnTo>
                <a:close/>
              </a:path>
              <a:path fill="lighten" w="33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84" h="21600">
                <a:moveTo>
                  <a:pt x="9535" y="10800"/>
                </a:moveTo>
                <a:lnTo>
                  <a:pt x="23548" y="3794"/>
                </a:lnTo>
                <a:lnTo>
                  <a:pt x="23548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2" descr="细读感悟"/>
          <p:cNvPicPr/>
          <p:nvPr/>
        </p:nvPicPr>
        <p:blipFill>
          <a:blip r:embed="rId2"/>
          <a:stretch/>
        </p:blipFill>
        <p:spPr>
          <a:xfrm>
            <a:off x="684360" y="260280"/>
            <a:ext cx="2985840" cy="798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图片7"/>
          <p:cNvPicPr/>
          <p:nvPr/>
        </p:nvPicPr>
        <p:blipFill>
          <a:blip r:embed="rId3"/>
          <a:stretch/>
        </p:blipFill>
        <p:spPr>
          <a:xfrm>
            <a:off x="6732720" y="1557360"/>
            <a:ext cx="170496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QH_004"/>
          <p:cNvPicPr/>
          <p:nvPr/>
        </p:nvPicPr>
        <p:blipFill>
          <a:blip r:embed="rId4"/>
          <a:stretch/>
        </p:blipFill>
        <p:spPr>
          <a:xfrm>
            <a:off x="684360" y="1341360"/>
            <a:ext cx="16970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5" descr="0eb194d2432a5ac1a9ec9aea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"/>
          <p:cNvSpPr/>
          <p:nvPr/>
        </p:nvSpPr>
        <p:spPr>
          <a:xfrm>
            <a:off x="4932360" y="13413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995720" y="3905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5541840" y="704880"/>
            <a:ext cx="533520" cy="1905120"/>
          </a:xfrm>
          <a:custGeom>
            <a:avLst/>
            <a:gdLst>
              <a:gd name="textAreaLeft" fmla="*/ 340920 w 533520"/>
              <a:gd name="textAreaRight" fmla="*/ 533880 w 53352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6227640" y="476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227640" y="1413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227640" y="234936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5757840" y="3524400"/>
            <a:ext cx="457200" cy="1218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7647120" y="306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6475680" y="3295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6483600" y="38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6475680" y="4438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4" descr="未命名"/>
          <p:cNvPicPr/>
          <p:nvPr/>
        </p:nvPicPr>
        <p:blipFill>
          <a:blip r:embed="rId2"/>
          <a:srcRect l="0" t="0" r="0" b="18569"/>
          <a:stretch/>
        </p:blipFill>
        <p:spPr>
          <a:xfrm>
            <a:off x="4788000" y="5229360"/>
            <a:ext cx="3181320" cy="129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想一想"/>
          <p:cNvPicPr/>
          <p:nvPr/>
        </p:nvPicPr>
        <p:blipFill>
          <a:blip r:embed="rId3"/>
          <a:stretch/>
        </p:blipFill>
        <p:spPr>
          <a:xfrm>
            <a:off x="7502400" y="0"/>
            <a:ext cx="164160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9" descr="XS_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"/>
          <p:cNvSpPr/>
          <p:nvPr/>
        </p:nvSpPr>
        <p:spPr>
          <a:xfrm>
            <a:off x="582480" y="2801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 rot="67200">
            <a:off x="1402920" y="1844640"/>
            <a:ext cx="176400" cy="2730600"/>
          </a:xfrm>
          <a:custGeom>
            <a:avLst/>
            <a:gdLst>
              <a:gd name="textAreaLeft" fmla="*/ 112680 w 176400"/>
              <a:gd name="textAreaRight" fmla="*/ 176760 w 176400"/>
              <a:gd name="textAreaTop" fmla="*/ 70920 h 2730600"/>
              <a:gd name="textAreaBottom" fmla="*/ 2659680 h 273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03960" y="1652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外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627280" y="1628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色黑红，充满山里人特有的光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803960" y="2719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语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54200" y="2741760"/>
            <a:ext cx="374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客人来啦，快请进屋吧”、“吃吧，能吃多少就吃多少”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834200" y="4143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行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354840" y="41432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端、煮、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6227640" y="1844640"/>
            <a:ext cx="304920" cy="2666880"/>
          </a:xfrm>
          <a:custGeom>
            <a:avLst/>
            <a:gdLst>
              <a:gd name="textAreaLeft" fmla="*/ 0 w 304920"/>
              <a:gd name="textAreaRight" fmla="*/ 110160 w 304920"/>
              <a:gd name="textAreaTop" fmla="*/ 69120 h 2666880"/>
              <a:gd name="textAreaBottom" fmla="*/ 25977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6516720" y="1989000"/>
            <a:ext cx="201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纯朴热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直爽勤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精明能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2473560" y="55119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cc0000"/>
                </a:solidFill>
                <a:latin typeface="Times New Roman"/>
                <a:ea typeface="黑体"/>
              </a:rPr>
              <a:t>他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153680" y="5511960"/>
            <a:ext cx="53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Times New Roman"/>
              </a:rPr>
              <a:t>憨厚、真诚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5">
            <a:hlinkClick r:id="" action="ppaction://hlinkshowjump?jump=previousslide"/>
          </p:cNvPr>
          <p:cNvSpPr/>
          <p:nvPr/>
        </p:nvSpPr>
        <p:spPr>
          <a:xfrm>
            <a:off x="6877080" y="5950080"/>
            <a:ext cx="720720" cy="6188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18840"/>
              <a:gd name="textAreaBottom" fmla="*/ 578880 h 618840"/>
            </a:gdLst>
            <a:ahLst/>
            <a:rect l="textAreaLeft" t="textAreaTop" r="textAreaRight" b="textAreaBottom"/>
            <a:pathLst>
              <a:path w="25154" h="21600">
                <a:moveTo>
                  <a:pt x="0" y="0"/>
                </a:moveTo>
                <a:lnTo>
                  <a:pt x="25154" y="0"/>
                </a:lnTo>
                <a:lnTo>
                  <a:pt x="25154" y="21600"/>
                </a:lnTo>
                <a:lnTo>
                  <a:pt x="0" y="21600"/>
                </a:lnTo>
                <a:close/>
              </a:path>
              <a:path fill="lightenLess" w="25154" h="21600">
                <a:moveTo>
                  <a:pt x="0" y="0"/>
                </a:moveTo>
                <a:lnTo>
                  <a:pt x="25154" y="0"/>
                </a:lnTo>
                <a:lnTo>
                  <a:pt x="23754" y="1400"/>
                </a:lnTo>
                <a:lnTo>
                  <a:pt x="1400" y="1400"/>
                </a:lnTo>
                <a:close/>
              </a:path>
              <a:path fill="darken" w="25154" h="21600">
                <a:moveTo>
                  <a:pt x="25154" y="0"/>
                </a:moveTo>
                <a:lnTo>
                  <a:pt x="25154" y="21600"/>
                </a:lnTo>
                <a:lnTo>
                  <a:pt x="23754" y="20200"/>
                </a:lnTo>
                <a:lnTo>
                  <a:pt x="23754" y="1400"/>
                </a:lnTo>
                <a:close/>
              </a:path>
              <a:path fill="darkenLess" w="25154" h="21600">
                <a:moveTo>
                  <a:pt x="25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54" y="20200"/>
                </a:lnTo>
                <a:close/>
              </a:path>
              <a:path fill="lighten" w="25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54" h="21600">
                <a:moveTo>
                  <a:pt x="5570" y="10800"/>
                </a:moveTo>
                <a:lnTo>
                  <a:pt x="19583" y="3794"/>
                </a:lnTo>
                <a:lnTo>
                  <a:pt x="19583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6">
            <a:hlinkClick r:id="" action="ppaction://hlinkshowjump?jump=nextslide"/>
          </p:cNvPr>
          <p:cNvSpPr/>
          <p:nvPr/>
        </p:nvSpPr>
        <p:spPr>
          <a:xfrm>
            <a:off x="766764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3824" y="3794"/>
                </a:moveTo>
                <a:lnTo>
                  <a:pt x="17836" y="10800"/>
                </a:lnTo>
                <a:lnTo>
                  <a:pt x="382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8" descr="赏析领悟"/>
          <p:cNvPicPr/>
          <p:nvPr/>
        </p:nvPicPr>
        <p:blipFill>
          <a:blip r:embed="rId2"/>
          <a:stretch/>
        </p:blipFill>
        <p:spPr>
          <a:xfrm>
            <a:off x="684360" y="404640"/>
            <a:ext cx="2447640" cy="61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" descr="6b0ea93a52d720edbbd44c76327af5fd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"/>
          <p:cNvSpPr/>
          <p:nvPr/>
        </p:nvSpPr>
        <p:spPr>
          <a:xfrm>
            <a:off x="3807000" y="549360"/>
            <a:ext cx="155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00"/>
                </a:solidFill>
                <a:latin typeface="Times New Roman"/>
                <a:ea typeface="隶书"/>
              </a:rPr>
              <a:t>结构安排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97880" y="31417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以炊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为线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511280" y="2925720"/>
            <a:ext cx="360360" cy="16812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800 h 1681200"/>
              <a:gd name="textAreaBottom" fmla="*/ 1643400 h 168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1"/>
                  <a:pt x="10800" y="1562"/>
                </a:cubicBezTo>
                <a:lnTo>
                  <a:pt x="10800" y="9238"/>
                </a:lnTo>
                <a:cubicBezTo>
                  <a:pt x="10800" y="10019"/>
                  <a:pt x="5400" y="10800"/>
                  <a:pt x="0" y="10800"/>
                </a:cubicBezTo>
                <a:cubicBezTo>
                  <a:pt x="5400" y="10800"/>
                  <a:pt x="10800" y="11581"/>
                  <a:pt x="10800" y="12362"/>
                </a:cubicBezTo>
                <a:lnTo>
                  <a:pt x="10800" y="20038"/>
                </a:lnTo>
                <a:cubicBezTo>
                  <a:pt x="10800" y="2081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202280" y="256536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盼望炊烟，终于看见炊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871640" y="3357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走近炊烟。小木屋主人热诚接待了“我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982400" y="436572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告别炊烟，抒发对山区人民的赞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和感激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9" descr="018"/>
          <p:cNvPicPr/>
          <p:nvPr/>
        </p:nvPicPr>
        <p:blipFill>
          <a:blip r:embed="rId2"/>
          <a:stretch/>
        </p:blipFill>
        <p:spPr>
          <a:xfrm>
            <a:off x="1619280" y="1268280"/>
            <a:ext cx="6019920" cy="1067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2" descr="200922815291810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53352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佳句分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69960" y="169704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38080" y="990720"/>
            <a:ext cx="726300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在山里走了大半天，正在又累又饿的时候，我看见了远方山间的炊烟。它在轻轻地飘荡着，无声无息地呼唤着我加快脚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826920" y="3357720"/>
            <a:ext cx="734400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他们肩并肩站在小木屋前，不停地向我挥手。“再来呀！”他们的声音在山间回荡。再来是没有机会了，但我永远也不会忘记这山间优美地飘动的炊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042920" y="23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663300"/>
                </a:solidFill>
                <a:latin typeface="仿宋_GB2312"/>
                <a:ea typeface="仿宋_GB2312"/>
              </a:rPr>
              <a:t>对炊烟的描述，写出了作者对炊烟的渴求和看到炊烟后的希望</a:t>
            </a:r>
            <a:r>
              <a:rPr b="1" lang="en-US" sz="2800" spc="-1" strike="noStrike">
                <a:solidFill>
                  <a:srgbClr val="663300"/>
                </a:solidFill>
                <a:latin typeface="仿宋_GB2312"/>
                <a:ea typeface="仿宋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012680" y="472428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首尾呼应，回味无穷。这里的“挥手”以及主人的叮嘱是对文章主题的再次升华，对炊烟的再次描述十分动人，此情此景让人依依不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1[1]"/>
          <p:cNvPicPr/>
          <p:nvPr/>
        </p:nvPicPr>
        <p:blipFill>
          <a:blip r:embed="rId2"/>
          <a:stretch/>
        </p:blipFill>
        <p:spPr>
          <a:xfrm>
            <a:off x="0" y="838080"/>
            <a:ext cx="867564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80880" y="4572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读课文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思考下列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990720" y="12952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9900"/>
              </a:buClr>
              <a:buSzPct val="13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课文主要写了小木屋里的什么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914400" y="24382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9900"/>
              </a:buClr>
              <a:buSzPct val="13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请问这对夫妇为人如何？从哪里可以得到印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133720" y="19810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中年夫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133720" y="2895480"/>
            <a:ext cx="56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从外貌、语言、动作等方面去思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116000" y="3860640"/>
            <a:ext cx="632448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仿宋_GB2312"/>
                <a:hlinkClick r:id="rId1" action="ppaction://hlinksldjump"/>
              </a:rPr>
              <a:t>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仿宋_GB2312"/>
                <a:hlinkClick r:id="rId2" action="ppaction://hlinksldjump"/>
              </a:rPr>
              <a:t>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                                           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192320" y="4851360"/>
            <a:ext cx="693396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仿宋_GB2312"/>
                <a:hlinkClick r:id="rId3" action="ppaction://hlinksldjump"/>
              </a:rPr>
              <a:t>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                                           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2259000" y="43941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259000" y="5384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259000" y="386064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仿宋_GB2312"/>
              </a:rPr>
              <a:t>热情、勤快、能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259000" y="48513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仿宋_GB2312"/>
              </a:rPr>
              <a:t>憨厚、真挚、腼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3" descr="1[1]"/>
          <p:cNvPicPr/>
          <p:nvPr/>
        </p:nvPicPr>
        <p:blipFill>
          <a:blip r:embed="rId4"/>
          <a:stretch/>
        </p:blipFill>
        <p:spPr>
          <a:xfrm>
            <a:off x="0" y="1066680"/>
            <a:ext cx="867564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3" descr="FR_083"/>
          <p:cNvPicPr/>
          <p:nvPr/>
        </p:nvPicPr>
        <p:blipFill>
          <a:blip r:embed="rId1"/>
          <a:stretch/>
        </p:blipFill>
        <p:spPr>
          <a:xfrm>
            <a:off x="2916360" y="3213000"/>
            <a:ext cx="3429000" cy="29210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"/>
          <p:cNvSpPr/>
          <p:nvPr/>
        </p:nvSpPr>
        <p:spPr>
          <a:xfrm>
            <a:off x="1371600" y="1066680"/>
            <a:ext cx="442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给人物加定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371600" y="24382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这是一对                           的夫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3276720" y="2895480"/>
            <a:ext cx="24382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76720" y="2286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仿宋_GB2312"/>
              </a:rPr>
              <a:t>真诚 、纯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8" descr="aaa"/>
          <p:cNvPicPr/>
          <p:nvPr/>
        </p:nvPicPr>
        <p:blipFill>
          <a:blip r:embed="rId2"/>
          <a:stretch/>
        </p:blipFill>
        <p:spPr>
          <a:xfrm>
            <a:off x="3348000" y="3645000"/>
            <a:ext cx="25606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08:34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2:03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