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1A98-0BA7-4D37-BCDA-7B8BF68681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8E81-277F-441F-99AA-FBF82ABE49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ADE-0EC7-4FF7-8194-73DE8CF5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927-14A6-409A-8FBE-EFF31795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EF6-00D6-4C06-BBA8-2C11C73F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569-B65A-4E0D-A20E-829349C0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3834-5282-4381-8EA5-52F529BD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AD9-4DD3-49B0-87D3-8BC46D40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F56-1F36-4BCD-9AAC-368F5FA5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1F00-3242-4D74-9118-C6A3FC5A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B39-D146-4D87-96D8-1EC2044D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F7A-52E6-46A0-96A1-067BDDE7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E85-4146-4B1D-88BA-85CDF931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494-D5EC-4AF9-A35C-0275D886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2CCF-505A-42B8-8FE0-C34D3EFFD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533520" y="7477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湘教版二年级语文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1312920" y="2036880"/>
            <a:ext cx="6448320" cy="20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洞庭鱼米乡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750680" y="579132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533520" y="6094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请同学们读课文回答老师的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57200" y="1981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美丽富饶的洞庭湖是祖国的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09480" y="3657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哪部分讲洞庭湖是祖国的大鱼库？哪部分讲洞庭湖是祖国的大粮仓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523880" y="27432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大鱼库、大粮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600200" y="14479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小朋友想想看，鱼汛季节到了，洞庭湖畔会是一种什么样的景象？捕鱼的人们心情怎么样？他们会说些什么？想些什么呢？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133720" y="3505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请小朋友带着高兴、愉快的心情读一读这些自然段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143000" y="274320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作者用“美丽富饶”来形容这么美的洞庭湖，我想小朋友们也一定感受到了，请你选择自己感兴趣的部分（鱼库、粮仓、楼房）画下来吧！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3124080" y="1219320"/>
            <a:ext cx="2590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新魏"/>
              </a:rPr>
              <a:t>拓展延伸</a:t>
            </a:r>
            <a:endParaRPr b="1" lang="en-US" sz="60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6" name="文本框 1"/>
          <p:cNvSpPr/>
          <p:nvPr/>
        </p:nvSpPr>
        <p:spPr>
          <a:xfrm>
            <a:off x="2419200" y="5780160"/>
            <a:ext cx="52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523880" y="4038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收集洞庭湖的资料和同学交流，办一张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爱洞庭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主题的小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3124080" y="457200"/>
            <a:ext cx="2438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新魏"/>
              </a:rPr>
              <a:t>布置作业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600200" y="228600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感情地朗读课文，背诵课文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523880" y="32004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抄写本课的生字，每个写一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09480" y="1143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美丽的洞庭湖，是祖国江南大地上的一颗明珠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宽阔的湖面上，碧波荡漾，船儿来往，鱼儿蹦跳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洞庭湖畔，是一望无际的稻田。春天，禾苗青青；夏季，稻浪滚滚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是呀，鱼汛季节，鲜活的鱼儿，一筐筐，一担担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真的，收割季节，金黄的谷子，一袋袋，一车车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F.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美丽富饶的洞庭，是祖国的大鱼库、大粮仓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3581280" y="53352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佳句品读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edg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2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7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09D2-0A08-4F61-8254-DDCAABBCF8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2971800" y="30492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914400" y="3429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感目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象课文中描述的优美画面，体会洞庭湖乡的美丽富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990720" y="11430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目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，其中会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洞、庭、湖、祖、担、仓、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990720" y="2362320"/>
            <a:ext cx="7162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力目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正确书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，有感情地朗读课文，背诵课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1295280" y="12193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美丽的洞庭湖，是祖国江南大地上的一颗明珠，它美丽、富饶是有名的鱼米之乡，那儿景色美丽，物产丰富，让我们一起去看看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今天，我们一起来学习这篇课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洞庭鱼米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219320" y="2438280"/>
            <a:ext cx="6933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望无际    稻浪滚滚   一袋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838080" y="47242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儿蹦跳    一筐筐    楼房    一担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514600" y="533520"/>
            <a:ext cx="4114800" cy="1143000"/>
          </a:xfrm>
          <a:custGeom>
            <a:avLst/>
            <a:gdLst>
              <a:gd name="textAreaLeft" fmla="*/ 966240 w 4114800"/>
              <a:gd name="textAreaRight" fmla="*/ 3148560 w 4114800"/>
              <a:gd name="textAreaTop" fmla="*/ 268200 h 1143000"/>
              <a:gd name="textAreaBottom" fmla="*/ 874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词语学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066680" y="35812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车车   船儿来往   仓库   粮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4"/>
          <p:cNvSpPr/>
          <p:nvPr/>
        </p:nvSpPr>
        <p:spPr>
          <a:xfrm>
            <a:off x="4041720" y="8161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2895480" y="228600"/>
            <a:ext cx="3429000" cy="1066680"/>
          </a:xfrm>
          <a:custGeom>
            <a:avLst/>
            <a:gdLst>
              <a:gd name="textAreaLeft" fmla="*/ 805320 w 3429000"/>
              <a:gd name="textAreaRight" fmla="*/ 2623680 w 3429000"/>
              <a:gd name="textAreaTop" fmla="*/ 250560 h 1066680"/>
              <a:gd name="textAreaBottom" fmla="*/ 816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33520" y="4495680"/>
            <a:ext cx="76960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 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担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仓    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85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z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133720" y="4191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505320" y="4191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ā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562720" y="4114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762120" y="2666880"/>
            <a:ext cx="685800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洞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762120" y="21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ò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26668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343400" y="220968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68580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828800" y="838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8288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419720" y="1523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5715000" y="838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791320" y="2057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838080" y="4343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981080" y="3886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198108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4572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5791320" y="35812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5791320" y="4952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 flipV="1">
            <a:off x="1371600" y="1371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9"/>
          <p:cNvSpPr/>
          <p:nvPr/>
        </p:nvSpPr>
        <p:spPr>
          <a:xfrm>
            <a:off x="1371600" y="19810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 flipV="1">
            <a:off x="5029200" y="12952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5029200" y="1905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2"/>
          <p:cNvSpPr/>
          <p:nvPr/>
        </p:nvSpPr>
        <p:spPr>
          <a:xfrm flipV="1">
            <a:off x="1447920" y="42670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>
            <a:off x="1447920" y="4800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4"/>
          <p:cNvSpPr/>
          <p:nvPr/>
        </p:nvSpPr>
        <p:spPr>
          <a:xfrm flipV="1">
            <a:off x="5181480" y="39621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5"/>
          <p:cNvSpPr/>
          <p:nvPr/>
        </p:nvSpPr>
        <p:spPr>
          <a:xfrm>
            <a:off x="525780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6553080" y="5562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华文新魏"/>
                <a:hlinkClick r:id="rId2" action="ppaction://hlinksldjump"/>
              </a:rPr>
              <a:t>返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14400" y="236232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洞、庭、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后鼻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前鼻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平舌音，不要读成翘舌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的的声母是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不要读成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是第三声，不要读成第二声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590920" y="304920"/>
            <a:ext cx="4190760" cy="1218960"/>
          </a:xfrm>
          <a:custGeom>
            <a:avLst/>
            <a:gdLst>
              <a:gd name="textAreaLeft" fmla="*/ 983880 w 4190760"/>
              <a:gd name="textAreaRight" fmla="*/ 3206880 w 4190760"/>
              <a:gd name="textAreaTop" fmla="*/ 286200 h 1218960"/>
              <a:gd name="textAreaBottom" fmla="*/ 9327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我知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4"/>
          <p:cNvSpPr/>
          <p:nvPr/>
        </p:nvSpPr>
        <p:spPr>
          <a:xfrm>
            <a:off x="2209680" y="457200"/>
            <a:ext cx="3429000" cy="1066680"/>
          </a:xfrm>
          <a:custGeom>
            <a:avLst/>
            <a:gdLst>
              <a:gd name="textAreaLeft" fmla="*/ 805320 w 3429000"/>
              <a:gd name="textAreaRight" fmla="*/ 2623680 w 3429000"/>
              <a:gd name="textAreaTop" fmla="*/ 250560 h 1066680"/>
              <a:gd name="textAreaBottom" fmla="*/ 816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我会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0880" y="190512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字的左边“三点水”稍窄，右边的“同”较宽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是左中右结构，写的时候要注意摆匀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字是“示字旁”，不要写成“衣”字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字中间的“人”略写开一点，下面的“口”字不要写得太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19320" y="33526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（   ）担（   ）湖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姐（   ）但（   ）糊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1143000" y="1371600"/>
            <a:ext cx="6067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给形近字“找朋友”，组词。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4:40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8:43Z</dcterms:modified>
  <cp:revision>8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