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9B03-57AD-4DFB-9E0B-B10B3FD697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AFD0-4A16-434E-AD06-6C2BD0BB6D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2FA-F382-49F7-9614-B202DF1A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671-33B5-40E6-ACF6-9AA557AB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E19DE-7837-4EBE-A6C7-83EF6133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A7D4D-E827-44B6-8F23-075142C5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98CA0-ACDB-4647-826B-0F06D695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B78A2-BDCB-4A13-AB2A-A435147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3989D-1A99-4829-B3DB-0FD0AEED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CA4CC-5DF6-41C1-874A-73A18CB4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7571F-A9DD-4182-8384-BBA685D6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0E714-9677-4B07-8DD9-B9BEE190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4FC48-1CAD-4B83-A8C5-BC5C2EE5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E6BDB-9473-4BE6-B663-7CF0E94F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D65-51EA-45E2-9820-7E08B394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3E62D-5709-4E39-9B9F-C205CE13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641AD-966F-4A9A-88A3-602D8313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59198-08C9-47EA-9A9A-5F48E2D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BD1D3-7467-43BB-86F0-6B327C56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5D3F2-92C8-4358-9210-DDC1A3A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BC7B3-1DF1-456F-925B-87B7CE0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7E9CA-0C9C-425C-B25C-E376FE1E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CBDBB-7F72-4BA3-B5F2-2482D91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54941-DF98-498F-8F9D-765D3A81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9A0DB-864D-483F-A392-EECCE36E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C55-909A-45B2-8206-630EB834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437CC-31E4-4374-A310-93770E43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4FD74-C3E3-419B-8D02-94205355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02098-D00E-4BDC-90D4-5568ACEE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DCA53-D780-4718-8EF2-65DBC5C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D4474-B3BB-4545-BD4E-549D464F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471D9-FAE0-4F25-A5C4-2C0CB6A7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CCB39-0B4A-462C-9A44-14389160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D196B-7D44-4ECE-8CEA-030DEB3B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88C43-B19B-4848-96AA-282424D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4367A-120B-488F-8128-959A4A6B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6DAB-5DEC-4A55-9F3C-B8103C73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8226A-AB68-47D1-93A3-C6A3D3CA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A7A17-2D45-4822-870B-5681FF5F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82048-0E6B-474F-93A0-611BA1CD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31DC8-E365-4EDA-9C13-E7E1FDCB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7AD4D-6ABA-44B6-AB0F-1669C0D6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35F3D-62B8-472B-A2E0-B08BE6D1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732FE-2C03-464C-9311-9E2F4502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A31C4-EC3B-46D2-89EA-C6B42BBB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A0913-4D76-4F37-89CD-A62F8630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B2B8B-27B9-4251-BDBA-E057EB79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2E68-B3C4-4CC9-9D3D-66B3CD12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2BE57-2AF1-4025-9C47-EA655911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38932-9101-4632-BA0B-E15CFACD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9420B-7A57-462B-B6B3-8AC3C2DB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ED3C8-EC66-44B4-9BB6-B24066F0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92AD0-4AC8-499B-BF51-DC516D9A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B99E6-1E76-46D5-B3E0-E2280006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7F6A6-AC54-4D55-A479-C7CC6315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A397E-552E-4DC9-8D31-D25D87D0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9C6DB-D268-4B56-8045-8021533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F472F-DB5F-4E40-95C3-EA6741D8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0A76-9FFB-4BD2-9589-6D855260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33680-9FF9-46CC-9DBE-5267A029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C7D3D-C2F9-4D7D-9748-AC50993B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84015-175A-4BAE-AEB3-1E278D4B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1E885-2E12-4E91-AD44-2737878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E8EA3-8D6D-4EA0-AB2C-35926793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DF8EA-4065-44BB-8185-31B1D984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FB93B-4285-40C5-B21D-A657C80F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3A1F-4ECB-4415-8C99-363C9771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A698-A02D-4924-B89A-B6FEF254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E043-94C2-4FB5-BE6A-A2AD287F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4A45-FE0B-4A10-9032-CAAAB39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8FE-B4AC-4B0E-90BD-6D55B2E7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0697-89BB-4F5F-888A-DFD8AE3C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B7E1-F7C1-4674-9729-CA56E9A1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D903-467C-404D-9BD7-C1099C07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55CA-DB44-4C51-9A43-3C960919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BAF3-E107-4308-9F10-9BA1CF76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28AB-31A3-438B-9A7E-CDA0E047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8D5C-DC31-4B92-AF27-43E09484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0E3C-E71F-42EA-8A67-49D65B1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29EC-C1CE-491B-A165-22BC35CA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93D8-30D9-44B9-B098-2A552B85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287-0456-4447-A313-F21822B1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0938D-BEDB-41DF-8C8D-E4F06F2D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910F-0C27-4881-89E0-4859CF0B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B03E5-1013-4DC6-8519-6911C0D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1E5C-F513-4004-97F0-4CD5CCB1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46A5-D010-45A4-84E3-DB17F4F4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2FD5-B449-468E-B6E9-6E41DDB2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EB3E-AE9F-4A50-8D80-B8B0CC75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47B1-DC53-4D1F-80A9-2906DE5A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60E2-AD76-42E1-B02F-1B99CC1D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CB19-CF7B-4650-A9A4-C461E25B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609-905B-473F-A1C5-6C74317C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74D68-A523-4587-AA0F-9C944AD2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C27AC-85F5-4F64-9251-E6CC6C77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0462-DED6-4170-AF5C-E8ABA30D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EFCC1-FD42-4A1C-BE8B-590A81D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F9729-BA69-4872-94B8-8635186F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0071-C603-47FE-B270-D284ACF5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4F95-0251-42CB-80A1-AC3BE811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013C-6D1C-4CFA-8CD3-0579503E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86CFB-8306-4359-963D-8FA61916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C0FF-1876-4F17-90B9-DB077E24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362-928E-42D3-8DAF-DA69187E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EF754-B406-4018-B72F-3EA07F0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321E1-FD36-45B0-B83E-9F244E7B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D7685-C301-44D6-9E9E-B8EF5203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A6D5A-FF80-48E6-AF88-5B3DE724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CC45B-61F9-4513-A8C7-A87F3351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2202-89B1-4282-972C-39D81574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58293-02E7-4D69-9DF0-1932807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E1230-A7F4-40CC-B239-C956CEF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3DA5F-2412-43E8-9F14-7184CE8F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84F0D-F7A8-4BCF-A204-C35DE7AB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EDB-5189-48BD-98D5-0970BE5C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9D38F-5B30-4819-A077-E6A4B5F7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A26E4-FD9B-4DB9-9CC2-C9C78A75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E8D5E-00A9-40DE-B018-ED7FD5EB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1B976-C479-4645-844D-93E714D5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C7B6-45B6-4359-9940-F726DFF1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3EB0F-D794-4037-829C-77D6A740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8007C-74FF-4771-B582-0A4F2255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470D-92EA-4649-B91F-06CD6D6D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21E49-F374-44EA-907B-B88EC3A0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5759E-84FD-4A4B-9E6F-EB4BF452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0FA-68B9-4315-81A3-B53D78F0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D6803-74AC-4D1B-BC7E-4F0EA5C7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6DC30-1543-410F-9B52-28CD81D3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75724-2BE1-4475-90BA-8EC60837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4A4F-3B86-4837-B780-F7036B74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7D09-7029-4DC7-8DE3-9491EAF3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CDFF3-53E0-4C3C-AA85-B7CA0321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83753-2B7C-479B-841E-538024C6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D949B-8CC5-4D46-B762-E7E981E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AEEA1-8F6E-4126-9B56-74F0ECC4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35AA5-2553-44A4-8C9C-92AA566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9B4-38C2-47ED-8F44-90D1D31B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632FD-6DEA-421A-94BC-E5F1F8C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6510C-91A7-4C9A-BD1D-B313400C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22253-EF07-4863-BBB5-1C211919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21CEC-794A-4DD8-ABF9-A2ADC6DD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50215-0AEF-4287-90FA-7EB4DA7D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13ED5-4402-41D5-98F5-3ECD4024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19AD-529A-4DFA-BFC3-34E7DBD7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D8B61-8BFD-4D4D-B37D-68017F87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64B07-D9B4-4407-AEA0-56116186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82787-1D44-4DCA-A656-8B008889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83B-CEDB-470B-82B1-69024262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FDFFA-2EC5-452C-A5F0-A19EC972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A1519-6325-4FA6-8D17-DF59F163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7B743-4797-4566-AE34-BA8FC44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06211-7E2F-4C79-A8E3-10E01C96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3D755-CC92-4256-8F10-1A7F6824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6C344-3D28-462C-8D56-892CCB6A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613C8-26ED-46B0-BACF-F04E4C31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3CC57-3C05-4812-9F87-143C648F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366FF-7676-421D-BA4A-0B798321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8071F-DE87-47FB-A2C3-C4A42937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6C74-3655-4BF3-AFCA-20AA8F603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6E3C-C1A7-4DBA-A5D6-2CDFE8061A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0727-53E3-4242-BDA9-2727965857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CBC8-DC99-4F1B-A5EC-AF489B0EB3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36FD-940B-45E6-AAD9-73B3EC2FE5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388F-D482-44D5-B659-4112774571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AC63-1C73-49CD-89CC-6016803A28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92EC-FD3F-4168-B63F-E65251922D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D02E-F824-4FF1-8C13-0DDC04514C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77E-EF74-4D4A-AFD0-30CD0A99BD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296-19F0-4710-A868-A355C639E6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35D-6C3B-4340-A846-F76F359B8C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DABA-1443-4EF7-8F4E-EC2C51FF94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4" descr="白梅.png"/>
          <p:cNvPicPr/>
          <p:nvPr/>
        </p:nvPicPr>
        <p:blipFill>
          <a:blip r:embed="rId2"/>
          <a:stretch/>
        </p:blipFill>
        <p:spPr>
          <a:xfrm>
            <a:off x="5214960" y="2886120"/>
            <a:ext cx="3929040" cy="3971880"/>
          </a:xfrm>
          <a:prstGeom prst="rect">
            <a:avLst/>
          </a:prstGeom>
          <a:ln w="0">
            <a:noFill/>
          </a:ln>
        </p:spPr>
      </p:pic>
      <p:sp>
        <p:nvSpPr>
          <p:cNvPr id="541" name="TextBox 2"/>
          <p:cNvSpPr/>
          <p:nvPr/>
        </p:nvSpPr>
        <p:spPr>
          <a:xfrm>
            <a:off x="2664000" y="1316160"/>
            <a:ext cx="562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3300"/>
                </a:solidFill>
                <a:latin typeface="华文隶书"/>
                <a:ea typeface="华文隶书"/>
              </a:rPr>
              <a:t>冬至的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矩形 3" descr=""/>
          <p:cNvPicPr/>
          <p:nvPr/>
        </p:nvPicPr>
        <p:blipFill>
          <a:blip r:embed="rId3"/>
          <a:stretch/>
        </p:blipFill>
        <p:spPr>
          <a:xfrm>
            <a:off x="1725480" y="5724360"/>
            <a:ext cx="5546880" cy="743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2786040" y="2214720"/>
            <a:ext cx="5572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默读课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每自然段主要讲了什么内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整体感知"/>
          <p:cNvPicPr/>
          <p:nvPr/>
        </p:nvPicPr>
        <p:blipFill>
          <a:blip r:embed="rId1"/>
          <a:stretch/>
        </p:blipFill>
        <p:spPr>
          <a:xfrm>
            <a:off x="539640" y="1413000"/>
            <a:ext cx="2017800" cy="417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小女孩"/>
          <p:cNvPicPr/>
          <p:nvPr/>
        </p:nvPicPr>
        <p:blipFill>
          <a:blip r:embed="rId2"/>
          <a:stretch/>
        </p:blipFill>
        <p:spPr>
          <a:xfrm>
            <a:off x="755640" y="270828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928800" y="2286000"/>
            <a:ext cx="74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一自然段：冬至是怎么回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二自然段：冬至过后，春天悄悄地走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整体感知"/>
          <p:cNvPicPr/>
          <p:nvPr/>
        </p:nvPicPr>
        <p:blipFill>
          <a:blip r:embed="rId1"/>
          <a:stretch/>
        </p:blipFill>
        <p:spPr>
          <a:xfrm>
            <a:off x="571680" y="1357200"/>
            <a:ext cx="2017440" cy="41760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5" descr="图片11.png"/>
          <p:cNvPicPr/>
          <p:nvPr/>
        </p:nvPicPr>
        <p:blipFill>
          <a:blip r:embed="rId2"/>
          <a:stretch/>
        </p:blipFill>
        <p:spPr>
          <a:xfrm>
            <a:off x="5786280" y="5072040"/>
            <a:ext cx="2536920" cy="116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1"/>
          <p:cNvSpPr/>
          <p:nvPr/>
        </p:nvSpPr>
        <p:spPr>
          <a:xfrm>
            <a:off x="1285920" y="2071800"/>
            <a:ext cx="678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三自然段：冬至的等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四自然段：冬至的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五自然段：冬至的记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2" descr="图片11.png"/>
          <p:cNvPicPr/>
          <p:nvPr/>
        </p:nvPicPr>
        <p:blipFill>
          <a:blip r:embed="rId1"/>
          <a:stretch/>
        </p:blipFill>
        <p:spPr>
          <a:xfrm>
            <a:off x="5857920" y="5072040"/>
            <a:ext cx="2536920" cy="11653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整体感知"/>
          <p:cNvPicPr/>
          <p:nvPr/>
        </p:nvPicPr>
        <p:blipFill>
          <a:blip r:embed="rId2"/>
          <a:stretch/>
        </p:blipFill>
        <p:spPr>
          <a:xfrm>
            <a:off x="642960" y="1143000"/>
            <a:ext cx="2017800" cy="417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714240" y="3000240"/>
            <a:ext cx="771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为什么说冬至的梦是“温暖的梦、希望的梦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是从文中哪些地方感受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细读感悟"/>
          <p:cNvPicPr/>
          <p:nvPr/>
        </p:nvPicPr>
        <p:blipFill>
          <a:blip r:embed="rId1"/>
          <a:stretch/>
        </p:blipFill>
        <p:spPr>
          <a:xfrm>
            <a:off x="285840" y="785880"/>
            <a:ext cx="2087640" cy="55872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1808280" y="17859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细读课文，思考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1" descr="冬至.jpg"/>
          <p:cNvPicPr/>
          <p:nvPr/>
        </p:nvPicPr>
        <p:blipFill>
          <a:blip r:embed="rId1"/>
          <a:stretch/>
        </p:blipFill>
        <p:spPr>
          <a:xfrm>
            <a:off x="857160" y="928800"/>
            <a:ext cx="7620120" cy="5064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0BDF-E30E-4834-B9DB-352486E892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4"/>
          <p:cNvSpPr/>
          <p:nvPr/>
        </p:nvSpPr>
        <p:spPr>
          <a:xfrm>
            <a:off x="714240" y="221472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正确认读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体会“我”和爷爷向往、热爱春天的情感，感受生活的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85880" y="92880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857160" y="2286000"/>
            <a:ext cx="742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节气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春雨惊春清谷天，夏满芒夏暑相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秋处露秋寒霜降，冬雪雪冬小大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创设情境"/>
          <p:cNvPicPr/>
          <p:nvPr/>
        </p:nvPicPr>
        <p:blipFill>
          <a:blip r:embed="rId1"/>
          <a:stretch/>
        </p:blipFill>
        <p:spPr>
          <a:xfrm>
            <a:off x="611280" y="1125360"/>
            <a:ext cx="2074680" cy="570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4"/>
          <p:cNvSpPr/>
          <p:nvPr/>
        </p:nvSpPr>
        <p:spPr>
          <a:xfrm>
            <a:off x="3419640" y="2565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1000080" y="221472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冬至是二十四节气之一，并且是很重要的一个节气。冬至这天，白昼最短，黑夜最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创设情境"/>
          <p:cNvPicPr/>
          <p:nvPr/>
        </p:nvPicPr>
        <p:blipFill>
          <a:blip r:embed="rId1"/>
          <a:stretch/>
        </p:blipFill>
        <p:spPr>
          <a:xfrm>
            <a:off x="611280" y="1125360"/>
            <a:ext cx="2074680" cy="570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1" descr="01300000633474128258827663481.jpg"/>
          <p:cNvPicPr/>
          <p:nvPr/>
        </p:nvPicPr>
        <p:blipFill>
          <a:blip r:embed="rId1"/>
          <a:stretch/>
        </p:blipFill>
        <p:spPr>
          <a:xfrm>
            <a:off x="1285920" y="1143000"/>
            <a:ext cx="6778440" cy="4500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2916360" y="2924280"/>
            <a:ext cx="6984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地窖　　蚯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呓语　　藤条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读一读"/>
          <p:cNvPicPr/>
          <p:nvPr/>
        </p:nvPicPr>
        <p:blipFill>
          <a:blip r:embed="rId1"/>
          <a:stretch/>
        </p:blipFill>
        <p:spPr>
          <a:xfrm>
            <a:off x="250920" y="404640"/>
            <a:ext cx="2114280" cy="25146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5000760" y="2357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qiū  yǐ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5000760" y="4429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t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3357720" y="2357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ji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3000240" y="44290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1357200" y="2928960"/>
            <a:ext cx="72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苏醒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昏迷后醒过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呓语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梦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严严实实：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严密，没有缝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理解词语"/>
          <p:cNvPicPr/>
          <p:nvPr/>
        </p:nvPicPr>
        <p:blipFill>
          <a:blip r:embed="rId1"/>
          <a:stretch/>
        </p:blipFill>
        <p:spPr>
          <a:xfrm>
            <a:off x="285840" y="214200"/>
            <a:ext cx="1890720" cy="2157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初读感知"/>
          <p:cNvPicPr/>
          <p:nvPr/>
        </p:nvPicPr>
        <p:blipFill>
          <a:blip r:embed="rId1"/>
          <a:stretch/>
        </p:blipFill>
        <p:spPr>
          <a:xfrm>
            <a:off x="539640" y="11970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小女孩"/>
          <p:cNvPicPr/>
          <p:nvPr/>
        </p:nvPicPr>
        <p:blipFill>
          <a:blip r:embed="rId2"/>
          <a:stretch/>
        </p:blipFill>
        <p:spPr>
          <a:xfrm>
            <a:off x="826920" y="256536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7"/>
          <p:cNvSpPr/>
          <p:nvPr/>
        </p:nvSpPr>
        <p:spPr>
          <a:xfrm>
            <a:off x="3000240" y="2071800"/>
            <a:ext cx="53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用自己喜欢的方式阅读课文并思考：这篇课文主要讲了什么？说说你读完的感受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8" descr="小女孩"/>
          <p:cNvPicPr/>
          <p:nvPr/>
        </p:nvPicPr>
        <p:blipFill>
          <a:blip r:embed="rId3"/>
          <a:stretch/>
        </p:blipFill>
        <p:spPr>
          <a:xfrm>
            <a:off x="826920" y="2565360"/>
            <a:ext cx="1967040" cy="3279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4"/>
          <p:cNvSpPr/>
          <p:nvPr/>
        </p:nvSpPr>
        <p:spPr>
          <a:xfrm>
            <a:off x="785880" y="20001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课文主要讲了小时侯的“我”，从冬至开始就做着春天的梦：冬至过后，万物萌动，大地复苏，一切生命都焕发出生机。人们盼望着春天，迎接着春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初读感知"/>
          <p:cNvPicPr/>
          <p:nvPr/>
        </p:nvPicPr>
        <p:blipFill>
          <a:blip r:embed="rId1"/>
          <a:stretch/>
        </p:blipFill>
        <p:spPr>
          <a:xfrm>
            <a:off x="539640" y="119700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2:06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2:31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b000000000001024120</vt:lpwstr>
  </property>
</Properties>
</file>