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39D9-4BEB-416B-887C-8AD5DEF231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3E86-BAAD-4384-BEAE-DCE673E43A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DF7-23E6-4E3F-B7B0-216328E9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B23-ABD1-48A9-8846-2939ED52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605-D36B-4A8F-B803-B3DFF835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A87-940F-4721-A05B-FB308059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6564-4467-4F1F-9658-536EB79A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A6A0-52ED-48E4-B2BC-524A52CB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CC7D-533F-481C-B39A-3C3C64D4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030-3D8B-435C-A237-E4F7CC71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E3CF-9443-4E6E-BB80-33CE2DE3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D0C2-B919-4515-BBF3-5FB2D55C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C225-082E-4C85-906B-9A0605A7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7D5-3182-48C0-B44C-F8695960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AFB7-E3B1-42E4-A7E4-A45B86E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CF41-D522-4462-9C44-1BC5767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B088-1A5C-472A-BF56-6993D201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F11E-6866-4BF4-A22A-39A177EA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E078-F6BC-45D2-8053-94593BC9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BB4FB-4A9C-43C4-AFA5-716A86B8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5A25-2438-4329-9B7C-2A238802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A9CC1-B9F6-4D8D-8CB2-2A71E3EE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E25C-52FD-4F06-9F31-70728969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C957-5B52-4104-A306-25F0AE37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882-2D82-4663-B472-1D609DBB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67F3-AB4B-4D69-BBF7-5ED1E380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01E7B-7C84-4F9B-987A-EA38DCB4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125DD-5981-4416-BE62-09BC9AE6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CAC6F-4838-4C22-AB30-C3230140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ECB6-F982-442F-A358-5C3F0D4E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9F02-EE8C-4B3D-989E-44926F71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7F1D-E839-43B6-96C4-A8BB0D34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16E-AF22-4BA9-84EB-D72A44E1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060-0D41-4E83-A3D6-06B97A05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059-5F99-4790-8ADD-E878C8D8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769-B697-4DCA-B934-A63C20F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904-D1D0-4243-8C72-9B56274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422-E7DF-4F6E-8639-ADEA915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40044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456840" y="640044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966F-91E5-4D83-AAA4-66DB9937AF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8E59-1457-4A07-A295-FAE7E2A737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9B15-38C6-4E15-B1F2-3D3EB3275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Text Box 1029" descr=""/>
          <p:cNvPicPr/>
          <p:nvPr/>
        </p:nvPicPr>
        <p:blipFill>
          <a:blip r:embed="rId2"/>
          <a:stretch/>
        </p:blipFill>
        <p:spPr>
          <a:xfrm>
            <a:off x="358920" y="404640"/>
            <a:ext cx="4924440" cy="1862280"/>
          </a:xfrm>
          <a:prstGeom prst="rect">
            <a:avLst/>
          </a:prstGeom>
          <a:ln w="0">
            <a:noFill/>
          </a:ln>
        </p:spPr>
      </p:pic>
      <p:pic>
        <p:nvPicPr>
          <p:cNvPr id="132" name="矩形 7" descr=""/>
          <p:cNvPicPr/>
          <p:nvPr/>
        </p:nvPicPr>
        <p:blipFill>
          <a:blip r:embed="rId3"/>
          <a:stretch/>
        </p:blipFill>
        <p:spPr>
          <a:xfrm>
            <a:off x="2214720" y="5877000"/>
            <a:ext cx="4770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0" y="836640"/>
            <a:ext cx="9468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四言诗每句一般读成“二、二”节拍。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关 雎鸠，在河 之洲。窈窕  淑女，君子 好逑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差 荇菜，左右 流之。窈窕  淑女，寤寐 求之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之 不得，寤寐 思服。悠哉  悠哉，辗转 反侧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 flipH="1">
            <a:off x="1258560" y="220356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 flipH="1">
            <a:off x="3419640" y="2133720"/>
            <a:ext cx="14256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5651640" y="2133720"/>
            <a:ext cx="14256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7811640" y="220500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1258560" y="3139920"/>
            <a:ext cx="142920" cy="21780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3419640" y="3139920"/>
            <a:ext cx="142560" cy="21780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 flipH="1">
            <a:off x="5651640" y="3141720"/>
            <a:ext cx="14256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 flipH="1">
            <a:off x="7811640" y="314172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 flipH="1">
            <a:off x="1258560" y="407520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H="1">
            <a:off x="3419640" y="4076640"/>
            <a:ext cx="142560" cy="21600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 flipH="1">
            <a:off x="5579640" y="414972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7"/>
          <p:cNvSpPr/>
          <p:nvPr/>
        </p:nvSpPr>
        <p:spPr>
          <a:xfrm flipH="1">
            <a:off x="7811640" y="414972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2484360" y="476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读，注意停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028"/>
          <p:cNvSpPr/>
          <p:nvPr/>
        </p:nvSpPr>
        <p:spPr>
          <a:xfrm>
            <a:off x="1332000" y="2924280"/>
            <a:ext cx="748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读，欣赏体会，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先明白意思，小组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324000" y="26028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95280" y="1341360"/>
            <a:ext cx="2232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双双对对雎鸠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沙洲上面关关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漂亮文静好姑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你是我的好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554200" y="1341360"/>
            <a:ext cx="23050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短不齐的荇菜，顺水漂浮左右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漂亮文静好姑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醒来梦中来求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向她求爱不回应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夜思念坐不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意绵绵思不停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法入睡如烙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4643280" y="1341360"/>
            <a:ext cx="2305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短不齐的荇菜，两手不停左右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漂亮文静好姑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弹琴鼓瑟表达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短不齐的荇菜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手不停左右采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漂亮文静好姑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敲钟打鼓让你乐开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5400720" cy="2735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关 关 雎 鸠 ，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在 河 之 洲 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窈 窕 淑 女 ，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君 子 好 逑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39640" y="4869000"/>
            <a:ext cx="74883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Arial"/>
              </a:rPr>
              <a:t>雎鸠：水鸟名，即鱼鹰。传说它们情意专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e"/>
                </a:solidFill>
                <a:latin typeface="隶书"/>
                <a:ea typeface="隶书"/>
              </a:rPr>
              <a:t>第一节：</a:t>
            </a:r>
            <a:r>
              <a:rPr b="1" lang="zh-CN" sz="3600" spc="-1" strike="noStrike">
                <a:solidFill>
                  <a:srgbClr val="00009e"/>
                </a:solidFill>
                <a:latin typeface="隶书"/>
                <a:ea typeface="隶书"/>
              </a:rPr>
              <a:t>关关雎鸠</a:t>
            </a:r>
            <a:r>
              <a:rPr b="0" lang="zh-CN" sz="3600" spc="-1" strike="noStrike">
                <a:solidFill>
                  <a:srgbClr val="00009e"/>
                </a:solidFill>
                <a:latin typeface="隶书"/>
                <a:ea typeface="隶书"/>
              </a:rPr>
              <a:t> （情意真挚，互相和唱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268360" y="429264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汉鼎简隶变"/>
              </a:rPr>
              <a:t>君子、淑女和乐恭敬相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4500720" y="177336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935800" y="2349360"/>
            <a:ext cx="11552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联 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862880" y="2565360"/>
            <a:ext cx="850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隶书"/>
              </a:rPr>
              <a:t>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381636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参 差 荇 菜 ，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左 右 流 之 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窈 窕 淑 女 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寤 寐 求 之 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求 之 不 得 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寤寐 思 服 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悠 哉 悠 哉 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辗 转 反 侧 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332000" y="476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：参差荇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3564000" y="1341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987640" y="227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627280" y="45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窈窕淑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3635280" y="3141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 flipH="1">
            <a:off x="3924360" y="2637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867280" y="24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君子思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2843280" y="13413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1692360" y="22766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</a:rPr>
              <a:t>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6"/>
          <p:cNvSpPr/>
          <p:nvPr/>
        </p:nvSpPr>
        <p:spPr>
          <a:xfrm>
            <a:off x="4572000" y="620640"/>
            <a:ext cx="39607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参 差 荇 菜 ，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左 右 采 之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.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窈 窕 淑 女 ， 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琴 瑟 友 之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参 差 荇 菜 ， 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左 右 芼 之 。 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窈 窕 淑 女 ，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钟 鼓 乐 之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图片16"/>
          <p:cNvPicPr/>
          <p:nvPr/>
        </p:nvPicPr>
        <p:blipFill>
          <a:blip r:embed="rId1"/>
          <a:stretch/>
        </p:blipFill>
        <p:spPr>
          <a:xfrm>
            <a:off x="108000" y="549360"/>
            <a:ext cx="4341600" cy="54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8"/>
          <p:cNvSpPr/>
          <p:nvPr/>
        </p:nvSpPr>
        <p:spPr>
          <a:xfrm>
            <a:off x="1187280" y="836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：君子因思成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29"/>
          <p:cNvSpPr/>
          <p:nvPr/>
        </p:nvSpPr>
        <p:spPr>
          <a:xfrm>
            <a:off x="4356000" y="1773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1619280" y="414972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3419640" y="3716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友、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527040" y="6486480"/>
            <a:ext cx="56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7"/>
          <p:cNvSpPr/>
          <p:nvPr/>
        </p:nvSpPr>
        <p:spPr>
          <a:xfrm>
            <a:off x="324000" y="0"/>
            <a:ext cx="50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雎鸠的阵阵鸣叫诱动了小伙子的痴情，使他独自陶醉在对姑娘 的一往深情之中。种种复杂的情感油仍而生。一位纯情少年热恋中的心态在这里表露得淋漓尽致。 成双成对的雎鸠就象恩爱的情侣，看者它们河中小岛上相依相和的 融融之景，小伙子的眼光被采荇女吸引。诗人在这里采用了“流”、 “采”等词描述小伙子的心里变化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4459532440740"/>
          <p:cNvPicPr/>
          <p:nvPr/>
        </p:nvPicPr>
        <p:blipFill>
          <a:blip r:embed="rId2"/>
          <a:stretch/>
        </p:blipFill>
        <p:spPr>
          <a:xfrm>
            <a:off x="6804000" y="189000"/>
            <a:ext cx="2152800" cy="609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96640"/>
            <a:ext cx="856764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唐代大诗人白居易这样论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隶书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绮美，瑰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明月夜，落花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能助欢笑，亦伤别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调清金石怨，吟苦鬼神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天下只应我爱，世间唯有君知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隶书"/>
              </a:rPr>
              <a:t>……”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275240" y="1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诗人论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2131231"/>
          <p:cNvPicPr/>
          <p:nvPr/>
        </p:nvPicPr>
        <p:blipFill>
          <a:blip r:embed="rId1"/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43280" y="188640"/>
            <a:ext cx="4392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切景语皆情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27640" y="2921400"/>
            <a:ext cx="4356000" cy="22885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从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关 雎、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参差荇菜这些州上之物即景生情，从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求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这个全篇的中心到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友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“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乐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二字的逐渐加深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，表现了一个男子对女子的思念爱慕之情，写求之不得的焦虑和梦中求得的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m1860606"/>
          <p:cNvPicPr/>
          <p:nvPr/>
        </p:nvPicPr>
        <p:blipFill>
          <a:blip r:embed="rId2"/>
          <a:stretch/>
        </p:blipFill>
        <p:spPr>
          <a:xfrm>
            <a:off x="539640" y="476280"/>
            <a:ext cx="367200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95280" y="54936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中许多句子都蕴含着很深很美的含意，千古传颂的佳句有 “窈窕淑女”，既赞扬她的“美状”，又赞扬她的“美心”，可 说是前后呼应，相辅相成。又如“辗转反侧”句，极为传神地表达 了恋人的相思苦，后来白居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恨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灯极尽难成眠”，乔 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蟾宫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寄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不沾匙，睡如翻饼”，都是从这里化出的 名句。而最后一句“钟鼓乐之”，又更是“千金难买美人笑”之类 的故事的原本。通过这不知名的作者的笔，我们完全被这朴实恋情 和美丽如画的场景感动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1763640" y="907920"/>
            <a:ext cx="55627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朝吟风雅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暮唱赋比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秋看鱼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春观草木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1B88-29D3-4262-96B0-8791B0532A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26" descr="2004459532440740"/>
          <p:cNvPicPr/>
          <p:nvPr/>
        </p:nvPicPr>
        <p:blipFill>
          <a:blip r:embed="rId2"/>
          <a:stretch/>
        </p:blipFill>
        <p:spPr>
          <a:xfrm>
            <a:off x="6732720" y="404640"/>
            <a:ext cx="2152440" cy="609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27"/>
          <p:cNvSpPr/>
          <p:nvPr/>
        </p:nvSpPr>
        <p:spPr>
          <a:xfrm>
            <a:off x="140328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28"/>
          <p:cNvSpPr/>
          <p:nvPr/>
        </p:nvSpPr>
        <p:spPr>
          <a:xfrm>
            <a:off x="0" y="2642040"/>
            <a:ext cx="9144000" cy="155628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华文楷体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楷体_GB2312"/>
              </a:rPr>
              <a:t>根据同学们对于中国的古典诗歌了解，大家能说出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我国古典文学现实主义传统的源头</a:t>
            </a: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吗</a:t>
            </a: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29"/>
          <p:cNvSpPr/>
          <p:nvPr/>
        </p:nvSpPr>
        <p:spPr>
          <a:xfrm>
            <a:off x="7275240" y="352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想想说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604360" cy="46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经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是我国第一部诗歌总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共收录自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西周初年至春秋中叶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大约五百年的诗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30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篇，又称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“诗三百”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后被</a:t>
            </a:r>
            <a:r>
              <a:rPr b="1" lang="zh-CN" sz="36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儒家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奉为经典，相传为孔子所编定，才称为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经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分为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风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》 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160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篇） 、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雅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》 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105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篇） 、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颂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》 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40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篇）三大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中国古诗词欣赏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中国古诗词欣赏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0" y="38088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200" y="260280"/>
            <a:ext cx="9037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诗经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共分</a:t>
            </a:r>
            <a:r>
              <a:rPr b="1" lang="zh-CN" sz="36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风、雅、颂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三个部分。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风又包括十五国风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雅分为大雅、小雅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颂分为周、鲁、商颂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风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多是各地民歌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雅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是西周王城区域朝会宴饮所用诗歌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颂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多为宗庙祭祀的舞曲歌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诗经</a:t>
            </a:r>
            <a:r>
              <a:rPr b="1" lang="zh-CN" sz="3600" spc="-1" strike="noStrike">
                <a:solidFill>
                  <a:srgbClr val="ee1302"/>
                </a:solidFill>
                <a:latin typeface="Times New Roman"/>
                <a:ea typeface="方正楷体简体"/>
              </a:rPr>
              <a:t>“</a:t>
            </a:r>
            <a:r>
              <a:rPr b="1" lang="zh-CN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六义</a:t>
            </a:r>
            <a:r>
              <a:rPr b="1" lang="zh-CN" sz="3600" spc="-1" strike="noStrike">
                <a:solidFill>
                  <a:srgbClr val="ee1302"/>
                </a:solidFill>
                <a:latin typeface="Times New Roman"/>
                <a:ea typeface="方正楷体简体"/>
              </a:rPr>
              <a:t>”</a:t>
            </a:r>
            <a:r>
              <a:rPr b="1" lang="en-US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指</a:t>
            </a:r>
            <a:r>
              <a:rPr b="1" lang="zh-CN" sz="36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风、雅、颂、赋、比、兴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-108000" y="3733920"/>
            <a:ext cx="793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cnimg_net_062"/>
          <p:cNvPicPr/>
          <p:nvPr/>
        </p:nvPicPr>
        <p:blipFill>
          <a:blip r:embed="rId2"/>
          <a:stretch/>
        </p:blipFill>
        <p:spPr>
          <a:xfrm>
            <a:off x="8159760" y="5715000"/>
            <a:ext cx="98424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9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346480" y="420840"/>
            <a:ext cx="451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14400" y="380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《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诗经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》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三种表现手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219320" y="1828800"/>
            <a:ext cx="99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39480" y="1676520"/>
            <a:ext cx="103356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朱熹的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209680" y="2895480"/>
            <a:ext cx="10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8"/>
          <p:cNvGrpSpPr/>
          <p:nvPr/>
        </p:nvGrpSpPr>
        <p:grpSpPr>
          <a:xfrm>
            <a:off x="1450800" y="1717560"/>
            <a:ext cx="7077240" cy="1881360"/>
            <a:chOff x="1450800" y="1717560"/>
            <a:chExt cx="7077240" cy="1881360"/>
          </a:xfrm>
        </p:grpSpPr>
        <p:sp>
          <p:nvSpPr>
            <p:cNvPr id="155" name="Text Box 9"/>
            <p:cNvSpPr/>
            <p:nvPr/>
          </p:nvSpPr>
          <p:spPr>
            <a:xfrm>
              <a:off x="1511280" y="1717560"/>
              <a:ext cx="611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赋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者，敷陈其事而直言之也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1527120" y="2363760"/>
              <a:ext cx="547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比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者，以彼物比此物也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1450800" y="3017520"/>
              <a:ext cx="707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“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兴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者，先言他物以引起所咏之物也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2"/>
          <p:cNvSpPr/>
          <p:nvPr/>
        </p:nvSpPr>
        <p:spPr>
          <a:xfrm>
            <a:off x="263520" y="4365720"/>
            <a:ext cx="10335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现在的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209680" y="4792680"/>
            <a:ext cx="1600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098960" y="4764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1598760" y="4292640"/>
            <a:ext cx="6324480" cy="1648080"/>
            <a:chOff x="1598760" y="4292640"/>
            <a:chExt cx="6324480" cy="1648080"/>
          </a:xfrm>
        </p:grpSpPr>
        <p:sp>
          <p:nvSpPr>
            <p:cNvPr id="162" name="Text Box 16"/>
            <p:cNvSpPr/>
            <p:nvPr/>
          </p:nvSpPr>
          <p:spPr>
            <a:xfrm>
              <a:off x="1598760" y="429264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1302"/>
                  </a:solidFill>
                  <a:latin typeface="Times New Roman"/>
                  <a:ea typeface="宋体"/>
                </a:rPr>
                <a:t>赋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就是铺陈直叙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1598760" y="4826160"/>
              <a:ext cx="34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1302"/>
                  </a:solidFill>
                  <a:latin typeface="Times New Roman"/>
                  <a:ea typeface="宋体"/>
                </a:rPr>
                <a:t>比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就是比喻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1598760" y="5359320"/>
              <a:ext cx="63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1302"/>
                  </a:solidFill>
                  <a:latin typeface="Times New Roman"/>
                  <a:ea typeface="宋体"/>
                </a:rPr>
                <a:t>兴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就是借助其它事物为所咏之内容作铺垫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Bamb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457200" y="2286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ee1302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诗经</a:t>
            </a:r>
            <a:r>
              <a:rPr b="1" lang="en-US" sz="3200" spc="-1" strike="noStrike">
                <a:solidFill>
                  <a:srgbClr val="ee1302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四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主，兼有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杂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结构上多采用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重章叠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形式加强抒情效果。每一章只变换几个字，却能收到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回旋跌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艺术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语言上多采用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双声叠韵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叠字连绵词来状物、拟声、穷貌。</a:t>
            </a:r>
            <a:r>
              <a:rPr b="1" lang="zh-CN" sz="3200" spc="-1" strike="noStrike">
                <a:solidFill>
                  <a:srgbClr val="0000ff"/>
                </a:solidFill>
                <a:latin typeface="Courier New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少总多，情貌无遗</a:t>
            </a:r>
            <a:r>
              <a:rPr b="1" lang="zh-CN" sz="32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此外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诗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押韵上有的句句押韵，有的隔句押韵，有的一韵到底，有的中途转韵，现代诗歌的用韵规律在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诗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几乎都已经具备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ird02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 flipV="1">
            <a:off x="1066680" y="4503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71600" y="1295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476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4360" y="162864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汉武帝时将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诗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书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礼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易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春秋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称为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五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风景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5640" y="1844640"/>
            <a:ext cx="280836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关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508200" y="287280"/>
            <a:ext cx="5302440" cy="66106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关关睢鸠，在河之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窈窕淑女，君子好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参差荇菜，左右流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窈窕淑女，寤寐求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求之不得，寤寐思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悠哉悠哉，辗转反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参差荇菜，左右采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窈窕淑女，琴瑟友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参差荇菜，左右芼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窈窕淑女，钟鼓乐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788000" y="0"/>
            <a:ext cx="6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j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219640" y="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ji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6659640" y="692280"/>
            <a:ext cx="974160" cy="520560"/>
            <a:chOff x="6659640" y="692280"/>
            <a:chExt cx="974160" cy="520560"/>
          </a:xfrm>
        </p:grpSpPr>
        <p:sp>
          <p:nvSpPr>
            <p:cNvPr id="178" name="Text Box 12"/>
            <p:cNvSpPr/>
            <p:nvPr/>
          </p:nvSpPr>
          <p:spPr>
            <a:xfrm>
              <a:off x="6659640" y="692280"/>
              <a:ext cx="9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  <a:ea typeface="隶书"/>
                </a:rPr>
                <a:t>h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"/>
            <p:cNvGrpSpPr/>
            <p:nvPr/>
          </p:nvGrpSpPr>
          <p:grpSpPr>
            <a:xfrm>
              <a:off x="7013520" y="772560"/>
              <a:ext cx="176760" cy="97920"/>
              <a:chOff x="7013520" y="772560"/>
              <a:chExt cx="176760" cy="97920"/>
            </a:xfrm>
          </p:grpSpPr>
          <p:sp>
            <p:nvSpPr>
              <p:cNvPr id="180" name="Line 14"/>
              <p:cNvSpPr/>
              <p:nvPr/>
            </p:nvSpPr>
            <p:spPr>
              <a:xfrm>
                <a:off x="7013520" y="772560"/>
                <a:ext cx="88200" cy="9792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5"/>
              <p:cNvSpPr/>
              <p:nvPr/>
            </p:nvSpPr>
            <p:spPr>
              <a:xfrm flipH="1">
                <a:off x="7101720" y="772560"/>
                <a:ext cx="88560" cy="9792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6"/>
          <p:cNvSpPr/>
          <p:nvPr/>
        </p:nvSpPr>
        <p:spPr>
          <a:xfrm>
            <a:off x="7451640" y="677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j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4427640" y="1413000"/>
            <a:ext cx="13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xì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508720" y="2060640"/>
            <a:ext cx="22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wù m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6443640" y="4653000"/>
            <a:ext cx="7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s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6588000" y="530064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m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3564000" y="692280"/>
            <a:ext cx="974160" cy="520560"/>
            <a:chOff x="3564000" y="692280"/>
            <a:chExt cx="974160" cy="520560"/>
          </a:xfrm>
        </p:grpSpPr>
        <p:sp>
          <p:nvSpPr>
            <p:cNvPr id="188" name="Text Box 22"/>
            <p:cNvSpPr/>
            <p:nvPr/>
          </p:nvSpPr>
          <p:spPr>
            <a:xfrm>
              <a:off x="3564000" y="692280"/>
              <a:ext cx="9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  <a:ea typeface="隶书"/>
                </a:rPr>
                <a:t>y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23"/>
            <p:cNvGrpSpPr/>
            <p:nvPr/>
          </p:nvGrpSpPr>
          <p:grpSpPr>
            <a:xfrm>
              <a:off x="3917880" y="772200"/>
              <a:ext cx="176760" cy="97560"/>
              <a:chOff x="3917880" y="772200"/>
              <a:chExt cx="176760" cy="97560"/>
            </a:xfrm>
          </p:grpSpPr>
          <p:sp>
            <p:nvSpPr>
              <p:cNvPr id="190" name="Line 24"/>
              <p:cNvSpPr/>
              <p:nvPr/>
            </p:nvSpPr>
            <p:spPr>
              <a:xfrm>
                <a:off x="3917880" y="772200"/>
                <a:ext cx="88200" cy="9756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 flipH="1">
                <a:off x="4006080" y="772200"/>
                <a:ext cx="88560" cy="9756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26"/>
          <p:cNvGrpSpPr/>
          <p:nvPr/>
        </p:nvGrpSpPr>
        <p:grpSpPr>
          <a:xfrm>
            <a:off x="4284720" y="692280"/>
            <a:ext cx="972720" cy="520560"/>
            <a:chOff x="4284720" y="692280"/>
            <a:chExt cx="972720" cy="520560"/>
          </a:xfrm>
        </p:grpSpPr>
        <p:sp>
          <p:nvSpPr>
            <p:cNvPr id="193" name="Text Box 27"/>
            <p:cNvSpPr/>
            <p:nvPr/>
          </p:nvSpPr>
          <p:spPr>
            <a:xfrm>
              <a:off x="4284720" y="692280"/>
              <a:ext cx="9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  <a:ea typeface="隶书"/>
                </a:rPr>
                <a:t>ti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8"/>
            <p:cNvGrpSpPr/>
            <p:nvPr/>
          </p:nvGrpSpPr>
          <p:grpSpPr>
            <a:xfrm>
              <a:off x="4638240" y="772200"/>
              <a:ext cx="176760" cy="97560"/>
              <a:chOff x="4638240" y="772200"/>
              <a:chExt cx="176760" cy="97560"/>
            </a:xfrm>
          </p:grpSpPr>
          <p:sp>
            <p:nvSpPr>
              <p:cNvPr id="195" name="Line 29"/>
              <p:cNvSpPr/>
              <p:nvPr/>
            </p:nvSpPr>
            <p:spPr>
              <a:xfrm>
                <a:off x="4638240" y="772200"/>
                <a:ext cx="88200" cy="9756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0"/>
              <p:cNvSpPr/>
              <p:nvPr/>
            </p:nvSpPr>
            <p:spPr>
              <a:xfrm flipH="1">
                <a:off x="4726440" y="772200"/>
                <a:ext cx="88560" cy="9756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Text Box 31"/>
          <p:cNvSpPr/>
          <p:nvPr/>
        </p:nvSpPr>
        <p:spPr>
          <a:xfrm>
            <a:off x="324000" y="5079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读，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2:38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6:30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