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3.png" ContentType="image/png"/>
  <Override PartName="/ppt/media/type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FE55-7C35-47B9-9862-65036C7D4B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16BA-DE43-421B-B3AA-3392D4C5E2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145-5D3B-40A5-9275-3BC8B473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D53-B1D2-45FF-A3F1-58F1DCC8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73A-9CF9-4DB3-8DCE-9F8C86D0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BD6-0220-416B-A55F-B9D10936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4F5-BD0C-4958-AF7B-85585B68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572-12AD-41BF-93DD-C0702EBD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EDD-E392-4F59-BF36-4875FA26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61D-D588-4F82-B491-5AEC5C87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AEA-60E9-4AAC-9736-FB0F4E22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4ED-D8B5-4E27-8A4F-57646C76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CE9-B29F-4EB9-A2D0-EA0212A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A71-4FBF-4BB4-B440-9DED7A0D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20F2-6D59-4F45-B2A1-92D958FC2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888840" y="1177920"/>
            <a:ext cx="7521840" cy="1365120"/>
          </a:xfrm>
          <a:prstGeom prst="rect">
            <a:avLst/>
          </a:prstGeom>
          <a:ln w="0">
            <a:noFill/>
          </a:ln>
        </p:spPr>
      </p:pic>
      <p:pic>
        <p:nvPicPr>
          <p:cNvPr id="50" name="矩形 7" descr=""/>
          <p:cNvPicPr/>
          <p:nvPr/>
        </p:nvPicPr>
        <p:blipFill>
          <a:blip r:embed="rId3"/>
          <a:stretch/>
        </p:blipFill>
        <p:spPr>
          <a:xfrm>
            <a:off x="1279440" y="6019920"/>
            <a:ext cx="65739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老年达尔文"/>
          <p:cNvPicPr/>
          <p:nvPr/>
        </p:nvPicPr>
        <p:blipFill>
          <a:blip r:embed="rId1"/>
          <a:stretch/>
        </p:blipFill>
        <p:spPr>
          <a:xfrm>
            <a:off x="0" y="0"/>
            <a:ext cx="68356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7319160" y="-23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老年的达尔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28600" y="685800"/>
            <a:ext cx="8610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达尔文把（     ）的报春花变成了（     ）的报春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" y="29718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895480" y="609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762120" y="12193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304920" y="2514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白色的报春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被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达尔文变成了红色的报春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914400" y="12193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达尔文是怎样把白色的报春花变成红色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914400" y="12193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昨天下午我折了一束白色的报春花，插在红墨水瓶里，今天它就变得红艳艳的了。</a:t>
            </a:r>
            <a:r>
              <a:rPr b="1" lang="zh-CN" sz="40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”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从这句话中，你体会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838080" y="8380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爸爸，这可不是大自然赐给的，使我让它改变颜色的。花每时每刻都在用自己的根喝水，把水传到身体的各部分去。让它喝了红水，传到白色的花朵上去，花自然也就透出红色来了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微软雅黑"/>
              </a:rPr>
              <a:t>.</a:t>
            </a:r>
            <a:r>
              <a:rPr b="1" lang="en-US" sz="44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914400" y="12193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微软雅黑"/>
              </a:rPr>
              <a:t>达尔文为什么要改变报春花的颜色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1295280"/>
            <a:ext cx="91440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花怎么能改变颜色呢？小孩子敢想敢说不是坏事，但也不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为所欲为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，更不能乱来。</a:t>
            </a:r>
            <a:r>
              <a:rPr b="1" lang="zh-CN" sz="4400" spc="-1" strike="noStrike">
                <a:solidFill>
                  <a:srgbClr val="3333ff"/>
                </a:solidFill>
                <a:latin typeface="微软雅黑"/>
                <a:ea typeface="微软雅黑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听到这样的话，达尔文是怎样做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1295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气喘吁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恭恭敬敬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8120" y="1447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容大声喘气的样子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76720" y="26668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长者或宾客十分尊敬，严肃而有礼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会变色的报春花0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0" y="0"/>
            <a:ext cx="9182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听了达尔文的话，爸爸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激动</a:t>
            </a:r>
            <a:r>
              <a:rPr b="1" lang="zh-CN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地举起手中的报春花，说：“我的花园里又多了一种新的报春花，我们英国又多了一种红色的报春花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会变色的报春花0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38080" y="533520"/>
            <a:ext cx="7467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你想对小达尔文说些什么？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304920"/>
            <a:ext cx="9144000" cy="60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你会读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阳光明媚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为所欲为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哭笑不得      舒枝展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恭恭敬敬       气喘吁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怒放     柔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832811192812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914400" y="12193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达尔文从小就是一个敢于大胆想象，并勇于实践的孩子，最终他成为了一个人类历史上伟大的生物学家。学习了本文你受到了什么启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38080" y="49528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他敢想敢做，勇于探索、创新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2054520"/>
            <a:ext cx="73152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奠基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某一领域奠定基础的人，开创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"/>
          <p:cNvSpPr/>
          <p:nvPr/>
        </p:nvSpPr>
        <p:spPr>
          <a:xfrm>
            <a:off x="1077840" y="5403960"/>
            <a:ext cx="63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7122167308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762120" y="990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微软雅黑"/>
              </a:rPr>
              <a:t>达尔文从小就是一个敢于大胆想象，并勇于实践的孩子，最终他成为了一个人类历史上伟大的生物学家。学习了本文你受到了什么启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838080" y="3733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学习他敢想敢做，勇于探索、创新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52280" y="1143000"/>
            <a:ext cx="86108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报春花原本只有（     ）和（     ）两种颜色。小达尔文把（    ）报春花变成（   ）颜色的了。这是因为小达尔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                       ）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00600" y="1143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黄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066680" y="1828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867280" y="259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62120" y="4191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敢想敢做，勇于探索、勇于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38080" y="25909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92B9-500F-4351-8069-E68293E843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会变色的报春花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会变色的报春花_0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会变色的报春花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6103800" y="4518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304920" y="45720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阳光明媚的春天，小达尔文家的花园里，别的花草刚开始舒枝展叶 ，而一簇簇黄色的和白色的报春花，却已向着太阳怒放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371600" y="457200"/>
            <a:ext cx="601992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怒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生气，气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微软雅黑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295280" y="30481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哀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1219320" y="457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怒放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盛开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有时也用来形容心情      非常高兴或愉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90720" y="46483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怒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达尔文"/>
          <p:cNvPicPr/>
          <p:nvPr/>
        </p:nvPicPr>
        <p:blipFill>
          <a:blip r:embed="rId1"/>
          <a:stretch/>
        </p:blipFill>
        <p:spPr>
          <a:xfrm>
            <a:off x="533520" y="0"/>
            <a:ext cx="47052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176160" y="-304560"/>
            <a:ext cx="2009160" cy="69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年轻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查尔斯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达尔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5029200"/>
            <a:ext cx="533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03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24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