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CC83-0A92-44E2-BE1F-6765067DE5BE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E878-3D6D-4EA7-B216-FFD913A3C1B0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2F2-0F88-4AFE-8836-09B539FC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AB5-5C9B-4DB0-AB36-A8704BF1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C6A-E913-49AD-81EE-90F292FE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CBA-8672-49C5-A304-FAC45B08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DA3-B59D-464D-B20E-44C70A92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6A6-904A-42FE-B9F6-225A1780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03E-85B6-4AD3-A918-F55591D8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FD1-C753-4B16-9B97-746D7D40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49B-1E2C-41A3-88F9-60E73EB2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C6D-A296-441C-9591-5B6570EC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F08-45D5-49B4-A523-841AD9E9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8E4-15B8-4696-AAAE-D27281D6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E25F-D0D2-42DF-89A5-00D4202B2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155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狐</a:t>
            </a: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假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虎</a:t>
            </a: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68084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95280" y="1341360"/>
            <a:ext cx="719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森林里的野猪啦，小鹿啦，黄羊啦，兔子啦，看见狐狸大摇大摆地走过来，跟往常很不一样，都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闷。再往狐狸身后一看，呀，一只大老虎！大大小小的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野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吓得撒腿就跑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063"/>
          <p:cNvPicPr/>
          <p:nvPr/>
        </p:nvPicPr>
        <p:blipFill>
          <a:blip r:embed="rId2"/>
          <a:stretch/>
        </p:blipFill>
        <p:spPr>
          <a:xfrm>
            <a:off x="522360" y="5516640"/>
            <a:ext cx="8621640" cy="644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33"/>
          <p:cNvSpPr/>
          <p:nvPr/>
        </p:nvSpPr>
        <p:spPr>
          <a:xfrm>
            <a:off x="4079160" y="2824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跟往常很不一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狐狸"/>
          <p:cNvPicPr/>
          <p:nvPr/>
        </p:nvPicPr>
        <p:blipFill>
          <a:blip r:embed="rId2"/>
          <a:stretch/>
        </p:blipFill>
        <p:spPr>
          <a:xfrm>
            <a:off x="0" y="1844640"/>
            <a:ext cx="4218120" cy="4365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676920" y="1547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贼头贼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129400" y="8460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不敢光明正大地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195880" y="3046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偷鸡摸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411960" y="4510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贼眉鼠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341360"/>
            <a:ext cx="719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森林里的野猪啦，小鹿啦，黄羊啦，兔子啦，看见狐狸大摇大摆地走过来，跟往常很不一样，都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闷。再往狐狸身后一看，呀，一只大老虎！大大小小的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野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吓得撒腿就跑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6720" y="3514680"/>
            <a:ext cx="11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纳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063"/>
          <p:cNvPicPr/>
          <p:nvPr/>
        </p:nvPicPr>
        <p:blipFill>
          <a:blip r:embed="rId2"/>
          <a:stretch/>
        </p:blipFill>
        <p:spPr>
          <a:xfrm>
            <a:off x="522360" y="5516640"/>
            <a:ext cx="8621640" cy="644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079160" y="2824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跟往常很不一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XC408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24000" y="2492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狡猾的狐狸是借着老虎的威风把百兽吓跑的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698000" y="14842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凶恶的老虎受骗了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684360" y="1724760"/>
            <a:ext cx="770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       ）逮住了（         ），（       ）借用（        ）的威风吓跑了（       ），骗了（        ）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436040" y="1285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老虎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757480" y="135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狐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436040" y="207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狐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036760" y="207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老虎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880800" y="2852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百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07680" y="351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老虎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026"/>
          <p:cNvSpPr/>
          <p:nvPr/>
        </p:nvSpPr>
        <p:spPr>
          <a:xfrm>
            <a:off x="611280" y="1125360"/>
            <a:ext cx="7524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狡猾　  凶恶　 一愣    违抗 胆子　  爪子   野兽   纳闷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气活现　摇头摆尾  狐假虎威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信半疑  东张西望  大摇大摆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026"/>
          <p:cNvSpPr/>
          <p:nvPr/>
        </p:nvSpPr>
        <p:spPr>
          <a:xfrm>
            <a:off x="915840" y="28404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27"/>
          <p:cNvSpPr/>
          <p:nvPr/>
        </p:nvSpPr>
        <p:spPr>
          <a:xfrm>
            <a:off x="3516480" y="2523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8"/>
          <p:cNvSpPr/>
          <p:nvPr/>
        </p:nvSpPr>
        <p:spPr>
          <a:xfrm>
            <a:off x="6102360" y="2602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29"/>
          <p:cNvSpPr/>
          <p:nvPr/>
        </p:nvSpPr>
        <p:spPr>
          <a:xfrm>
            <a:off x="917640" y="95724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30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31"/>
          <p:cNvSpPr/>
          <p:nvPr/>
        </p:nvSpPr>
        <p:spPr>
          <a:xfrm>
            <a:off x="6103800" y="9334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32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3"/>
          <p:cNvSpPr/>
          <p:nvPr/>
        </p:nvSpPr>
        <p:spPr>
          <a:xfrm>
            <a:off x="7723080" y="583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034">
            <a:hlinkClick r:id="" action="ppaction://hlinkshowjump?jump=previousslide"/>
          </p:cNvPr>
          <p:cNvSpPr/>
          <p:nvPr/>
        </p:nvSpPr>
        <p:spPr>
          <a:xfrm>
            <a:off x="7939080" y="594684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026"/>
          <p:cNvSpPr/>
          <p:nvPr/>
        </p:nvSpPr>
        <p:spPr>
          <a:xfrm>
            <a:off x="3516480" y="2523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27"/>
          <p:cNvSpPr/>
          <p:nvPr/>
        </p:nvSpPr>
        <p:spPr>
          <a:xfrm>
            <a:off x="6102360" y="2602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917640" y="95724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29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30"/>
          <p:cNvSpPr/>
          <p:nvPr/>
        </p:nvSpPr>
        <p:spPr>
          <a:xfrm>
            <a:off x="6103800" y="9334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31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32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26"/>
          <p:cNvSpPr/>
          <p:nvPr/>
        </p:nvSpPr>
        <p:spPr>
          <a:xfrm>
            <a:off x="3516480" y="2523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27"/>
          <p:cNvSpPr/>
          <p:nvPr/>
        </p:nvSpPr>
        <p:spPr>
          <a:xfrm>
            <a:off x="6102360" y="2602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29"/>
          <p:cNvSpPr/>
          <p:nvPr/>
        </p:nvSpPr>
        <p:spPr>
          <a:xfrm>
            <a:off x="6103800" y="9334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30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31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32"/>
          <p:cNvSpPr/>
          <p:nvPr/>
        </p:nvSpPr>
        <p:spPr>
          <a:xfrm>
            <a:off x="1192320" y="419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026"/>
          <p:cNvSpPr/>
          <p:nvPr/>
        </p:nvSpPr>
        <p:spPr>
          <a:xfrm>
            <a:off x="3516480" y="2523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27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8"/>
          <p:cNvSpPr/>
          <p:nvPr/>
        </p:nvSpPr>
        <p:spPr>
          <a:xfrm>
            <a:off x="6103800" y="93348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29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30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31"/>
          <p:cNvSpPr/>
          <p:nvPr/>
        </p:nvSpPr>
        <p:spPr>
          <a:xfrm>
            <a:off x="5656320" y="42051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2"/>
          <p:cNvSpPr/>
          <p:nvPr/>
        </p:nvSpPr>
        <p:spPr>
          <a:xfrm>
            <a:off x="1192320" y="419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XC408011"/>
          <p:cNvPicPr/>
          <p:nvPr/>
        </p:nvPicPr>
        <p:blipFill>
          <a:blip r:embed="rId2"/>
          <a:stretch/>
        </p:blipFill>
        <p:spPr>
          <a:xfrm>
            <a:off x="685800" y="609480"/>
            <a:ext cx="300024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XC408012"/>
          <p:cNvPicPr/>
          <p:nvPr/>
        </p:nvPicPr>
        <p:blipFill>
          <a:blip r:embed="rId3"/>
          <a:stretch/>
        </p:blipFill>
        <p:spPr>
          <a:xfrm>
            <a:off x="4724280" y="838080"/>
            <a:ext cx="4038840" cy="2887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4419720" y="49528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（        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狐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139000" y="49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狡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026"/>
          <p:cNvSpPr/>
          <p:nvPr/>
        </p:nvSpPr>
        <p:spPr>
          <a:xfrm>
            <a:off x="3516480" y="2523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27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28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29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30"/>
          <p:cNvSpPr/>
          <p:nvPr/>
        </p:nvSpPr>
        <p:spPr>
          <a:xfrm>
            <a:off x="5656320" y="42051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1"/>
          <p:cNvSpPr/>
          <p:nvPr/>
        </p:nvSpPr>
        <p:spPr>
          <a:xfrm>
            <a:off x="1192320" y="419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2"/>
          <p:cNvSpPr/>
          <p:nvPr/>
        </p:nvSpPr>
        <p:spPr>
          <a:xfrm>
            <a:off x="735120" y="50022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517920" y="925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062080" y="573084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656320" y="42051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192320" y="419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735120" y="50022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735120" y="468360"/>
            <a:ext cx="69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14360" y="1863720"/>
            <a:ext cx="887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狐狸被老虎逮住了，他就称自己是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爷派来管百兽的。老虎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狐狸身后，向森林深处走去，还不停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却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狐狸借着老虎的威风把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兽吓得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就是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　　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497560" y="26766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半信半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062080" y="573084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撒腿就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6320" y="420516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神气活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192320" y="41958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张西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369120" y="571644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35120" y="500220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摇头摆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334476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25520" y="3175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390600" y="3110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投鼠忌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362400" y="1839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318960" y="18511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6208560" y="20066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6218280" y="200196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画蛇添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320760" y="183348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狡兔三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3351240" y="184464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画龙点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412920" y="329724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6157800" y="3395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6297480" y="462924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猪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447840" y="478800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368520" y="470376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0" y="3281400"/>
            <a:ext cx="3200400" cy="1179360"/>
          </a:xfrm>
          <a:custGeom>
            <a:avLst/>
            <a:gdLst>
              <a:gd name="textAreaLeft" fmla="*/ 0 w 3200400"/>
              <a:gd name="textAreaRight" fmla="*/ 3200760 w 320040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塞翁失马，焉知非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6367320" y="38268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381480" y="35568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6180120" y="339732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杀鸡儆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6375240" y="38592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人成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426960" y="4788000"/>
            <a:ext cx="2290680" cy="117936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闻鸡起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2"/>
          <p:cNvSpPr/>
          <p:nvPr/>
        </p:nvSpPr>
        <p:spPr>
          <a:xfrm>
            <a:off x="3333600" y="3308400"/>
            <a:ext cx="2291040" cy="117936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360"/>
              <a:gd name="textAreaBottom" fmla="*/ 872640 h 1179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亡羊补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3"/>
          <p:cNvSpPr/>
          <p:nvPr/>
        </p:nvSpPr>
        <p:spPr>
          <a:xfrm>
            <a:off x="3379680" y="4700520"/>
            <a:ext cx="2291040" cy="1179720"/>
          </a:xfrm>
          <a:custGeom>
            <a:avLst/>
            <a:gdLst>
              <a:gd name="textAreaLeft" fmla="*/ 0 w 2291040"/>
              <a:gd name="textAreaRight" fmla="*/ 2291400 w 229104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鸡鸣狗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4"/>
          <p:cNvSpPr/>
          <p:nvPr/>
        </p:nvSpPr>
        <p:spPr>
          <a:xfrm>
            <a:off x="3390840" y="361800"/>
            <a:ext cx="2290680" cy="1179720"/>
          </a:xfrm>
          <a:custGeom>
            <a:avLst/>
            <a:gdLst>
              <a:gd name="textAreaLeft" fmla="*/ 0 w 2290680"/>
              <a:gd name="textAreaRight" fmla="*/ 2291040 w 2290680"/>
              <a:gd name="textAreaTop" fmla="*/ 306720 h 1179720"/>
              <a:gd name="textAreaBottom" fmla="*/ 87300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牛弹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25"/>
          <p:cNvGrpSpPr/>
          <p:nvPr/>
        </p:nvGrpSpPr>
        <p:grpSpPr>
          <a:xfrm>
            <a:off x="6291360" y="4648320"/>
            <a:ext cx="2290680" cy="1179360"/>
            <a:chOff x="6291360" y="4648320"/>
            <a:chExt cx="2290680" cy="1179360"/>
          </a:xfrm>
        </p:grpSpPr>
        <p:sp>
          <p:nvSpPr>
            <p:cNvPr id="196" name="AutoShape 26"/>
            <p:cNvSpPr/>
            <p:nvPr/>
          </p:nvSpPr>
          <p:spPr>
            <a:xfrm>
              <a:off x="6291360" y="4648320"/>
              <a:ext cx="2290680" cy="117936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306720 h 1179360"/>
                <a:gd name="textAreaBottom" fmla="*/ 872640 h 11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7"/>
            <p:cNvSpPr/>
            <p:nvPr/>
          </p:nvSpPr>
          <p:spPr>
            <a:xfrm>
              <a:off x="6943320" y="5060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行同猪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04E-E3E2-4353-ABE0-3829335D6A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XC408010"/>
          <p:cNvPicPr/>
          <p:nvPr/>
        </p:nvPicPr>
        <p:blipFill>
          <a:blip r:embed="rId2"/>
          <a:stretch/>
        </p:blipFill>
        <p:spPr>
          <a:xfrm>
            <a:off x="304920" y="304920"/>
            <a:ext cx="4724280" cy="399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XC408009"/>
          <p:cNvPicPr/>
          <p:nvPr/>
        </p:nvPicPr>
        <p:blipFill>
          <a:blip r:embed="rId3"/>
          <a:stretch/>
        </p:blipFill>
        <p:spPr>
          <a:xfrm>
            <a:off x="5181480" y="304920"/>
            <a:ext cx="3532320" cy="5333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04920" y="4952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（         ）的老虎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09600" y="55166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（         ）的老虎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042920" y="4876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凶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033560" y="558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威风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947960" y="51944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狐狸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413320" y="412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老虎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老虎"/>
          <p:cNvPicPr/>
          <p:nvPr/>
        </p:nvPicPr>
        <p:blipFill>
          <a:blip r:embed="rId2"/>
          <a:stretch/>
        </p:blipFill>
        <p:spPr>
          <a:xfrm>
            <a:off x="6516720" y="549360"/>
            <a:ext cx="2219400" cy="1743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狐狸"/>
          <p:cNvPicPr/>
          <p:nvPr/>
        </p:nvPicPr>
        <p:blipFill>
          <a:blip r:embed="rId3"/>
          <a:stretch/>
        </p:blipFill>
        <p:spPr>
          <a:xfrm>
            <a:off x="181080" y="4379760"/>
            <a:ext cx="1407960" cy="1457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237960" y="185760"/>
            <a:ext cx="5099040" cy="3427560"/>
          </a:xfrm>
          <a:prstGeom prst="cloudCallout">
            <a:avLst>
              <a:gd name="adj1" fmla="val -22324"/>
              <a:gd name="adj2" fmla="val 75847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大家都叫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身穿棕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ōn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色毛皮大衣，尖尖的嘴巴，大大的耳朵，身体长长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腿却短短的，最漂亮的是我那又长又粗的尾巴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4140360" y="3160800"/>
            <a:ext cx="4586040" cy="3697200"/>
          </a:xfrm>
          <a:prstGeom prst="wedgeEllipseCallout">
            <a:avLst>
              <a:gd name="adj1" fmla="val 20268"/>
              <a:gd name="adj2" fmla="val -7778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人们都称我是“林中大王”。瞧，我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é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头上的花纹就是一个“王”字。我长得高大威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wǔ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四肢强壮有力，爪子像刀一样锋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9144000" cy="2971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04920" y="0"/>
            <a:ext cx="8610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茂密的森林里，有只老虎正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寻找食物。只狐狸从老虎身边窜过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虎扑过去，把狐狸逮住了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1"/>
          <p:cNvSpPr/>
          <p:nvPr/>
        </p:nvSpPr>
        <p:spPr>
          <a:xfrm>
            <a:off x="7000200" y="90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窜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2"/>
          <p:cNvSpPr/>
          <p:nvPr/>
        </p:nvSpPr>
        <p:spPr>
          <a:xfrm>
            <a:off x="1626480" y="1830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扑过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3"/>
          <p:cNvSpPr/>
          <p:nvPr/>
        </p:nvSpPr>
        <p:spPr>
          <a:xfrm>
            <a:off x="5068800" y="1830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逮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hockwaveFlash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7"/>
          <p:cNvSpPr/>
          <p:nvPr/>
        </p:nvSpPr>
        <p:spPr>
          <a:xfrm>
            <a:off x="1619280" y="292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XC408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324000" y="2492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狡猾的狐狸是借着老虎的威风把百兽吓跑的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258000" y="1484280"/>
            <a:ext cx="33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凶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恶的老虎受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了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XC408005"/>
          <p:cNvPicPr/>
          <p:nvPr/>
        </p:nvPicPr>
        <p:blipFill>
          <a:blip r:embed="rId2"/>
          <a:stretch/>
        </p:blipFill>
        <p:spPr>
          <a:xfrm>
            <a:off x="2050920" y="2924280"/>
            <a:ext cx="4419720" cy="39337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3"/>
          <p:cNvGrpSpPr/>
          <p:nvPr/>
        </p:nvGrpSpPr>
        <p:grpSpPr>
          <a:xfrm>
            <a:off x="4038480" y="-473040"/>
            <a:ext cx="4876920" cy="2438280"/>
            <a:chOff x="4038480" y="-473040"/>
            <a:chExt cx="4876920" cy="2438280"/>
          </a:xfrm>
        </p:grpSpPr>
        <p:sp>
          <p:nvSpPr>
            <p:cNvPr id="78" name="AutoShape 9"/>
            <p:cNvSpPr/>
            <p:nvPr/>
          </p:nvSpPr>
          <p:spPr>
            <a:xfrm>
              <a:off x="4038480" y="-473040"/>
              <a:ext cx="4876920" cy="2438280"/>
            </a:xfrm>
            <a:prstGeom prst="wedgeEllipseCallout">
              <a:avLst>
                <a:gd name="adj1" fmla="val -18620"/>
                <a:gd name="adj2" fmla="val 1054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6"/>
            <p:cNvSpPr/>
            <p:nvPr/>
          </p:nvSpPr>
          <p:spPr>
            <a:xfrm>
              <a:off x="4191120" y="-15840"/>
              <a:ext cx="44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狡猾的狐狸眼珠子骨碌一转，扯着嗓子对老虎说：“你敢吃我？”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2"/>
          <p:cNvGrpSpPr/>
          <p:nvPr/>
        </p:nvGrpSpPr>
        <p:grpSpPr>
          <a:xfrm>
            <a:off x="-305280" y="0"/>
            <a:ext cx="4647960" cy="2468520"/>
            <a:chOff x="-305280" y="0"/>
            <a:chExt cx="4647960" cy="2468520"/>
          </a:xfrm>
        </p:grpSpPr>
        <p:sp>
          <p:nvSpPr>
            <p:cNvPr id="81" name="AutoShape 11"/>
            <p:cNvSpPr/>
            <p:nvPr/>
          </p:nvSpPr>
          <p:spPr>
            <a:xfrm flipH="1">
              <a:off x="-305640" y="0"/>
              <a:ext cx="4647960" cy="2209680"/>
            </a:xfrm>
            <a:prstGeom prst="cloudCallout">
              <a:avLst>
                <a:gd name="adj1" fmla="val -29527"/>
                <a:gd name="adj2" fmla="val 108402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320760" y="228600"/>
              <a:ext cx="3575160" cy="22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4000" spc="-1" strike="noStrike">
                  <a:solidFill>
                    <a:srgbClr val="00cc99"/>
                  </a:solidFill>
                  <a:latin typeface="Times New Roman"/>
                </a:rPr>
                <a:t>为什么不敢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？”老虎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一愣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22"/>
          <p:cNvGrpSpPr/>
          <p:nvPr/>
        </p:nvGrpSpPr>
        <p:grpSpPr>
          <a:xfrm>
            <a:off x="0" y="2421000"/>
            <a:ext cx="3491640" cy="3444120"/>
            <a:chOff x="0" y="2421000"/>
            <a:chExt cx="3491640" cy="3444120"/>
          </a:xfrm>
        </p:grpSpPr>
        <p:sp>
          <p:nvSpPr>
            <p:cNvPr id="84" name="AutoShape 16"/>
            <p:cNvSpPr/>
            <p:nvPr/>
          </p:nvSpPr>
          <p:spPr>
            <a:xfrm>
              <a:off x="96840" y="2421000"/>
              <a:ext cx="3394800" cy="3444120"/>
            </a:xfrm>
            <a:prstGeom prst="rightArrowCallout">
              <a:avLst>
                <a:gd name="adj1" fmla="val 13632"/>
                <a:gd name="adj2" fmla="val 7867"/>
                <a:gd name="adj3" fmla="val 5829"/>
                <a:gd name="adj4" fmla="val 7363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cap="rnd" w="93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8"/>
            <p:cNvSpPr/>
            <p:nvPr/>
          </p:nvSpPr>
          <p:spPr>
            <a:xfrm>
              <a:off x="0" y="2899080"/>
              <a:ext cx="2619000" cy="22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老虎被蒙住了，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松开了</a:t>
              </a: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爪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子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1"/>
          <p:cNvGrpSpPr/>
          <p:nvPr/>
        </p:nvGrpSpPr>
        <p:grpSpPr>
          <a:xfrm>
            <a:off x="6156360" y="2781360"/>
            <a:ext cx="2987280" cy="3381480"/>
            <a:chOff x="6156360" y="2781360"/>
            <a:chExt cx="2987280" cy="3381480"/>
          </a:xfrm>
        </p:grpSpPr>
        <p:sp>
          <p:nvSpPr>
            <p:cNvPr id="87" name="AutoShape 19"/>
            <p:cNvSpPr/>
            <p:nvPr/>
          </p:nvSpPr>
          <p:spPr>
            <a:xfrm>
              <a:off x="6156360" y="2781360"/>
              <a:ext cx="2987280" cy="3381480"/>
            </a:xfrm>
            <a:prstGeom prst="wedgeRoundRectCallout">
              <a:avLst>
                <a:gd name="adj1" fmla="val -85069"/>
                <a:gd name="adj2" fmla="val -24060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99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0"/>
            <p:cNvSpPr/>
            <p:nvPr/>
          </p:nvSpPr>
          <p:spPr>
            <a:xfrm>
              <a:off x="6488280" y="2781360"/>
              <a:ext cx="26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1" lang="zh-CN" sz="3200" spc="-1" strike="noStrike">
                  <a:solidFill>
                    <a:srgbClr val="009900"/>
                  </a:solidFill>
                  <a:latin typeface="Times New Roman"/>
                </a:rPr>
                <a:t>老天爷派我来管你们百兽，你吃了我，就是违抗了老天爷的命令。我看你有多大的胆子！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”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24"/>
          <p:cNvGrpSpPr/>
          <p:nvPr/>
        </p:nvGrpSpPr>
        <p:grpSpPr>
          <a:xfrm>
            <a:off x="4038480" y="-473040"/>
            <a:ext cx="4876920" cy="2438280"/>
            <a:chOff x="4038480" y="-473040"/>
            <a:chExt cx="4876920" cy="2438280"/>
          </a:xfrm>
        </p:grpSpPr>
        <p:sp>
          <p:nvSpPr>
            <p:cNvPr id="90" name="AutoShape 25"/>
            <p:cNvSpPr/>
            <p:nvPr/>
          </p:nvSpPr>
          <p:spPr>
            <a:xfrm>
              <a:off x="4038480" y="-473040"/>
              <a:ext cx="4876920" cy="2438280"/>
            </a:xfrm>
            <a:prstGeom prst="wedgeEllipseCallout">
              <a:avLst>
                <a:gd name="adj1" fmla="val -18620"/>
                <a:gd name="adj2" fmla="val 1054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26"/>
            <p:cNvSpPr/>
            <p:nvPr/>
          </p:nvSpPr>
          <p:spPr>
            <a:xfrm>
              <a:off x="4191120" y="-15840"/>
              <a:ext cx="44193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狡猾的狐狸眼珠子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骨碌一转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扯着嗓子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对老虎说：“</a:t>
              </a:r>
              <a:r>
                <a:rPr b="1" lang="zh-CN" sz="4000" spc="-1" strike="noStrike">
                  <a:solidFill>
                    <a:srgbClr val="009900"/>
                  </a:solidFill>
                  <a:latin typeface="Times New Roman"/>
                </a:rPr>
                <a:t>你敢吃我？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”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XC408006"/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435640" y="1890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狐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摇了摇尾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说：“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我带你到百兽面前走一趟，让你看看我的威风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0" y="426708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狐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老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一前一后，朝森林深处走去。狐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神气活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摇头摆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老虎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半信半疑，东张西望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2637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和老虎，一前一后，朝森林深处走去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在前面的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想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在后面的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想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009"/>
          <p:cNvPicPr/>
          <p:nvPr/>
        </p:nvPicPr>
        <p:blipFill>
          <a:blip r:embed="rId2"/>
          <a:stretch/>
        </p:blipFill>
        <p:spPr>
          <a:xfrm>
            <a:off x="58680" y="6118200"/>
            <a:ext cx="9085320" cy="54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7:43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27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