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CHIMES.WAV" ContentType="audio/x-wav"/>
  <Override PartName="/ppt/media/image15.jpeg" ContentType="image/jpeg"/>
  <Override PartName="/ppt/media/type.wav" ContentType="audio/x-wav"/>
  <Override PartName="/ppt/media/image17.png" ContentType="image/png"/>
  <Override PartName="/ppt/media/chimes.wav" ContentType="audio/x-wav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%E4%B9%8C%E9%B8%A6.WAV" ContentType="audio/x-wav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667E-2A55-4968-B2ED-C91159244C0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指导朗读第二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2525-E67A-42BA-A4C3-BC75872EFB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9B0B-0164-4E62-8E7A-E0959D05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782-BF73-4D3A-B63B-14966572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771E-733B-49C7-A9EA-C453FB15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0104-2A5F-4ED1-B804-07C5B59B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DB25-B25D-4F95-A7A7-355E5B3F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CF8C-703E-40CE-9D0E-D30DCFC5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098D-360F-473B-9ED0-045500C2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98A6-2C3C-4024-878C-8FBFD750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AA8C-152F-4E0F-A149-7F8868A5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17B6-468E-4C41-AA29-556F7CE0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0ACF-A4CA-46C6-9F4C-3623F91C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B0F1-1F45-459A-9B93-A8CC0686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7982-71CC-4EB8-B8D7-09EEB7BF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A3BA-87BC-49AF-9E1D-7CFB8C3F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E5CA-0415-4E67-84D0-69709296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BE17-5114-4315-9ADE-63A76849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FEF2-1F9A-4606-B9B2-7C8AF07E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7C60-76A0-4771-BAAA-CE4472E8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0168-CAD5-4812-B154-9A3CEADC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681D-B35A-4208-AF7B-2B4C1E97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C504-FFFC-4781-9CD0-36CE1689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481C-B541-4D25-BC0A-32E3401E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7B6C-2B2F-41B7-BC16-1926F65A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16CA-C744-41F6-B651-4DCFD6D9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0D83-36E1-46D4-AD72-EAF762B6B9D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36DD-0F63-4779-AB4E-7DFBBBFB7B6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&#20044;&#40486;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8&#23567;&#40560;&#23398;&#39134;&#26391;&#35835;.swf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矩形 3" descr=""/>
          <p:cNvPicPr/>
          <p:nvPr/>
        </p:nvPicPr>
        <p:blipFill>
          <a:blip r:embed="rId2"/>
          <a:stretch/>
        </p:blipFill>
        <p:spPr>
          <a:xfrm>
            <a:off x="3071880" y="6093000"/>
            <a:ext cx="56721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5219640" y="1251000"/>
            <a:ext cx="367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眼珠一转，对乌鸦说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乌鸦！您好吗？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鸦没有回答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狐狸与乌鸦"/>
          <p:cNvPicPr/>
          <p:nvPr/>
        </p:nvPicPr>
        <p:blipFill>
          <a:blip r:embed="rId1"/>
          <a:stretch/>
        </p:blipFill>
        <p:spPr>
          <a:xfrm>
            <a:off x="-152280" y="9360"/>
            <a:ext cx="446868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食物"/>
          <p:cNvPicPr/>
          <p:nvPr/>
        </p:nvPicPr>
        <p:blipFill>
          <a:blip r:embed="rId2"/>
          <a:stretch/>
        </p:blipFill>
        <p:spPr>
          <a:xfrm>
            <a:off x="2362320" y="1066680"/>
            <a:ext cx="685800" cy="5335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 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6567480" y="263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7"/>
          <p:cNvGrpSpPr/>
          <p:nvPr/>
        </p:nvGrpSpPr>
        <p:grpSpPr>
          <a:xfrm>
            <a:off x="7140600" y="3406680"/>
            <a:ext cx="1752480" cy="93240"/>
            <a:chOff x="7140600" y="3406680"/>
            <a:chExt cx="1752480" cy="93240"/>
          </a:xfrm>
        </p:grpSpPr>
        <p:sp>
          <p:nvSpPr>
            <p:cNvPr id="156" name="Freeform 8"/>
            <p:cNvSpPr/>
            <p:nvPr/>
          </p:nvSpPr>
          <p:spPr>
            <a:xfrm>
              <a:off x="7140600" y="3425400"/>
              <a:ext cx="87624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9"/>
            <p:cNvSpPr/>
            <p:nvPr/>
          </p:nvSpPr>
          <p:spPr>
            <a:xfrm>
              <a:off x="8016840" y="3406680"/>
              <a:ext cx="87624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0"/>
          <p:cNvGrpSpPr/>
          <p:nvPr/>
        </p:nvGrpSpPr>
        <p:grpSpPr>
          <a:xfrm>
            <a:off x="5292720" y="4199040"/>
            <a:ext cx="1752480" cy="93240"/>
            <a:chOff x="5292720" y="4199040"/>
            <a:chExt cx="1752480" cy="93240"/>
          </a:xfrm>
        </p:grpSpPr>
        <p:sp>
          <p:nvSpPr>
            <p:cNvPr id="159" name="Freeform 11"/>
            <p:cNvSpPr/>
            <p:nvPr/>
          </p:nvSpPr>
          <p:spPr>
            <a:xfrm>
              <a:off x="5292720" y="4217760"/>
              <a:ext cx="87624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2"/>
            <p:cNvSpPr/>
            <p:nvPr/>
          </p:nvSpPr>
          <p:spPr>
            <a:xfrm>
              <a:off x="6168960" y="4199040"/>
              <a:ext cx="87624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3"/>
          <p:cNvGrpSpPr/>
          <p:nvPr/>
        </p:nvGrpSpPr>
        <p:grpSpPr>
          <a:xfrm>
            <a:off x="7237440" y="4219560"/>
            <a:ext cx="1295280" cy="72720"/>
            <a:chOff x="7237440" y="4219560"/>
            <a:chExt cx="1295280" cy="72720"/>
          </a:xfrm>
        </p:grpSpPr>
        <p:sp>
          <p:nvSpPr>
            <p:cNvPr id="162" name="Freeform 14"/>
            <p:cNvSpPr/>
            <p:nvPr/>
          </p:nvSpPr>
          <p:spPr>
            <a:xfrm>
              <a:off x="7237440" y="4234320"/>
              <a:ext cx="647640" cy="5796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5"/>
            <p:cNvSpPr/>
            <p:nvPr/>
          </p:nvSpPr>
          <p:spPr>
            <a:xfrm>
              <a:off x="7885080" y="4219560"/>
              <a:ext cx="647640" cy="5796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6"/>
          <p:cNvGrpSpPr/>
          <p:nvPr/>
        </p:nvGrpSpPr>
        <p:grpSpPr>
          <a:xfrm>
            <a:off x="5219640" y="4870440"/>
            <a:ext cx="1368000" cy="70920"/>
            <a:chOff x="5219640" y="4870440"/>
            <a:chExt cx="1368000" cy="70920"/>
          </a:xfrm>
        </p:grpSpPr>
        <p:sp>
          <p:nvSpPr>
            <p:cNvPr id="165" name="Freeform 17"/>
            <p:cNvSpPr/>
            <p:nvPr/>
          </p:nvSpPr>
          <p:spPr>
            <a:xfrm>
              <a:off x="5219640" y="4884840"/>
              <a:ext cx="684000" cy="56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8"/>
            <p:cNvSpPr/>
            <p:nvPr/>
          </p:nvSpPr>
          <p:spPr>
            <a:xfrm>
              <a:off x="5903640" y="4870440"/>
              <a:ext cx="684000" cy="56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Line 19"/>
          <p:cNvSpPr/>
          <p:nvPr/>
        </p:nvSpPr>
        <p:spPr>
          <a:xfrm>
            <a:off x="7236000" y="4869000"/>
            <a:ext cx="143964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>
            <a:off x="5364000" y="5661000"/>
            <a:ext cx="27370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5484240" y="1989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一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4"/>
          <p:cNvSpPr/>
          <p:nvPr/>
        </p:nvSpPr>
        <p:spPr>
          <a:xfrm>
            <a:off x="7787880" y="3468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狐狸与乌鸦"/>
          <p:cNvPicPr/>
          <p:nvPr/>
        </p:nvPicPr>
        <p:blipFill>
          <a:blip r:embed="rId1"/>
          <a:stretch/>
        </p:blipFill>
        <p:spPr>
          <a:xfrm>
            <a:off x="0" y="9360"/>
            <a:ext cx="446868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2700360" y="1592280"/>
            <a:ext cx="5975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确的句子后面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眼珠一转，对乌鸦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乌鸦，您好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１）狐狸称乌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说明狐狸很有礼貌。 （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２）狐狸这样做，是为了骗取乌鸦嘴里的肉。 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5796000" y="45655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5">
            <a:hlinkClick r:id="" action="ppaction://hlinkshowjump?jump=nextslide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4419720" y="620640"/>
            <a:ext cx="4724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陪着笑脸说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乌鸦，您的孩子好吗？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鸦看了狐狸一眼，还是没有回答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食物"/>
          <p:cNvPicPr/>
          <p:nvPr/>
        </p:nvPicPr>
        <p:blipFill>
          <a:blip r:embed="rId1"/>
          <a:stretch/>
        </p:blipFill>
        <p:spPr>
          <a:xfrm>
            <a:off x="1905120" y="838080"/>
            <a:ext cx="914400" cy="533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狐狸与乌鸦"/>
          <p:cNvPicPr/>
          <p:nvPr/>
        </p:nvPicPr>
        <p:blipFill>
          <a:blip r:embed="rId2"/>
          <a:stretch/>
        </p:blipFill>
        <p:spPr>
          <a:xfrm>
            <a:off x="0" y="0"/>
            <a:ext cx="446868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食物"/>
          <p:cNvPicPr/>
          <p:nvPr/>
        </p:nvPicPr>
        <p:blipFill>
          <a:blip r:embed="rId3"/>
          <a:stretch/>
        </p:blipFill>
        <p:spPr>
          <a:xfrm>
            <a:off x="2514600" y="1143000"/>
            <a:ext cx="762120" cy="533520"/>
          </a:xfrm>
          <a:prstGeom prst="rect">
            <a:avLst/>
          </a:prstGeom>
          <a:ln w="0">
            <a:noFill/>
          </a:ln>
        </p:spPr>
      </p:pic>
      <p:sp>
        <p:nvSpPr>
          <p:cNvPr id="179" name="Line 6"/>
          <p:cNvSpPr/>
          <p:nvPr/>
        </p:nvSpPr>
        <p:spPr>
          <a:xfrm>
            <a:off x="6732720" y="3573360"/>
            <a:ext cx="20160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4643280" y="4365720"/>
            <a:ext cx="40323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9"/>
          <p:cNvGrpSpPr/>
          <p:nvPr/>
        </p:nvGrpSpPr>
        <p:grpSpPr>
          <a:xfrm>
            <a:off x="6372360" y="2060640"/>
            <a:ext cx="2520000" cy="93240"/>
            <a:chOff x="6372360" y="2060640"/>
            <a:chExt cx="2520000" cy="93240"/>
          </a:xfrm>
        </p:grpSpPr>
        <p:sp>
          <p:nvSpPr>
            <p:cNvPr id="182" name="Freeform 10"/>
            <p:cNvSpPr/>
            <p:nvPr/>
          </p:nvSpPr>
          <p:spPr>
            <a:xfrm>
              <a:off x="6372360" y="2079360"/>
              <a:ext cx="12600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1"/>
            <p:cNvSpPr/>
            <p:nvPr/>
          </p:nvSpPr>
          <p:spPr>
            <a:xfrm>
              <a:off x="7632360" y="2060640"/>
              <a:ext cx="12600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2"/>
          <p:cNvGrpSpPr/>
          <p:nvPr/>
        </p:nvGrpSpPr>
        <p:grpSpPr>
          <a:xfrm>
            <a:off x="4788000" y="2781360"/>
            <a:ext cx="2016000" cy="93240"/>
            <a:chOff x="4788000" y="2781360"/>
            <a:chExt cx="2016000" cy="93240"/>
          </a:xfrm>
        </p:grpSpPr>
        <p:sp>
          <p:nvSpPr>
            <p:cNvPr id="185" name="Freeform 13"/>
            <p:cNvSpPr/>
            <p:nvPr/>
          </p:nvSpPr>
          <p:spPr>
            <a:xfrm>
              <a:off x="4788000" y="2800080"/>
              <a:ext cx="10080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5796000" y="2781360"/>
              <a:ext cx="10080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18"/>
          <p:cNvSpPr/>
          <p:nvPr/>
        </p:nvSpPr>
        <p:spPr>
          <a:xfrm>
            <a:off x="6406920" y="2075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9"/>
          <p:cNvGrpSpPr/>
          <p:nvPr/>
        </p:nvGrpSpPr>
        <p:grpSpPr>
          <a:xfrm>
            <a:off x="6732720" y="2759040"/>
            <a:ext cx="2016000" cy="93240"/>
            <a:chOff x="6732720" y="2759040"/>
            <a:chExt cx="2016000" cy="93240"/>
          </a:xfrm>
        </p:grpSpPr>
        <p:sp>
          <p:nvSpPr>
            <p:cNvPr id="189" name="Freeform 20"/>
            <p:cNvSpPr/>
            <p:nvPr/>
          </p:nvSpPr>
          <p:spPr>
            <a:xfrm>
              <a:off x="6732720" y="2777760"/>
              <a:ext cx="10080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1"/>
            <p:cNvSpPr/>
            <p:nvPr/>
          </p:nvSpPr>
          <p:spPr>
            <a:xfrm>
              <a:off x="7740720" y="2759040"/>
              <a:ext cx="10080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2"/>
          <p:cNvGrpSpPr/>
          <p:nvPr/>
        </p:nvGrpSpPr>
        <p:grpSpPr>
          <a:xfrm>
            <a:off x="4500720" y="3500280"/>
            <a:ext cx="1511280" cy="72720"/>
            <a:chOff x="4500720" y="3500280"/>
            <a:chExt cx="1511280" cy="72720"/>
          </a:xfrm>
        </p:grpSpPr>
        <p:sp>
          <p:nvSpPr>
            <p:cNvPr id="192" name="Freeform 23"/>
            <p:cNvSpPr/>
            <p:nvPr/>
          </p:nvSpPr>
          <p:spPr>
            <a:xfrm>
              <a:off x="4500720" y="3515040"/>
              <a:ext cx="755640" cy="5796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4"/>
            <p:cNvSpPr/>
            <p:nvPr/>
          </p:nvSpPr>
          <p:spPr>
            <a:xfrm>
              <a:off x="5256360" y="3500280"/>
              <a:ext cx="755640" cy="5796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Line 25"/>
          <p:cNvSpPr/>
          <p:nvPr/>
        </p:nvSpPr>
        <p:spPr>
          <a:xfrm>
            <a:off x="4643280" y="5084640"/>
            <a:ext cx="32418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4495680" y="82224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又摇摇尾巴说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乌鸦，您的羽毛真漂亮，麻雀比起您来，可就差多了。您的嗓子真好，谁都爱听您唱歌，您就唱几句吧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狐狸与乌鸦"/>
          <p:cNvPicPr/>
          <p:nvPr/>
        </p:nvPicPr>
        <p:blipFill>
          <a:blip r:embed="rId1"/>
          <a:stretch/>
        </p:blipFill>
        <p:spPr>
          <a:xfrm>
            <a:off x="0" y="0"/>
            <a:ext cx="446868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食物"/>
          <p:cNvPicPr/>
          <p:nvPr/>
        </p:nvPicPr>
        <p:blipFill>
          <a:blip r:embed="rId2"/>
          <a:stretch/>
        </p:blipFill>
        <p:spPr>
          <a:xfrm>
            <a:off x="2514600" y="1143000"/>
            <a:ext cx="838080" cy="5335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5021280" y="3870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6"/>
          <p:cNvGrpSpPr/>
          <p:nvPr/>
        </p:nvGrpSpPr>
        <p:grpSpPr>
          <a:xfrm>
            <a:off x="4716360" y="2060640"/>
            <a:ext cx="3958560" cy="144000"/>
            <a:chOff x="4716360" y="2060640"/>
            <a:chExt cx="3958560" cy="144000"/>
          </a:xfrm>
        </p:grpSpPr>
        <p:sp>
          <p:nvSpPr>
            <p:cNvPr id="200" name="Freeform 7"/>
            <p:cNvSpPr/>
            <p:nvPr/>
          </p:nvSpPr>
          <p:spPr>
            <a:xfrm>
              <a:off x="4716360" y="2089800"/>
              <a:ext cx="1979280" cy="11484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"/>
            <p:cNvSpPr/>
            <p:nvPr/>
          </p:nvSpPr>
          <p:spPr>
            <a:xfrm>
              <a:off x="6695640" y="2060640"/>
              <a:ext cx="1979280" cy="11484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9"/>
          <p:cNvGrpSpPr/>
          <p:nvPr/>
        </p:nvGrpSpPr>
        <p:grpSpPr>
          <a:xfrm>
            <a:off x="4716360" y="3284640"/>
            <a:ext cx="3958560" cy="144000"/>
            <a:chOff x="4716360" y="3284640"/>
            <a:chExt cx="3958560" cy="144000"/>
          </a:xfrm>
        </p:grpSpPr>
        <p:sp>
          <p:nvSpPr>
            <p:cNvPr id="203" name="Freeform 10"/>
            <p:cNvSpPr/>
            <p:nvPr/>
          </p:nvSpPr>
          <p:spPr>
            <a:xfrm>
              <a:off x="4716360" y="3313800"/>
              <a:ext cx="1979280" cy="11484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1"/>
            <p:cNvSpPr/>
            <p:nvPr/>
          </p:nvSpPr>
          <p:spPr>
            <a:xfrm>
              <a:off x="6695640" y="3284640"/>
              <a:ext cx="1979280" cy="11484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2"/>
          <p:cNvGrpSpPr/>
          <p:nvPr/>
        </p:nvGrpSpPr>
        <p:grpSpPr>
          <a:xfrm>
            <a:off x="4716360" y="2637000"/>
            <a:ext cx="3958560" cy="144000"/>
            <a:chOff x="4716360" y="2637000"/>
            <a:chExt cx="3958560" cy="144000"/>
          </a:xfrm>
        </p:grpSpPr>
        <p:sp>
          <p:nvSpPr>
            <p:cNvPr id="206" name="Freeform 13"/>
            <p:cNvSpPr/>
            <p:nvPr/>
          </p:nvSpPr>
          <p:spPr>
            <a:xfrm>
              <a:off x="4716360" y="2666160"/>
              <a:ext cx="1979280" cy="11484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4"/>
            <p:cNvSpPr/>
            <p:nvPr/>
          </p:nvSpPr>
          <p:spPr>
            <a:xfrm>
              <a:off x="6695640" y="2637000"/>
              <a:ext cx="1979280" cy="11484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5"/>
          <p:cNvGrpSpPr/>
          <p:nvPr/>
        </p:nvGrpSpPr>
        <p:grpSpPr>
          <a:xfrm>
            <a:off x="4643280" y="3933720"/>
            <a:ext cx="3958560" cy="144000"/>
            <a:chOff x="4643280" y="3933720"/>
            <a:chExt cx="3958560" cy="144000"/>
          </a:xfrm>
        </p:grpSpPr>
        <p:sp>
          <p:nvSpPr>
            <p:cNvPr id="209" name="Freeform 16"/>
            <p:cNvSpPr/>
            <p:nvPr/>
          </p:nvSpPr>
          <p:spPr>
            <a:xfrm>
              <a:off x="4643280" y="3962880"/>
              <a:ext cx="1979280" cy="11484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7"/>
            <p:cNvSpPr/>
            <p:nvPr/>
          </p:nvSpPr>
          <p:spPr>
            <a:xfrm>
              <a:off x="6622560" y="3933720"/>
              <a:ext cx="1979280" cy="11484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8"/>
          <p:cNvGrpSpPr/>
          <p:nvPr/>
        </p:nvGrpSpPr>
        <p:grpSpPr>
          <a:xfrm>
            <a:off x="4859280" y="4508640"/>
            <a:ext cx="3958560" cy="144000"/>
            <a:chOff x="4859280" y="4508640"/>
            <a:chExt cx="3958560" cy="144000"/>
          </a:xfrm>
        </p:grpSpPr>
        <p:sp>
          <p:nvSpPr>
            <p:cNvPr id="212" name="Freeform 19"/>
            <p:cNvSpPr/>
            <p:nvPr/>
          </p:nvSpPr>
          <p:spPr>
            <a:xfrm>
              <a:off x="4859280" y="4537800"/>
              <a:ext cx="1979280" cy="11484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0"/>
            <p:cNvSpPr/>
            <p:nvPr/>
          </p:nvSpPr>
          <p:spPr>
            <a:xfrm>
              <a:off x="6838560" y="4508640"/>
              <a:ext cx="1979280" cy="11484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1"/>
          <p:cNvGrpSpPr/>
          <p:nvPr/>
        </p:nvGrpSpPr>
        <p:grpSpPr>
          <a:xfrm>
            <a:off x="4643280" y="5084640"/>
            <a:ext cx="3958560" cy="144000"/>
            <a:chOff x="4643280" y="5084640"/>
            <a:chExt cx="3958560" cy="144000"/>
          </a:xfrm>
        </p:grpSpPr>
        <p:sp>
          <p:nvSpPr>
            <p:cNvPr id="215" name="Freeform 22"/>
            <p:cNvSpPr/>
            <p:nvPr/>
          </p:nvSpPr>
          <p:spPr>
            <a:xfrm>
              <a:off x="4643280" y="5113800"/>
              <a:ext cx="1979280" cy="11484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3"/>
            <p:cNvSpPr/>
            <p:nvPr/>
          </p:nvSpPr>
          <p:spPr>
            <a:xfrm>
              <a:off x="6622560" y="5084640"/>
              <a:ext cx="1979280" cy="11484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4"/>
          <p:cNvGrpSpPr/>
          <p:nvPr/>
        </p:nvGrpSpPr>
        <p:grpSpPr>
          <a:xfrm>
            <a:off x="4714920" y="5661000"/>
            <a:ext cx="2880720" cy="72720"/>
            <a:chOff x="4714920" y="5661000"/>
            <a:chExt cx="2880720" cy="72720"/>
          </a:xfrm>
        </p:grpSpPr>
        <p:sp>
          <p:nvSpPr>
            <p:cNvPr id="218" name="Freeform 25"/>
            <p:cNvSpPr/>
            <p:nvPr/>
          </p:nvSpPr>
          <p:spPr>
            <a:xfrm>
              <a:off x="4714920" y="5675760"/>
              <a:ext cx="1440360" cy="5796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6"/>
            <p:cNvSpPr/>
            <p:nvPr/>
          </p:nvSpPr>
          <p:spPr>
            <a:xfrm>
              <a:off x="6155280" y="5661000"/>
              <a:ext cx="1440360" cy="5796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27"/>
          <p:cNvSpPr/>
          <p:nvPr/>
        </p:nvSpPr>
        <p:spPr>
          <a:xfrm>
            <a:off x="7654320" y="2060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9"/>
          <p:cNvSpPr/>
          <p:nvPr/>
        </p:nvSpPr>
        <p:spPr>
          <a:xfrm>
            <a:off x="6635160" y="3875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1"/>
          <p:cNvSpPr/>
          <p:nvPr/>
        </p:nvSpPr>
        <p:spPr>
          <a:xfrm>
            <a:off x="5612760" y="2060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2"/>
          <p:cNvSpPr/>
          <p:nvPr/>
        </p:nvSpPr>
        <p:spPr>
          <a:xfrm>
            <a:off x="7654320" y="2655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3"/>
          <p:cNvSpPr/>
          <p:nvPr/>
        </p:nvSpPr>
        <p:spPr>
          <a:xfrm>
            <a:off x="4604760" y="3860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4"/>
          <p:cNvSpPr/>
          <p:nvPr/>
        </p:nvSpPr>
        <p:spPr>
          <a:xfrm>
            <a:off x="6143040" y="4470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5"/>
          <p:cNvSpPr/>
          <p:nvPr/>
        </p:nvSpPr>
        <p:spPr>
          <a:xfrm>
            <a:off x="8159040" y="4494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1165680" y="4818240"/>
            <a:ext cx="313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隶书"/>
              </a:rPr>
              <a:t>乌鸦和麻雀相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隶书"/>
              </a:rPr>
              <a:t>谁的羽毛漂亮？</a:t>
            </a:r>
            <a:r>
              <a:rPr b="1" lang="zh-CN" sz="4000" spc="-1" strike="noStrike">
                <a:solidFill>
                  <a:srgbClr val="33cc33"/>
                </a:solidFill>
                <a:latin typeface="Arial"/>
                <a:ea typeface="隶书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XC4F8023"/>
          <p:cNvPicPr/>
          <p:nvPr/>
        </p:nvPicPr>
        <p:blipFill>
          <a:blip r:embed="rId1"/>
          <a:stretch/>
        </p:blipFill>
        <p:spPr>
          <a:xfrm>
            <a:off x="611280" y="620640"/>
            <a:ext cx="4032000" cy="3888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XC4F8005"/>
          <p:cNvPicPr/>
          <p:nvPr/>
        </p:nvPicPr>
        <p:blipFill>
          <a:blip r:embed="rId2"/>
          <a:stretch/>
        </p:blipFill>
        <p:spPr>
          <a:xfrm>
            <a:off x="4859280" y="2565360"/>
            <a:ext cx="3673440" cy="36003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5"/>
          <p:cNvSpPr/>
          <p:nvPr/>
        </p:nvSpPr>
        <p:spPr>
          <a:xfrm>
            <a:off x="4932360" y="765000"/>
            <a:ext cx="36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隶书"/>
              </a:rPr>
              <a:t>乌鸦的叫声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隶书"/>
              </a:rPr>
              <a:t>      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隶书"/>
              </a:rPr>
              <a:t>听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狐狸与乌鸦"/>
          <p:cNvPicPr/>
          <p:nvPr/>
        </p:nvPicPr>
        <p:blipFill>
          <a:blip r:embed="rId1"/>
          <a:stretch/>
        </p:blipFill>
        <p:spPr>
          <a:xfrm>
            <a:off x="0" y="9360"/>
            <a:ext cx="446868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"/>
          <p:cNvSpPr/>
          <p:nvPr/>
        </p:nvSpPr>
        <p:spPr>
          <a:xfrm flipH="1">
            <a:off x="4284000" y="1515960"/>
            <a:ext cx="45543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鸦听了狐狸的话，非常得意，就唱了起来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哇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刚一开口，肉就掉了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食物"/>
          <p:cNvPicPr/>
          <p:nvPr/>
        </p:nvPicPr>
        <p:blipFill>
          <a:blip r:embed="rId2"/>
          <a:stretch/>
        </p:blipFill>
        <p:spPr>
          <a:xfrm>
            <a:off x="2438280" y="1143000"/>
            <a:ext cx="914400" cy="533520"/>
          </a:xfrm>
          <a:prstGeom prst="rect">
            <a:avLst/>
          </a:prstGeom>
          <a:ln w="0">
            <a:noFill/>
          </a:ln>
        </p:spPr>
      </p:pic>
      <p:sp>
        <p:nvSpPr>
          <p:cNvPr id="234" name="Line 5"/>
          <p:cNvSpPr/>
          <p:nvPr/>
        </p:nvSpPr>
        <p:spPr>
          <a:xfrm>
            <a:off x="5580000" y="2349360"/>
            <a:ext cx="28083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4500720" y="2997360"/>
            <a:ext cx="39193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4572000" y="3573360"/>
            <a:ext cx="38163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4500720" y="4149720"/>
            <a:ext cx="39589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4572000" y="4869000"/>
            <a:ext cx="37432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6207120" y="2349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非常得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很高兴"/>
          <p:cNvPicPr/>
          <p:nvPr/>
        </p:nvPicPr>
        <p:blipFill>
          <a:blip r:embed="rId1"/>
          <a:stretch/>
        </p:blipFill>
        <p:spPr>
          <a:xfrm>
            <a:off x="108000" y="42840"/>
            <a:ext cx="8964720" cy="68137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"/>
          <p:cNvSpPr/>
          <p:nvPr/>
        </p:nvSpPr>
        <p:spPr>
          <a:xfrm>
            <a:off x="2590920" y="55008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4"/>
          <p:cNvGrpSpPr/>
          <p:nvPr/>
        </p:nvGrpSpPr>
        <p:grpSpPr>
          <a:xfrm>
            <a:off x="5003640" y="1052640"/>
            <a:ext cx="1371600" cy="1066680"/>
            <a:chOff x="5003640" y="1052640"/>
            <a:chExt cx="1371600" cy="1066680"/>
          </a:xfrm>
        </p:grpSpPr>
        <p:sp>
          <p:nvSpPr>
            <p:cNvPr id="243" name="AutoShape 5"/>
            <p:cNvSpPr/>
            <p:nvPr/>
          </p:nvSpPr>
          <p:spPr>
            <a:xfrm>
              <a:off x="5003640" y="1052640"/>
              <a:ext cx="1371600" cy="1066680"/>
            </a:xfrm>
            <a:prstGeom prst="wedgeEllipseCallout">
              <a:avLst>
                <a:gd name="adj1" fmla="val -74305"/>
                <a:gd name="adj2" fmla="val 62648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Object 6" descr=""/>
            <p:cNvPicPr/>
            <p:nvPr/>
          </p:nvPicPr>
          <p:blipFill>
            <a:blip r:embed="rId2"/>
            <a:stretch/>
          </p:blipFill>
          <p:spPr>
            <a:xfrm>
              <a:off x="5232240" y="1204920"/>
              <a:ext cx="1066680" cy="74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Text Box 7"/>
          <p:cNvSpPr/>
          <p:nvPr/>
        </p:nvSpPr>
        <p:spPr>
          <a:xfrm>
            <a:off x="5376960" y="333360"/>
            <a:ext cx="37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乌鸦没有回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4211640" y="3716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乌鸦看了狐狸一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还是没有回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2700360" y="535932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非常得意，就唱了起来</a:t>
            </a:r>
            <a:r>
              <a:rPr b="1" lang="en-US" sz="4000" spc="-1" strike="noStrike">
                <a:solidFill>
                  <a:srgbClr val="9900ff"/>
                </a:solidFill>
                <a:latin typeface="宋体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2700360" y="5353200"/>
            <a:ext cx="280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非常得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4%B9%8C%E9%B8%A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468360" y="1413000"/>
            <a:ext cx="8077320" cy="1108440"/>
            <a:chOff x="468360" y="1413000"/>
            <a:chExt cx="8077320" cy="1108440"/>
          </a:xfrm>
        </p:grpSpPr>
        <p:sp>
          <p:nvSpPr>
            <p:cNvPr id="250" name="Text Box 3"/>
            <p:cNvSpPr/>
            <p:nvPr/>
          </p:nvSpPr>
          <p:spPr>
            <a:xfrm>
              <a:off x="468360" y="2036880"/>
              <a:ext cx="36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cc"/>
                  </a:solidFill>
                  <a:latin typeface="Times New Roman"/>
                  <a:ea typeface="楷体_GB2312"/>
                </a:rPr>
                <a:t>亲爱的乌鸦，您好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4"/>
            <p:cNvSpPr/>
            <p:nvPr/>
          </p:nvSpPr>
          <p:spPr>
            <a:xfrm>
              <a:off x="5192640" y="1413000"/>
              <a:ext cx="335304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乌鸦没有回答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5"/>
          <p:cNvGrpSpPr/>
          <p:nvPr/>
        </p:nvGrpSpPr>
        <p:grpSpPr>
          <a:xfrm>
            <a:off x="514440" y="1052640"/>
            <a:ext cx="7010280" cy="840240"/>
            <a:chOff x="514440" y="1052640"/>
            <a:chExt cx="7010280" cy="840240"/>
          </a:xfrm>
        </p:grpSpPr>
        <p:sp>
          <p:nvSpPr>
            <p:cNvPr id="253" name="Text Box 6"/>
            <p:cNvSpPr/>
            <p:nvPr/>
          </p:nvSpPr>
          <p:spPr>
            <a:xfrm>
              <a:off x="514440" y="1128600"/>
              <a:ext cx="320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9900cc"/>
                  </a:solidFill>
                  <a:latin typeface="Times New Roman"/>
                  <a:ea typeface="楷体_GB2312"/>
                </a:rPr>
                <a:t>狐狸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7"/>
            <p:cNvSpPr/>
            <p:nvPr/>
          </p:nvSpPr>
          <p:spPr>
            <a:xfrm>
              <a:off x="5467320" y="10526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乌鸦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8"/>
          <p:cNvGrpSpPr/>
          <p:nvPr/>
        </p:nvGrpSpPr>
        <p:grpSpPr>
          <a:xfrm>
            <a:off x="457200" y="2943360"/>
            <a:ext cx="8229600" cy="564480"/>
            <a:chOff x="457200" y="2943360"/>
            <a:chExt cx="8229600" cy="564480"/>
          </a:xfrm>
        </p:grpSpPr>
        <p:sp>
          <p:nvSpPr>
            <p:cNvPr id="256" name="Text Box 9"/>
            <p:cNvSpPr/>
            <p:nvPr/>
          </p:nvSpPr>
          <p:spPr>
            <a:xfrm>
              <a:off x="457200" y="2987280"/>
              <a:ext cx="43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Times New Roman"/>
                  <a:ea typeface="楷体_GB2312"/>
                </a:rPr>
                <a:t>亲爱的乌鸦，您的孩子好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0"/>
            <p:cNvSpPr/>
            <p:nvPr/>
          </p:nvSpPr>
          <p:spPr>
            <a:xfrm>
              <a:off x="5181480" y="2943360"/>
              <a:ext cx="350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乌鸦看了狐狸一眼，还是没有回答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468360" y="4268880"/>
            <a:ext cx="8227440" cy="549000"/>
            <a:chOff x="468360" y="4268880"/>
            <a:chExt cx="8227440" cy="549000"/>
          </a:xfrm>
        </p:grpSpPr>
        <p:sp>
          <p:nvSpPr>
            <p:cNvPr id="259" name="Text Box 12"/>
            <p:cNvSpPr/>
            <p:nvPr/>
          </p:nvSpPr>
          <p:spPr>
            <a:xfrm>
              <a:off x="468360" y="4297320"/>
              <a:ext cx="418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Times New Roman"/>
                  <a:ea typeface="楷体_GB2312"/>
                </a:rPr>
                <a:t>亲爱的乌鸦，您的羽毛真漂亮，麻雀比起您来，可就差多了。您的嗓子真好，谁都爱听您唱歌。您唱几句吧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3"/>
            <p:cNvSpPr/>
            <p:nvPr/>
          </p:nvSpPr>
          <p:spPr>
            <a:xfrm>
              <a:off x="5190840" y="4268880"/>
              <a:ext cx="35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乌鸦听了狐狸的话，非常得意，就唱了起来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5" descr=""/>
          <p:cNvPicPr/>
          <p:nvPr/>
        </p:nvPicPr>
        <p:blipFill>
          <a:blip r:embed="rId2"/>
          <a:stretch/>
        </p:blipFill>
        <p:spPr>
          <a:xfrm>
            <a:off x="2843280" y="115920"/>
            <a:ext cx="3024000" cy="7603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7"/>
          <p:cNvSpPr/>
          <p:nvPr/>
        </p:nvSpPr>
        <p:spPr>
          <a:xfrm>
            <a:off x="755640" y="1700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珠一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755640" y="26226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赔着笑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755640" y="39178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摇摇尾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"/>
          <p:cNvPicPr/>
          <p:nvPr/>
        </p:nvPicPr>
        <p:blipFill>
          <a:blip r:embed="rId2"/>
          <a:stretch/>
        </p:blipFill>
        <p:spPr>
          <a:xfrm>
            <a:off x="2843280" y="115920"/>
            <a:ext cx="3024000" cy="7603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0"/>
          <p:cNvSpPr/>
          <p:nvPr/>
        </p:nvSpPr>
        <p:spPr>
          <a:xfrm>
            <a:off x="1835280" y="1773360"/>
            <a:ext cx="554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乌鸦的肉被骗走了，她会怎么想，怎么做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狐狸叼起肉跑走后他又会怎么想，怎么做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后这只乌鸦还会上当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"/>
          <p:cNvSpPr/>
          <p:nvPr/>
        </p:nvSpPr>
        <p:spPr>
          <a:xfrm>
            <a:off x="1692360" y="590868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2843280" y="115920"/>
            <a:ext cx="3024000" cy="7603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755640" y="2349360"/>
            <a:ext cx="7920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爱听好话，容易上当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395280" y="3762360"/>
            <a:ext cx="84978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闪光的东西并都是金子，动听的语言并不都是好话。</a:t>
            </a:r>
            <a:r>
              <a:rPr b="1" lang="zh-CN" sz="5400" spc="-1" strike="noStrike">
                <a:solidFill>
                  <a:srgbClr val="0000cc"/>
                </a:solidFill>
                <a:latin typeface="华文楷体"/>
                <a:ea typeface="华文楷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华文楷体"/>
                <a:ea typeface="华文楷体"/>
              </a:rPr>
              <a:t>                         </a:t>
            </a:r>
            <a:r>
              <a:rPr b="1" lang="en-US" sz="48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——</a:t>
            </a:r>
            <a:r>
              <a:rPr b="1" lang="zh-CN" sz="4800" spc="-1" strike="noStrike">
                <a:solidFill>
                  <a:srgbClr val="0000cc"/>
                </a:solidFill>
                <a:latin typeface="华文楷体"/>
                <a:ea typeface="华文楷体"/>
              </a:rPr>
              <a:t>莎士比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324000" y="949320"/>
            <a:ext cx="828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了课文你明白了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285840" y="1844640"/>
            <a:ext cx="82868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边看课文，一边听</a:t>
            </a:r>
            <a:r>
              <a:rPr b="0" lang="zh-CN" sz="3600" spc="-1" strike="noStrike" u="sng">
                <a:solidFill>
                  <a:srgbClr val="996600"/>
                </a:solidFill>
                <a:uFillTx/>
                <a:latin typeface="楷体_GB2312"/>
                <a:ea typeface="楷体_GB2312"/>
                <a:hlinkClick r:id="rId2"/>
              </a:rPr>
              <a:t>朗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57120" y="263700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大声读课文几遍，长句子或难读的句子多读几遍，做到不错读，不漏读，不重读，不打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57120" y="467028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课文标上自然小节，说说每一节写了什么？再说说课文主要写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50920" y="107172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课题，你想说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3"/>
          <a:stretch/>
        </p:blipFill>
        <p:spPr>
          <a:xfrm>
            <a:off x="2843280" y="115920"/>
            <a:ext cx="302400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狗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971640" y="1413000"/>
            <a:ext cx="8172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根据课文内容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狐狸对乌鸦说了（     ）次话。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目的只有一个，就是（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。乌鸦喜欢（               ），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上了狐狸的当，嘴里的肉掉下来被（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5076720" y="1989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5364000" y="2421000"/>
            <a:ext cx="29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骗取乌鸦嘴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859280" y="2924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听奉承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1892160" y="3917880"/>
            <a:ext cx="15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狐狸叼走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1187280" y="2924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扩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357120" y="1741320"/>
            <a:ext cx="828684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棵：一棵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叼：叼起  叼着 叼走 叼香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肉：皮肉  牛肉  猪肉  肉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珠：珠子  眼珠  真珠  珠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：转动  转化  转身  回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"/>
          <p:cNvPicPr/>
          <p:nvPr/>
        </p:nvPicPr>
        <p:blipFill>
          <a:blip r:embed="rId2"/>
          <a:stretch/>
        </p:blipFill>
        <p:spPr>
          <a:xfrm>
            <a:off x="2843280" y="115920"/>
            <a:ext cx="302400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7"/>
          <p:cNvSpPr/>
          <p:nvPr/>
        </p:nvSpPr>
        <p:spPr>
          <a:xfrm>
            <a:off x="357120" y="669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扩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357120" y="1741320"/>
            <a:ext cx="828684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赔：赔本  赔还  赔礼  赔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脸：脸皮  脸面  要脸  笑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：麻雀  麻布  麻木  麻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差：差别  相差  差远  差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刚：刚才  刚好  刚正  刚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7" descr=""/>
          <p:cNvPicPr/>
          <p:nvPr/>
        </p:nvPicPr>
        <p:blipFill>
          <a:blip r:embed="rId2"/>
          <a:stretch/>
        </p:blipFill>
        <p:spPr>
          <a:xfrm>
            <a:off x="2843280" y="115920"/>
            <a:ext cx="302400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"/>
          <p:cNvPicPr/>
          <p:nvPr/>
        </p:nvPicPr>
        <p:blipFill>
          <a:blip r:embed="rId2"/>
          <a:stretch/>
        </p:blipFill>
        <p:spPr>
          <a:xfrm>
            <a:off x="2843280" y="115920"/>
            <a:ext cx="3024000" cy="76032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7"/>
          <p:cNvSpPr/>
          <p:nvPr/>
        </p:nvSpPr>
        <p:spPr>
          <a:xfrm>
            <a:off x="160200" y="1557360"/>
            <a:ext cx="883944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乌鸦和狐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续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乌鸦怀着十分沉重的心情向她的女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乌鸦叙述着当年它被老狐狸骗去一片肉的经过，要小乌鸦永远记住这件事。小乌鸦听了连连点头，心里暗暗地想：妈妈可真傻，老狐狸耍了这么一点点伎俩就上当受骗，我才不回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是无巧不成书。一天，小乌鸦衔着一片肉，得意洋洋地站在树枝上。这时老狐狸 的儿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狐狸正好路过树下。它抬头一看，只见小乌鸦口中衔着一片肉，馋得口水都快流出来了，心想：我何不用当年爸爸骗老乌鸦的一套办法来骗小乌鸦呢？于是，它又耍起当年老狐狸骗老乌鸦的那一套，可是，小乌鸦连理也不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357120" y="914400"/>
            <a:ext cx="18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外阅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2"/>
          <a:stretch/>
        </p:blipFill>
        <p:spPr>
          <a:xfrm>
            <a:off x="2843280" y="115920"/>
            <a:ext cx="3024000" cy="76032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7"/>
          <p:cNvSpPr/>
          <p:nvPr/>
        </p:nvSpPr>
        <p:spPr>
          <a:xfrm>
            <a:off x="544680" y="907920"/>
            <a:ext cx="18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外阅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755640" y="1601640"/>
            <a:ext cx="7772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狐狸想：看来用爸爸当年那一套，对付小乌鸦是不行了，得另想办法。只见它眼珠一转，便破口大骂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乌鸦，你们是世界上最坏的东西，谁碰到你们谁就倒霉，谁听到你们的叫声谁就遭殃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乌鸦一听，勃然大怒，开口还击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才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知道就在这一刹那，小乌鸦嘴里的肉掉了下来。小狐狸叼起那块肉，得意洋洋地走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乌鸦呀小乌鸦，当年你的妈妈经不起夸，今天你为什么经不起骂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使用规范说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3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3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1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4F39-914D-4BFA-958C-A0AF0E80417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395280" y="5889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好下面的词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2843280" y="44280"/>
            <a:ext cx="3024000" cy="7606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214200" y="1557360"/>
            <a:ext cx="8640720" cy="5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  树林  树枝  嘴里  叼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馋得直流口水  眼珠子一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  赔着笑脸  回答  麻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羽毛  漂亮 差多了  摇摇尾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常得意  刚一开口  叼起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溜烟跑掉了   乌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785880" y="1500120"/>
          <a:ext cx="1752480" cy="149868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462480" y="1500120"/>
          <a:ext cx="1752480" cy="149868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962680" y="1500120"/>
          <a:ext cx="1752480" cy="149868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000840" y="3146400"/>
          <a:ext cx="1752480" cy="149868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462480" y="3144960"/>
          <a:ext cx="1752480" cy="149832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</a:tblGrid>
              <a:tr h="748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747720" y="3216240"/>
          <a:ext cx="1752480" cy="149868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矩形 12"/>
          <p:cNvSpPr/>
          <p:nvPr/>
        </p:nvSpPr>
        <p:spPr>
          <a:xfrm>
            <a:off x="1000080" y="142884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3891240" y="14302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6370920" y="14288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5"/>
          <p:cNvSpPr/>
          <p:nvPr/>
        </p:nvSpPr>
        <p:spPr>
          <a:xfrm>
            <a:off x="6391440" y="30751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6"/>
          <p:cNvSpPr/>
          <p:nvPr/>
        </p:nvSpPr>
        <p:spPr>
          <a:xfrm>
            <a:off x="3899160" y="3073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7"/>
          <p:cNvSpPr/>
          <p:nvPr/>
        </p:nvSpPr>
        <p:spPr>
          <a:xfrm>
            <a:off x="1176480" y="31449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85840" y="4929120"/>
          <a:ext cx="1752480" cy="149868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500200" y="4929120"/>
          <a:ext cx="1752480" cy="149868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矩形 21"/>
          <p:cNvSpPr/>
          <p:nvPr/>
        </p:nvSpPr>
        <p:spPr>
          <a:xfrm>
            <a:off x="500040" y="485784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2"/>
          <p:cNvSpPr/>
          <p:nvPr/>
        </p:nvSpPr>
        <p:spPr>
          <a:xfrm>
            <a:off x="2891160" y="48592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786200" y="4929120"/>
          <a:ext cx="1752480" cy="149868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矩形 26"/>
          <p:cNvSpPr/>
          <p:nvPr/>
        </p:nvSpPr>
        <p:spPr>
          <a:xfrm>
            <a:off x="5000760" y="485784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072200" y="4929120"/>
          <a:ext cx="1752480" cy="149868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</a:tblGrid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矩形 26"/>
          <p:cNvSpPr/>
          <p:nvPr/>
        </p:nvSpPr>
        <p:spPr>
          <a:xfrm>
            <a:off x="7286760" y="485784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57120" y="82404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好下面的生字，注意每一笔在田字格里的位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6" descr=""/>
          <p:cNvPicPr/>
          <p:nvPr/>
        </p:nvPicPr>
        <p:blipFill>
          <a:blip r:embed="rId2"/>
          <a:stretch/>
        </p:blipFill>
        <p:spPr>
          <a:xfrm>
            <a:off x="2843280" y="115920"/>
            <a:ext cx="302400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5"/>
          <p:cNvSpPr/>
          <p:nvPr/>
        </p:nvSpPr>
        <p:spPr>
          <a:xfrm>
            <a:off x="3613320" y="321300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2843280" y="115920"/>
            <a:ext cx="3024000" cy="76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250920" y="1916280"/>
            <a:ext cx="864216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3"/>
          <p:cNvGrpSpPr/>
          <p:nvPr/>
        </p:nvGrpSpPr>
        <p:grpSpPr>
          <a:xfrm>
            <a:off x="1042920" y="996840"/>
            <a:ext cx="7772400" cy="3821400"/>
            <a:chOff x="1042920" y="996840"/>
            <a:chExt cx="7772400" cy="3821400"/>
          </a:xfrm>
        </p:grpSpPr>
        <p:sp>
          <p:nvSpPr>
            <p:cNvPr id="133" name="Text Box 4"/>
            <p:cNvSpPr/>
            <p:nvPr/>
          </p:nvSpPr>
          <p:spPr>
            <a:xfrm>
              <a:off x="5965920" y="996840"/>
              <a:ext cx="2222640" cy="32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狐狸，也叫“草狐”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赤狐”、“红狐”，属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乳动物。尖尖的嘴巴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细长的身体，三角形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耳朵，细软、稠密而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松的毛，又大又长的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5"/>
            <p:cNvSpPr/>
            <p:nvPr/>
          </p:nvSpPr>
          <p:spPr>
            <a:xfrm>
              <a:off x="1042920" y="4194000"/>
              <a:ext cx="7772400" cy="6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巴，有点像狼，但比狼小。一年四季它吃的食物，绝大多数是为害农田的害鼠（田鼠、黄鼠、仓鼠）、野兔、小鸟和昆虫等，对农业生产有保护作用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2843280" y="115920"/>
            <a:ext cx="3024000" cy="760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BB07-L"/>
          <p:cNvPicPr/>
          <p:nvPr/>
        </p:nvPicPr>
        <p:blipFill>
          <a:blip r:embed="rId2"/>
          <a:stretch/>
        </p:blipFill>
        <p:spPr>
          <a:xfrm>
            <a:off x="647640" y="98100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" descr=""/>
          <p:cNvPicPr/>
          <p:nvPr/>
        </p:nvPicPr>
        <p:blipFill>
          <a:blip r:embed="rId3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XC4F8005"/>
          <p:cNvPicPr/>
          <p:nvPr/>
        </p:nvPicPr>
        <p:blipFill>
          <a:blip r:embed="rId1"/>
          <a:stretch/>
        </p:blipFill>
        <p:spPr>
          <a:xfrm>
            <a:off x="1042920" y="603360"/>
            <a:ext cx="5764320" cy="31129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"/>
          <p:cNvSpPr/>
          <p:nvPr/>
        </p:nvSpPr>
        <p:spPr>
          <a:xfrm>
            <a:off x="250920" y="3716280"/>
            <a:ext cx="869796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乌鸦，在我国分布甚广，北自东北，南到广东，西抵甘肃，东至台湾，都有乌鸦居留。它的全身羽毛鸟黑，在强光照射下，头、颈和身体下面的羽毛出蓝紫色光辉，它的嘴和脚都是黑色。乌鸦的叫声粗厉而单调，不好听，全身乌黑难看，惹人厌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2843280" y="115920"/>
            <a:ext cx="3024000" cy="760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" descr=""/>
          <p:cNvPicPr/>
          <p:nvPr/>
        </p:nvPicPr>
        <p:blipFill>
          <a:blip r:embed="rId3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609480" y="2000160"/>
            <a:ext cx="81536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读一读：你读懂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狐狸看见乌鸦嘴里的肉，他会怎么想？乌鸦听了狐狸的话是怎么想的，怎么做的？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划一划：用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波浪线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划出狐狸说的话， 用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横线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划出乌鸦表现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议一议：狐狸怎样行骗及乌鸦的表现。（表情、动作、语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2843280" y="115920"/>
            <a:ext cx="3024000" cy="7603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1125000" y="1071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学习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狐狸与乌鸦"/>
          <p:cNvPicPr/>
          <p:nvPr/>
        </p:nvPicPr>
        <p:blipFill>
          <a:blip r:embed="rId1"/>
          <a:stretch/>
        </p:blipFill>
        <p:spPr>
          <a:xfrm>
            <a:off x="-76320" y="0"/>
            <a:ext cx="446904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"/>
          <p:cNvSpPr/>
          <p:nvPr/>
        </p:nvSpPr>
        <p:spPr>
          <a:xfrm>
            <a:off x="3635280" y="1322280"/>
            <a:ext cx="53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在树林里找吃的。他来到一棵大树下，看见乌鸦正站在树枝上，嘴里叼着一片肉。狐狸馋得直流口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食物"/>
          <p:cNvPicPr/>
          <p:nvPr/>
        </p:nvPicPr>
        <p:blipFill>
          <a:blip r:embed="rId2"/>
          <a:stretch/>
        </p:blipFill>
        <p:spPr>
          <a:xfrm>
            <a:off x="2454120" y="990720"/>
            <a:ext cx="669960" cy="6858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6594840" y="4984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直流口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06:25:2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5:42Z</dcterms:modified>
  <cp:revision>13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