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84856-9684-4CCC-BDB0-15B56B124ED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240A3-A2B7-4062-8D98-CE8DA0D8A2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BB4F-1D12-4EE4-880F-8B3EABB8F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F1450-C6DC-4892-ABFF-C9878695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5A7-F2E3-467B-8036-FF79E16E3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B920-9EF0-49E3-8BB4-68BDD0EED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9B9-4F30-436F-8010-D2105FA19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D045-25A8-4D33-9E53-D4CD90B8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E9A1-504C-476A-93DA-3C203F7F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786A-2EA7-4260-BF1C-C8014DE4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40F-3FFF-4D5E-AE58-1356900C7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30D-13C2-4C43-A9DA-A6007B9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FD09-5085-4A31-813C-19EEC7A0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E9A-8A57-491B-9463-133FC411F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87D2-D755-4D89-AAE5-A37A85C5D0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755640" y="14000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小学语文第二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340000" y="2637000"/>
            <a:ext cx="41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和 平 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98252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0"/>
          <p:cNvSpPr/>
          <p:nvPr/>
        </p:nvSpPr>
        <p:spPr>
          <a:xfrm>
            <a:off x="2484360" y="234936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1476360" y="134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想一想，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1908000" y="2349360"/>
            <a:ext cx="60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毕加索一边安慰伤心的老人，一边挥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画了一只鸽子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边                        ，一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255600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4356000" y="38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2050920" y="4437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4500720" y="4149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主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课文讲述了鸽子成了和平的象征，表达了作者的美好愿望：热爱和平，努力维护世界和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900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26560" y="2492280"/>
            <a:ext cx="51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朋友，回家后，可不要忘了，把这个故事讲给爸爸、妈妈、爷爷、奶奶听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340000" y="2276640"/>
            <a:ext cx="3960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E0FE-18BB-4848-ABC7-7641E4B17A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课文内容，知道鸽子象征和平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激发热爱和平、维护和平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556000" y="264204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鸽子就是鸽子嘛，为什么叫它和平鸽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1363680" y="5332320"/>
            <a:ext cx="60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1547640" y="2637000"/>
            <a:ext cx="60501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占      哭     孙    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活     刀      边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979640" y="2492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476360" y="198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59280" y="198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K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421164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s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5580000" y="1989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s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1476360" y="4005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771640" y="400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d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4048200" y="54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4140360" y="4005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bi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117960" y="907920"/>
            <a:ext cx="23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" action="ppaction://hlinksldjump"/>
              </a:rPr>
              <a:t>会写的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1619280" y="1916280"/>
            <a:ext cx="5726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攻占  哭诉  孙子   打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悲痛  安慰  伤心   一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和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619280" y="981000"/>
            <a:ext cx="22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" action="ppaction://hlinksldjump"/>
              </a:rPr>
              <a:t>词语大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5038560" y="3699000"/>
            <a:ext cx="356580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600440" y="836640"/>
            <a:ext cx="4543560" cy="280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135000" y="1208160"/>
            <a:ext cx="4118040" cy="5245200"/>
          </a:xfrm>
          <a:prstGeom prst="rect">
            <a:avLst/>
          </a:prstGeom>
          <a:ln w="0">
            <a:noFill/>
          </a:ln>
        </p:spPr>
      </p:pic>
      <p:sp>
        <p:nvSpPr>
          <p:cNvPr id="71" name="WordArt 7"/>
          <p:cNvSpPr txBox="1"/>
          <p:nvPr/>
        </p:nvSpPr>
        <p:spPr>
          <a:xfrm>
            <a:off x="3638520" y="260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文欣赏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58975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476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忧虑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邻居米什老伯捧着一只死鸽子闯了进了，哭诉了哪些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什老伯向毕加索哭诉了一件什么事？他请求毕加索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81080" y="155700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下列问题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000" y="2708280"/>
            <a:ext cx="55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毕加索听来米什老人的哭诉后，他的心情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是怎么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慰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6:11:33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38:17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