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6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projctor.wav" ContentType="audio/x-wav"/>
  <Override PartName="/ppt/media/image18.png" ContentType="image/png"/>
  <Override PartName="/ppt/media/image15.jpeg" ContentType="image/jpeg"/>
  <Override PartName="/ppt/media/type.wav" ContentType="audio/x-wav"/>
  <Override PartName="/ppt/media/explode.wav" ContentType="audio/x-wav"/>
  <Override PartName="/ppt/media/image12.jpeg" ContentType="image/jpeg"/>
  <Override PartName="/ppt/media/camera.wav" ContentType="audio/x-wav"/>
  <Override PartName="/ppt/media/image14.jpeg" ContentType="image/jpeg"/>
  <Override PartName="/ppt/media/image13.jpeg" ContentType="image/jpeg"/>
  <Override PartName="/ppt/media/image11.jpeg" ContentType="image/jpeg"/>
  <Override PartName="/ppt/media/image10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E207-0569-4F2C-9B9B-1B7E38BBF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3547-2DDE-4CA8-896A-3942E8287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CFC-72DC-432A-BB7A-00E31DEF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F15-35AF-4CD6-B947-06F90945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879-AC2F-46A6-8024-83E463EE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C59-B1F8-409B-85E1-221F8C02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E83-0449-4971-9B6E-C3407461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B2D-1D4A-4564-AF02-B5242DCC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2D5-AD13-4470-BAD2-16DCA197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32E-A5CB-4236-8A18-679DB9D9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917-4BCF-4EB1-A7B6-C93B8851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D76-3636-4F1C-921A-B3D74E3C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558-219A-4942-A485-7E84CC8F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F61-CF33-419D-A508-AA071784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BDED-79BF-4863-A495-64760F30F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>
            <a:hlinkClick r:id="rId2" action="ppaction://hlinksldjump"/>
          </p:cNvPr>
          <p:cNvSpPr/>
          <p:nvPr/>
        </p:nvSpPr>
        <p:spPr>
          <a:xfrm>
            <a:off x="5353200" y="266760"/>
            <a:ext cx="350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>
            <a:hlinkClick r:id="" action="ppaction://hlinkshowjump?jump=nextslide"/>
            <a:hlinkClick r:id="rId3"/>
          </p:cNvPr>
          <p:cNvSpPr/>
          <p:nvPr/>
        </p:nvSpPr>
        <p:spPr>
          <a:xfrm>
            <a:off x="304920" y="304920"/>
            <a:ext cx="350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>
            <a:hlinkClick r:id="rId4" action="ppaction://hlinksldjump"/>
          </p:cNvPr>
          <p:cNvSpPr/>
          <p:nvPr/>
        </p:nvSpPr>
        <p:spPr>
          <a:xfrm>
            <a:off x="304920" y="4267080"/>
            <a:ext cx="350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>
            <a:hlinkClick r:id="rId5" action="ppaction://hlinksldjump"/>
          </p:cNvPr>
          <p:cNvSpPr/>
          <p:nvPr/>
        </p:nvSpPr>
        <p:spPr>
          <a:xfrm>
            <a:off x="5334120" y="4305240"/>
            <a:ext cx="350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184572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>
                  <a:alpha val="79215"/>
                </a:srgbClr>
              </a:gs>
              <a:gs pos="100000">
                <a:srgbClr val="cc66ff">
                  <a:alpha val="73333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0880" y="198108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仙桃石  石盘   巨石  山峰                        胳膊   风景区   脖子  每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都峰   著名  奇形怪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2987640" y="765000"/>
            <a:ext cx="50292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cccc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中宋"/>
              </a:rPr>
              <a:t>你们认识这些词语吗？</a:t>
            </a:r>
            <a:endParaRPr b="1" lang="en-US" sz="2400" spc="1" strike="noStrike">
              <a:ln w="12600">
                <a:solidFill>
                  <a:srgbClr val="33cccc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111" name="Picture 5" descr="01-09-008-04"/>
          <p:cNvPicPr/>
          <p:nvPr/>
        </p:nvPicPr>
        <p:blipFill>
          <a:blip r:embed="rId1"/>
          <a:stretch/>
        </p:blipFill>
        <p:spPr>
          <a:xfrm>
            <a:off x="0" y="0"/>
            <a:ext cx="2193840" cy="2193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new_pa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gradFill rotWithShape="0">
            <a:gsLst>
              <a:gs pos="0">
                <a:srgbClr val="3399ff">
                  <a:alpha val="76078"/>
                </a:srgbClr>
              </a:gs>
              <a:gs pos="100000">
                <a:srgbClr val="cc66ff">
                  <a:alpha val="75294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295280" y="914400"/>
            <a:ext cx="7543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  其  仙  盘  峰          当  著  形  状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区  巨  胳  膊  脖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3048120" y="457200"/>
            <a:ext cx="464796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cccc"/>
                  </a:solidFill>
                  <a:round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我会认</a:t>
            </a:r>
            <a:endParaRPr b="0" lang="en-US" sz="2400" spc="1" strike="noStrike">
              <a:ln w="12600">
                <a:solidFill>
                  <a:srgbClr val="33cccc"/>
                </a:solidFill>
                <a:round/>
              </a:ln>
              <a:solidFill>
                <a:srgbClr val="ff99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6" name="Picture 5" descr="01-09-008-04"/>
          <p:cNvPicPr/>
          <p:nvPr/>
        </p:nvPicPr>
        <p:blipFill>
          <a:blip r:embed="rId1"/>
          <a:stretch/>
        </p:blipFill>
        <p:spPr>
          <a:xfrm>
            <a:off x="0" y="0"/>
            <a:ext cx="2193840" cy="219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new_pa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1523880" y="5638680"/>
            <a:ext cx="1981440" cy="533520"/>
          </a:xfrm>
          <a:custGeom>
            <a:avLst/>
            <a:gdLst>
              <a:gd name="textAreaLeft" fmla="*/ 34560 w 1981440"/>
              <a:gd name="textAreaRight" fmla="*/ 1946880 w 1981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0181" h="21600">
                <a:moveTo>
                  <a:pt x="0" y="0"/>
                </a:moveTo>
                <a:lnTo>
                  <a:pt x="80181" y="0"/>
                </a:lnTo>
                <a:lnTo>
                  <a:pt x="80181" y="21600"/>
                </a:lnTo>
                <a:lnTo>
                  <a:pt x="0" y="21600"/>
                </a:lnTo>
                <a:close/>
              </a:path>
              <a:path fill="lightenLess" w="80181" h="21600">
                <a:moveTo>
                  <a:pt x="0" y="0"/>
                </a:moveTo>
                <a:lnTo>
                  <a:pt x="80181" y="0"/>
                </a:lnTo>
                <a:lnTo>
                  <a:pt x="78781" y="1400"/>
                </a:lnTo>
                <a:lnTo>
                  <a:pt x="1400" y="1400"/>
                </a:lnTo>
                <a:close/>
              </a:path>
              <a:path fill="darken" w="80181" h="21600">
                <a:moveTo>
                  <a:pt x="80181" y="0"/>
                </a:moveTo>
                <a:lnTo>
                  <a:pt x="80181" y="21600"/>
                </a:lnTo>
                <a:lnTo>
                  <a:pt x="78781" y="20200"/>
                </a:lnTo>
                <a:lnTo>
                  <a:pt x="78781" y="1400"/>
                </a:lnTo>
                <a:close/>
              </a:path>
              <a:path fill="darkenLess" w="80181" h="21600">
                <a:moveTo>
                  <a:pt x="8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1" y="20200"/>
                </a:lnTo>
                <a:close/>
              </a:path>
              <a:path fill="lighten" w="8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495680" y="5638680"/>
            <a:ext cx="3733920" cy="609840"/>
          </a:xfrm>
          <a:custGeom>
            <a:avLst/>
            <a:gdLst>
              <a:gd name="textAreaLeft" fmla="*/ 39240 w 3733920"/>
              <a:gd name="textAreaRight" fmla="*/ 3694680 w 37339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32187" h="21600">
                <a:moveTo>
                  <a:pt x="0" y="0"/>
                </a:moveTo>
                <a:lnTo>
                  <a:pt x="132187" y="0"/>
                </a:lnTo>
                <a:lnTo>
                  <a:pt x="132187" y="21600"/>
                </a:lnTo>
                <a:lnTo>
                  <a:pt x="0" y="21600"/>
                </a:lnTo>
                <a:close/>
              </a:path>
              <a:path fill="lightenLess" w="132187" h="21600">
                <a:moveTo>
                  <a:pt x="0" y="0"/>
                </a:moveTo>
                <a:lnTo>
                  <a:pt x="132187" y="0"/>
                </a:lnTo>
                <a:lnTo>
                  <a:pt x="130787" y="1400"/>
                </a:lnTo>
                <a:lnTo>
                  <a:pt x="1400" y="1400"/>
                </a:lnTo>
                <a:close/>
              </a:path>
              <a:path fill="darken" w="132187" h="21600">
                <a:moveTo>
                  <a:pt x="132187" y="0"/>
                </a:moveTo>
                <a:lnTo>
                  <a:pt x="132187" y="21600"/>
                </a:lnTo>
                <a:lnTo>
                  <a:pt x="130787" y="20200"/>
                </a:lnTo>
                <a:lnTo>
                  <a:pt x="130787" y="1400"/>
                </a:lnTo>
                <a:close/>
              </a:path>
              <a:path fill="darkenLess" w="132187" h="21600">
                <a:moveTo>
                  <a:pt x="132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787" y="20200"/>
                </a:lnTo>
                <a:close/>
              </a:path>
              <a:path fill="lighten" w="132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3492360" y="1844640"/>
            <a:ext cx="2233800" cy="2233440"/>
            <a:chOff x="3492360" y="1844640"/>
            <a:chExt cx="2233800" cy="2233440"/>
          </a:xfrm>
        </p:grpSpPr>
        <p:sp>
          <p:nvSpPr>
            <p:cNvPr id="121" name="Rectangle 3"/>
            <p:cNvSpPr/>
            <p:nvPr/>
          </p:nvSpPr>
          <p:spPr>
            <a:xfrm>
              <a:off x="3492360" y="1844640"/>
              <a:ext cx="223380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4"/>
            <p:cNvSpPr/>
            <p:nvPr/>
          </p:nvSpPr>
          <p:spPr>
            <a:xfrm>
              <a:off x="3492360" y="2997000"/>
              <a:ext cx="2233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H="1">
              <a:off x="4572000" y="1844640"/>
              <a:ext cx="144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684360" y="1844640"/>
            <a:ext cx="2233440" cy="2233440"/>
            <a:chOff x="684360" y="1844640"/>
            <a:chExt cx="2233440" cy="2233440"/>
          </a:xfrm>
        </p:grpSpPr>
        <p:sp>
          <p:nvSpPr>
            <p:cNvPr id="125" name="Rectangle 7"/>
            <p:cNvSpPr/>
            <p:nvPr/>
          </p:nvSpPr>
          <p:spPr>
            <a:xfrm>
              <a:off x="684360" y="1844640"/>
              <a:ext cx="223344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684360" y="2997000"/>
              <a:ext cx="223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H="1">
              <a:off x="1763280" y="1844640"/>
              <a:ext cx="108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WordArt 10"/>
          <p:cNvSpPr txBox="1"/>
          <p:nvPr/>
        </p:nvSpPr>
        <p:spPr>
          <a:xfrm>
            <a:off x="762120" y="304920"/>
            <a:ext cx="265752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33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新魏"/>
              </a:rPr>
              <a:t>我会写</a:t>
            </a:r>
            <a:endParaRPr b="1" lang="en-US" sz="2400" spc="1" strike="noStrike">
              <a:ln w="12600">
                <a:solidFill>
                  <a:srgbClr val="0033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新魏"/>
              <a:ea typeface="华文新魏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1042920" y="2205000"/>
            <a:ext cx="151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站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3995640" y="2273400"/>
            <a:ext cx="144000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块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6226200" y="1844640"/>
            <a:ext cx="2233440" cy="2233440"/>
            <a:chOff x="6226200" y="1844640"/>
            <a:chExt cx="2233440" cy="2233440"/>
          </a:xfrm>
        </p:grpSpPr>
        <p:sp>
          <p:nvSpPr>
            <p:cNvPr id="132" name="Rectangle 14"/>
            <p:cNvSpPr/>
            <p:nvPr/>
          </p:nvSpPr>
          <p:spPr>
            <a:xfrm>
              <a:off x="6226200" y="1844640"/>
              <a:ext cx="223344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6226200" y="2997000"/>
              <a:ext cx="223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H="1">
              <a:off x="7305120" y="1844640"/>
              <a:ext cx="108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2195640" y="4365720"/>
            <a:ext cx="2233440" cy="2233440"/>
            <a:chOff x="2195640" y="4365720"/>
            <a:chExt cx="2233440" cy="2233440"/>
          </a:xfrm>
        </p:grpSpPr>
        <p:sp>
          <p:nvSpPr>
            <p:cNvPr id="136" name="Rectangle 18"/>
            <p:cNvSpPr/>
            <p:nvPr/>
          </p:nvSpPr>
          <p:spPr>
            <a:xfrm>
              <a:off x="2195640" y="4365720"/>
              <a:ext cx="223344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2195640" y="5518080"/>
              <a:ext cx="223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H="1">
              <a:off x="3274560" y="4365720"/>
              <a:ext cx="108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WordArt 22"/>
          <p:cNvSpPr txBox="1"/>
          <p:nvPr/>
        </p:nvSpPr>
        <p:spPr>
          <a:xfrm>
            <a:off x="5292720" y="479736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区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40" name="WordArt 23"/>
          <p:cNvSpPr txBox="1"/>
          <p:nvPr/>
        </p:nvSpPr>
        <p:spPr>
          <a:xfrm>
            <a:off x="6804000" y="220500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它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41" name="Group 24"/>
          <p:cNvGrpSpPr/>
          <p:nvPr/>
        </p:nvGrpSpPr>
        <p:grpSpPr>
          <a:xfrm>
            <a:off x="4932360" y="4365720"/>
            <a:ext cx="2233440" cy="2233440"/>
            <a:chOff x="4932360" y="4365720"/>
            <a:chExt cx="2233440" cy="2233440"/>
          </a:xfrm>
        </p:grpSpPr>
        <p:sp>
          <p:nvSpPr>
            <p:cNvPr id="142" name="Rectangle 25"/>
            <p:cNvSpPr/>
            <p:nvPr/>
          </p:nvSpPr>
          <p:spPr>
            <a:xfrm>
              <a:off x="4932360" y="4365720"/>
              <a:ext cx="223344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4932360" y="5518080"/>
              <a:ext cx="223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6011280" y="4365720"/>
              <a:ext cx="108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2700360" y="4869000"/>
            <a:ext cx="129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区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5435640" y="4870440"/>
            <a:ext cx="129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巨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 spd="med"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23880" y="1981080"/>
            <a:ext cx="64008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b0a9a"/>
                </a:solidFill>
                <a:latin typeface="Times New Roman"/>
                <a:ea typeface="黑体"/>
              </a:rPr>
              <a:t>课堂小游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你能为这些奇石取一个动听的名字吗</a:t>
            </a:r>
            <a:r>
              <a:rPr b="0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26"/>
          <p:cNvSpPr/>
          <p:nvPr/>
        </p:nvSpPr>
        <p:spPr>
          <a:xfrm>
            <a:off x="609480" y="914400"/>
            <a:ext cx="807732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想像提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178d2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178d2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178d2b"/>
                </a:solidFill>
                <a:latin typeface="黑体"/>
                <a:ea typeface="黑体"/>
              </a:rPr>
              <a:t>）、在哪儿？有一只什么样的小狗，望着怎样的月亮？它可能会想些什么？这就是有趣的</a:t>
            </a:r>
            <a:r>
              <a:rPr b="1" lang="zh-CN" sz="2800" spc="-1" strike="noStrike">
                <a:solidFill>
                  <a:srgbClr val="178d2b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178d2b"/>
                </a:solidFill>
                <a:latin typeface="黑体"/>
                <a:ea typeface="黑体"/>
              </a:rPr>
              <a:t>天狗望月</a:t>
            </a:r>
            <a:r>
              <a:rPr b="1" lang="zh-CN" sz="2800" spc="-1" strike="noStrike">
                <a:solidFill>
                  <a:srgbClr val="178d2b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178d2b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9e0685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9e0685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9e0685"/>
                </a:solidFill>
                <a:latin typeface="黑体"/>
                <a:ea typeface="黑体"/>
              </a:rPr>
              <a:t>）、</a:t>
            </a:r>
            <a:r>
              <a:rPr b="1" lang="zh-CN" sz="2800" spc="-1" strike="noStrike">
                <a:solidFill>
                  <a:srgbClr val="9e0685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9e0685"/>
                </a:solidFill>
                <a:latin typeface="黑体"/>
                <a:ea typeface="黑体"/>
              </a:rPr>
              <a:t>狮子抢球</a:t>
            </a:r>
            <a:r>
              <a:rPr b="1" lang="zh-CN" sz="2800" spc="-1" strike="noStrike">
                <a:solidFill>
                  <a:srgbClr val="9e0685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9e0685"/>
                </a:solidFill>
                <a:latin typeface="黑体"/>
                <a:ea typeface="黑体"/>
              </a:rPr>
              <a:t>就更有趣了。在哪儿？有两只或几只什么样的狮子？它们在抢什么样的球？怎样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99990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99990b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99990b"/>
                </a:solidFill>
                <a:latin typeface="黑体"/>
                <a:ea typeface="黑体"/>
              </a:rPr>
              <a:t>）、在哪儿？有一位什么样的仙女，怎样弹着琴？琴声怎么样？这就是有名的</a:t>
            </a:r>
            <a:r>
              <a:rPr b="1" lang="zh-CN" sz="2800" spc="-1" strike="noStrike">
                <a:solidFill>
                  <a:srgbClr val="99990b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99990b"/>
                </a:solidFill>
                <a:latin typeface="黑体"/>
                <a:ea typeface="黑体"/>
              </a:rPr>
              <a:t>仙女弹琴</a:t>
            </a:r>
            <a:r>
              <a:rPr b="1" lang="zh-CN" sz="2800" spc="-1" strike="noStrike">
                <a:solidFill>
                  <a:srgbClr val="99990b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99990b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new_pa2"/>
          <p:cNvPicPr/>
          <p:nvPr/>
        </p:nvPicPr>
        <p:blipFill>
          <a:blip r:embed="rId2"/>
          <a:stretch/>
        </p:blipFill>
        <p:spPr>
          <a:xfrm>
            <a:off x="8001000" y="6095880"/>
            <a:ext cx="674640" cy="37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天狗望月"/>
          <p:cNvPicPr/>
          <p:nvPr/>
        </p:nvPicPr>
        <p:blipFill>
          <a:blip r:embed="rId3"/>
          <a:stretch/>
        </p:blipFill>
        <p:spPr>
          <a:xfrm>
            <a:off x="2700360" y="3284640"/>
            <a:ext cx="4267080" cy="357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狮子抢球"/>
          <p:cNvPicPr/>
          <p:nvPr/>
        </p:nvPicPr>
        <p:blipFill>
          <a:blip r:embed="rId4"/>
          <a:stretch/>
        </p:blipFill>
        <p:spPr>
          <a:xfrm>
            <a:off x="179280" y="115920"/>
            <a:ext cx="453708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仙人漂海"/>
          <p:cNvPicPr/>
          <p:nvPr/>
        </p:nvPicPr>
        <p:blipFill>
          <a:blip r:embed="rId5"/>
          <a:stretch/>
        </p:blipFill>
        <p:spPr>
          <a:xfrm>
            <a:off x="5076720" y="304920"/>
            <a:ext cx="4056120" cy="2971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534960" y="3808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狮子抢球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7973640" y="29772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仙女弹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786312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83520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335040" y="367200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狗望月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12"/>
          <p:cNvSpPr txBox="1"/>
          <p:nvPr/>
        </p:nvSpPr>
        <p:spPr>
          <a:xfrm rot="5400000">
            <a:off x="-1393560" y="4358880"/>
            <a:ext cx="3809880" cy="66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993366"/>
                  </a:solidFill>
                  <a:round/>
                </a:ln>
                <a:solidFill>
                  <a:srgbClr val="3366ff"/>
                </a:solidFill>
                <a:latin typeface="楷体_GB2312"/>
              </a:rPr>
              <a:t>争当“小导游”</a:t>
            </a:r>
            <a:endParaRPr b="1" lang="en-US" sz="2400" spc="1" strike="noStrike">
              <a:ln w="9360">
                <a:solidFill>
                  <a:srgbClr val="993366"/>
                </a:solidFill>
                <a:round/>
              </a:ln>
              <a:solidFill>
                <a:srgbClr val="3366ff"/>
              </a:solidFill>
              <a:latin typeface="楷体_GB2312"/>
              <a:ea typeface="楷体_GB2312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狮子抢球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仙人漂海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天狗望月"/>
          <p:cNvPicPr/>
          <p:nvPr/>
        </p:nvPicPr>
        <p:blipFill>
          <a:blip r:embed="rId1"/>
          <a:stretch/>
        </p:blipFill>
        <p:spPr>
          <a:xfrm>
            <a:off x="539640" y="73080"/>
            <a:ext cx="7920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松鼠跳天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gradFill rotWithShape="0">
            <a:gsLst>
              <a:gs pos="0">
                <a:srgbClr val="3399ff">
                  <a:alpha val="76078"/>
                </a:srgbClr>
              </a:gs>
              <a:gs pos="100000">
                <a:srgbClr val="cc66ff">
                  <a:alpha val="75294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332000" y="1557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闻名中外的黄山风景区在我国安徽省南部。那里景色秀丽神奇，尤其是那些怪石，有趣极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01-09-008-04"/>
          <p:cNvPicPr/>
          <p:nvPr/>
        </p:nvPicPr>
        <p:blipFill>
          <a:blip r:embed="rId1"/>
          <a:stretch/>
        </p:blipFill>
        <p:spPr>
          <a:xfrm>
            <a:off x="0" y="0"/>
            <a:ext cx="2193840" cy="2193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2700360" y="537372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124000" y="400536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2556000" y="1557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闻名中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6227640" y="2997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尤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354400" y="5516640"/>
            <a:ext cx="39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闻名中外      风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区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     尤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560" y="106632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Times New Roman"/>
                <a:ea typeface="幼圆"/>
              </a:rPr>
              <a:t>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小朋友们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看了这么多黄山的奇石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你觉得可以用哪些带有“奇”的词语来形容刚才所看到的这些石头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神奇、奇异、奇怪、奇特、奇妙、奇形怪状、千奇百怪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……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492120" y="585000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new_pa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752480" y="2486160"/>
            <a:ext cx="59436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找到了黄山的其他图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当导游介绍黄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给大家提供有关黄山的网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050920" y="1447920"/>
            <a:ext cx="3600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eaeaea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宽带网 ……</a:t>
            </a:r>
            <a:endParaRPr b="1" i="1" lang="en-US" sz="4800" spc="1" strike="noStrike">
              <a:ln w="12600">
                <a:solidFill>
                  <a:srgbClr val="eaeaea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cover dir="lu"/>
    <p:sndAc>
      <p:stSnd>
        <p:snd r:embed="rId5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2669-7AC8-49A3-8DA7-FF6D62857D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9"/>
          <p:cNvSpPr/>
          <p:nvPr/>
        </p:nvSpPr>
        <p:spPr>
          <a:xfrm>
            <a:off x="-252360" y="0"/>
            <a:ext cx="9396360" cy="6858000"/>
          </a:xfrm>
          <a:prstGeom prst="rect">
            <a:avLst/>
          </a:prstGeom>
          <a:gradFill rotWithShape="0">
            <a:gsLst>
              <a:gs pos="0">
                <a:srgbClr val="3399ff">
                  <a:alpha val="76078"/>
                </a:srgbClr>
              </a:gs>
              <a:gs pos="100000">
                <a:srgbClr val="cc66ff">
                  <a:alpha val="75294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36720" y="1413000"/>
          <a:ext cx="7128000" cy="2651040"/>
        </p:xfrm>
        <a:graphic>
          <a:graphicData uri="http://schemas.openxmlformats.org/drawingml/2006/table">
            <a:tbl>
              <a:tblPr/>
              <a:tblGrid>
                <a:gridCol w="3240000"/>
                <a:gridCol w="1008000"/>
                <a:gridCol w="2880000"/>
              </a:tblGrid>
              <a:tr h="106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我们班同学都很喜欢朗读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尤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是</a:t>
                      </a: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朗读得最美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我喜欢上课， 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68" descr="01-09-008-04"/>
          <p:cNvPicPr/>
          <p:nvPr/>
        </p:nvPicPr>
        <p:blipFill>
          <a:blip r:embed="rId1"/>
          <a:stretch/>
        </p:blipFill>
        <p:spPr>
          <a:xfrm>
            <a:off x="0" y="0"/>
            <a:ext cx="2193840" cy="21938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73"/>
          <p:cNvGrpSpPr/>
          <p:nvPr/>
        </p:nvGrpSpPr>
        <p:grpSpPr>
          <a:xfrm>
            <a:off x="1403280" y="4365720"/>
            <a:ext cx="2233800" cy="2233440"/>
            <a:chOff x="1403280" y="4365720"/>
            <a:chExt cx="2233800" cy="2233440"/>
          </a:xfrm>
        </p:grpSpPr>
        <p:sp>
          <p:nvSpPr>
            <p:cNvPr id="66" name="Rectangle 74"/>
            <p:cNvSpPr/>
            <p:nvPr/>
          </p:nvSpPr>
          <p:spPr>
            <a:xfrm>
              <a:off x="1403280" y="4365720"/>
              <a:ext cx="223380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5"/>
            <p:cNvSpPr/>
            <p:nvPr/>
          </p:nvSpPr>
          <p:spPr>
            <a:xfrm>
              <a:off x="1403280" y="5518080"/>
              <a:ext cx="2233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6"/>
            <p:cNvSpPr/>
            <p:nvPr/>
          </p:nvSpPr>
          <p:spPr>
            <a:xfrm flipH="1">
              <a:off x="2482920" y="4365720"/>
              <a:ext cx="144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WordArt 77"/>
          <p:cNvSpPr txBox="1"/>
          <p:nvPr/>
        </p:nvSpPr>
        <p:spPr>
          <a:xfrm>
            <a:off x="1762200" y="4869000"/>
            <a:ext cx="165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尤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70" name="Group 79"/>
          <p:cNvGrpSpPr/>
          <p:nvPr/>
        </p:nvGrpSpPr>
        <p:grpSpPr>
          <a:xfrm>
            <a:off x="4932360" y="4365720"/>
            <a:ext cx="2233440" cy="2233440"/>
            <a:chOff x="4932360" y="4365720"/>
            <a:chExt cx="2233440" cy="2233440"/>
          </a:xfrm>
        </p:grpSpPr>
        <p:sp>
          <p:nvSpPr>
            <p:cNvPr id="71" name="Rectangle 80"/>
            <p:cNvSpPr/>
            <p:nvPr/>
          </p:nvSpPr>
          <p:spPr>
            <a:xfrm>
              <a:off x="4932360" y="4365720"/>
              <a:ext cx="223344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81"/>
            <p:cNvSpPr/>
            <p:nvPr/>
          </p:nvSpPr>
          <p:spPr>
            <a:xfrm>
              <a:off x="4932360" y="5518080"/>
              <a:ext cx="223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82"/>
            <p:cNvSpPr/>
            <p:nvPr/>
          </p:nvSpPr>
          <p:spPr>
            <a:xfrm flipH="1">
              <a:off x="6011280" y="4365720"/>
              <a:ext cx="108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WordArt 83"/>
          <p:cNvSpPr txBox="1"/>
          <p:nvPr/>
        </p:nvSpPr>
        <p:spPr>
          <a:xfrm>
            <a:off x="5219640" y="4869000"/>
            <a:ext cx="165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其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-360" y="1676160"/>
            <a:ext cx="9612360" cy="34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山的奇石，叫得出名字的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、（        ）、（        ）、（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  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（         ）等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那些叫不出名字的（        ）的岩石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着我们去给它起名字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2004611223043421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WordArt 4"/>
          <p:cNvSpPr txBox="1"/>
          <p:nvPr/>
        </p:nvSpPr>
        <p:spPr>
          <a:xfrm>
            <a:off x="1371600" y="457200"/>
            <a:ext cx="6095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读课文，我能完成下列填空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162920" y="1828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仙桃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09480" y="23623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猴子观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0040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仙人指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867280" y="236232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鸡叫天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80880" y="30481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狗望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514600" y="3048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狮子抢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76920" y="2971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仙女弹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788000" y="3645000"/>
            <a:ext cx="14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876920" y="37339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奇形怪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3059280" y="2637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23480" cy="6843600"/>
          </a:xfrm>
          <a:prstGeom prst="rect">
            <a:avLst/>
          </a:prstGeom>
          <a:ln w="0">
            <a:noFill/>
          </a:ln>
        </p:spPr>
      </p:pic>
      <p:sp>
        <p:nvSpPr>
          <p:cNvPr id="89" name="Oval 3">
            <a:hlinkClick r:id="rId3"/>
          </p:cNvPr>
          <p:cNvSpPr/>
          <p:nvPr/>
        </p:nvSpPr>
        <p:spPr>
          <a:xfrm>
            <a:off x="8400960" y="6153120"/>
            <a:ext cx="343080" cy="34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致爱丽丝.MP3" descr=""/>
          <p:cNvPicPr/>
          <p:nvPr/>
        </p:nvPicPr>
        <p:blipFill>
          <a:blip r:embed="rId4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24000" y="4508640"/>
            <a:ext cx="849600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，它好像从天上飞下来的一个大桃子，落在山顶的石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E01981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72480" y="4653000"/>
            <a:ext cx="1841400" cy="189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404640"/>
          <a:ext cx="7772400" cy="4105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01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什么景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奇石在哪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它是什么样子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9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08"/>
          <p:cNvSpPr/>
          <p:nvPr/>
        </p:nvSpPr>
        <p:spPr>
          <a:xfrm>
            <a:off x="1206360" y="321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仙桃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1"/>
          <p:cNvSpPr/>
          <p:nvPr/>
        </p:nvSpPr>
        <p:spPr>
          <a:xfrm>
            <a:off x="3641760" y="328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山顶的石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2"/>
          <p:cNvSpPr/>
          <p:nvPr/>
        </p:nvSpPr>
        <p:spPr>
          <a:xfrm>
            <a:off x="6391080" y="321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大桃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>
            <a:hlinkClick r:id="rId3"/>
          </p:cNvPr>
          <p:cNvSpPr/>
          <p:nvPr/>
        </p:nvSpPr>
        <p:spPr>
          <a:xfrm>
            <a:off x="4114800" y="5067360"/>
            <a:ext cx="2362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致爱丽丝.MP3" descr=""/>
          <p:cNvPicPr/>
          <p:nvPr/>
        </p:nvPicPr>
        <p:blipFill>
          <a:blip r:embed="rId4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00" name="Oval 6">
            <a:hlinkClick r:id="rId5" action="ppaction://hlinksldjump"/>
          </p:cNvPr>
          <p:cNvSpPr/>
          <p:nvPr/>
        </p:nvSpPr>
        <p:spPr>
          <a:xfrm>
            <a:off x="8400960" y="6153120"/>
            <a:ext cx="343080" cy="34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50920" y="4052880"/>
            <a:ext cx="889308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座陡峭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山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，有一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它两只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胳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抱着腿，一动不动地蹲在山头，望着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翻滚的云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就是有趣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子观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1"/>
                            </p:stCondLst>
                            <p:childTnLst>
                              <p:par>
                                <p:cTn id="12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4360" y="4676760"/>
            <a:ext cx="882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仙人指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更有趣了！远远望去，那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真像一位仙人站在高高的山峰上，伸着手臂指向前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shi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44280"/>
            <a:ext cx="676908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致爱丽丝.MP3" descr=""/>
          <p:cNvPicPr/>
          <p:nvPr/>
        </p:nvPicPr>
        <p:blipFill>
          <a:blip r:embed="rId3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06" name="Oval 5">
            <a:hlinkClick r:id="rId4"/>
          </p:cNvPr>
          <p:cNvSpPr/>
          <p:nvPr/>
        </p:nvSpPr>
        <p:spPr>
          <a:xfrm>
            <a:off x="8400960" y="6153120"/>
            <a:ext cx="343080" cy="34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79280" y="3933720"/>
            <a:ext cx="878544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升起，有座山峰上的几块巨石，就变成了一只金光闪闪的雄鸡。它伸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，对着天都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dū]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峰不住地啼叫。不用说，这就是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鸡叫天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2:57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4:35Z</dcterms:modified>
  <cp:revision>10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