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4897-F6E3-43D4-BF0E-81C7D6128B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A9D8-CA18-4F67-BE43-18B20DC5CC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70F-3DDA-4F15-8C71-FF0B6315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F34-6F60-4105-ABDC-DBF7DFC6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995-76CB-4ECF-9115-92C63A71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051-69F6-4A2F-8230-1059F223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ACF-111B-4BF3-9478-CD0434E8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0EC-79E8-4E8D-AC70-B3674EF8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700-5F4E-4EB2-ADD6-A653357C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574-FDCE-446B-910F-D9F9C80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EBB-49DD-4023-A59F-7AA61321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2FC-D1C2-4979-80B2-3C737717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585-36A3-4EFA-97EB-95DE0DFF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825-4CD3-4754-B6B1-BB54DD14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4836-17C7-45D3-A18E-79B82E6E0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baike.baidu.com/view/56139.htm" TargetMode="External"/><Relationship Id="rId3" Type="http://schemas.openxmlformats.org/officeDocument/2006/relationships/hyperlink" Target="http://baike.baidu.com/view/410820.htm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2152800" y="3470400"/>
            <a:ext cx="48765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华文中宋"/>
              </a:rPr>
              <a:t>海市蜃楼</a:t>
            </a:r>
            <a:endParaRPr b="1" lang="en-US" sz="96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04264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jbxcjl901c_2"/>
          <p:cNvPicPr/>
          <p:nvPr/>
        </p:nvPicPr>
        <p:blipFill>
          <a:blip r:embed="rId1"/>
          <a:srcRect l="0" t="0" r="0" b="-78"/>
          <a:stretch/>
        </p:blipFill>
        <p:spPr>
          <a:xfrm>
            <a:off x="0" y="0"/>
            <a:ext cx="9144000" cy="44164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304920" y="5302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在隐隐约约和不可触摸之间，远远的，你还会看到小树林。透过绿色的树林，你还可以看到黄色的房屋、整齐的建筑、错落有致的城市和波涛澎湃的水面连成一片，若隐若现，十分壮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04920" y="5591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仿宋_GB2312"/>
              </a:rPr>
              <a:t>刹那间，你会觉得自己像是进入了太虚幻境！如梦如幻的景物漂浮游移，让人浮想联翩，激动不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图片3"/>
          <p:cNvPicPr/>
          <p:nvPr/>
        </p:nvPicPr>
        <p:blipFill>
          <a:blip r:embed="rId1"/>
          <a:stretch/>
        </p:blipFill>
        <p:spPr>
          <a:xfrm>
            <a:off x="1440" y="0"/>
            <a:ext cx="914256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380880" y="55155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当你拿着相机追到它跟前想探个究竟，准备拍几张的时候，它却神秘地消失了！就在你迟疑的当儿，它却又奇迹般地出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图片4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28600" y="551556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仿宋_GB2312"/>
              </a:rPr>
              <a:t>你走得越快，它就离你越远。当你感觉快要追上它的时候，它忽又神秘地消失了，消失得连一丝一毫的影子和痕迹都没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a689e4efef535417acafd5c4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838080" y="53341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你看到这神奇的海市蜃楼，你会说些什么？做些什么？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abd2bccff2673e2492457e95"/>
          <p:cNvPicPr/>
          <p:nvPr/>
        </p:nvPicPr>
        <p:blipFill>
          <a:blip r:embed="rId1"/>
          <a:srcRect l="0" t="0" r="0" b="-26"/>
          <a:stretch/>
        </p:blipFill>
        <p:spPr>
          <a:xfrm>
            <a:off x="0" y="-60480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>
            <a:hlinkClick r:id="rId2" action="ppaction://hlinksldjump"/>
          </p:cNvPr>
          <p:cNvSpPr/>
          <p:nvPr/>
        </p:nvSpPr>
        <p:spPr>
          <a:xfrm>
            <a:off x="76960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8630744a9758210508f7ef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271880" y="68580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Arial"/>
                <a:ea typeface="华文新魏"/>
              </a:rPr>
              <a:t>领悟写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6920" y="1413000"/>
            <a:ext cx="747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作者是从哪几方面来介绍海市蜃楼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作者首先交代了观赏海市蜃楼的季节、地点和“神秘”的特点。之后，作者抓住“神秘”的特点具体描绘了海市蜃楼的景色。最后，课文写了海市蜃楼的“神秘”消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以后写我们见到的有趣的景观时，就可以运用“先总写特点，再具体描绘”的写法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rId2" action="ppaction://hlinksldjump"/>
          </p:cNvPr>
          <p:cNvSpPr/>
          <p:nvPr/>
        </p:nvSpPr>
        <p:spPr>
          <a:xfrm>
            <a:off x="76960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8630744a9758210508f7ef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海市蜃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775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市蜃楼是一种因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光的折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形成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自然现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它也简称蜃景，是地球上物体反射的光经大气折射而形成的虚像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左右，海口市沿海出现海市蜃楼奇观，持续一个小时左右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广州塔又现“空中皇冠”奇景， 专家称是海市蜃楼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海市蜃楼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形成示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abae5ed68931f5a79f05529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31bOOOPIC26"/>
          <p:cNvPicPr/>
          <p:nvPr/>
        </p:nvPicPr>
        <p:blipFill>
          <a:blip r:embed="rId1"/>
          <a:stretch/>
        </p:blipFill>
        <p:spPr>
          <a:xfrm>
            <a:off x="-33480" y="-22320"/>
            <a:ext cx="9177480" cy="6881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41440" y="944640"/>
            <a:ext cx="79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你还知道哪些自然景观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9381f30e924b899226addbd6e061d950b7bf6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3687480" y="1217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吉林雾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图片11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3087bf40ad162d97d50c19911dfa9ec8b13cdfd"/>
          <p:cNvPicPr/>
          <p:nvPr/>
        </p:nvPicPr>
        <p:blipFill>
          <a:blip r:embed="rId1"/>
          <a:stretch/>
        </p:blipFill>
        <p:spPr>
          <a:xfrm>
            <a:off x="34920" y="-237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693360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云南石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54fbb2fb43166d22dff78811462309f79152d2b7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6284520" y="909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长江三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2703600" y="452520"/>
            <a:ext cx="52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32fa828ba61ea8d3fa7fea81970a304e241f58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777680" y="9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桂林山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0094140234351041"/>
          <p:cNvPicPr/>
          <p:nvPr/>
        </p:nvPicPr>
        <p:blipFill>
          <a:blip r:embed="rId1"/>
          <a:srcRect l="0" t="0" r="0" b="-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068480" y="68580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Arial"/>
                <a:ea typeface="华文新魏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38080" y="198108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积累本课精彩语段，摘抄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试着背一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把你从生活中发现的美丽神奇的景色用自己的语言描述出来，写在日记本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0C3D-5543-480C-A9A6-5AE893B00F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图片6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图片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图片10"/>
          <p:cNvPicPr/>
          <p:nvPr/>
        </p:nvPicPr>
        <p:blipFill>
          <a:blip r:embed="rId1"/>
          <a:stretch/>
        </p:blipFill>
        <p:spPr>
          <a:xfrm>
            <a:off x="-3024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3"/>
          <p:cNvSpPr txBox="1"/>
          <p:nvPr/>
        </p:nvSpPr>
        <p:spPr>
          <a:xfrm>
            <a:off x="4716360" y="1917720"/>
            <a:ext cx="24386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神秘</a:t>
            </a:r>
            <a:endParaRPr b="0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8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385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81210069897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170000" y="6858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我会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332000" y="2209680"/>
            <a:ext cx="712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敦煌、澎湃、风尘仆仆、蒸腾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刹那、虚幻、联想、永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0841410119215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-299880" y="534600"/>
            <a:ext cx="76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读课文，了解课文主要内容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26920" y="198108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课文主要写了什么时间、什么地点的海市蜃楼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>
            <a:hlinkClick r:id="rId2" action="ppaction://hlinksldjump"/>
          </p:cNvPr>
          <p:cNvSpPr/>
          <p:nvPr/>
        </p:nvSpPr>
        <p:spPr>
          <a:xfrm>
            <a:off x="76960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0081210081569520"/>
          <p:cNvPicPr/>
          <p:nvPr/>
        </p:nvPicPr>
        <p:blipFill>
          <a:blip r:embed="rId1"/>
          <a:srcRect l="0" t="0" r="0" b="-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271880" y="68580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自读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71640" y="175248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课文是怎样表现海市蜃楼的神秘的？你从哪些语句中感受到海市蜃楼的神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请你用自己喜欢的方式读课文，把能够表现海市蜃楼的神秘的语句找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体会着读出自己的感受</a:t>
            </a:r>
            <a:r>
              <a:rPr b="0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04920" y="482472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就在人们心中充满梦想的时候，你经常可以看到前方不远处的沙漠里，会出现一队骆驼群，响着驼铃，载着一批风尘仆仆的旅人，向着沙漠中的绿洲和清泉走去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图片1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02:35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9:01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6a08000000000001024100</vt:lpwstr>
  </property>
  <property fmtid="{D5CDD505-2E9C-101B-9397-08002B2CF9AE}" pid="4" name="Version">
    <vt:r8>1</vt:r8>
  </property>
</Properties>
</file>