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233D-61BD-4A2D-A306-1FBB4E0B1F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356-0E31-41EB-9FD8-4827653B67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918-70D6-4811-8632-1ED78854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A39-A75D-4E77-8DA2-D4E0A5B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F3D-7FF9-4E6A-9BBF-6B344749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144-216F-48ED-AD5C-FC904DFC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88C5-1E42-4294-9654-4D8E7B67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5E9-725A-471B-8419-9D0FB2D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503F-6069-4ADB-AFE4-AA5EE57E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BFC4-9C31-4EE5-9631-B06AE5D8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5D46-D62B-4F4C-A71D-FB312A4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F4E-C074-4B2E-BEA0-B965E63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8741-AB80-4F0E-97FF-E3705A22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6D0-42A6-447E-8023-9997FB9F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DE1-CB01-4BB1-A5E7-DFA68949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DAF3-5515-49F1-A471-4978EC5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4320-D571-4028-9781-13E14E1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04DA-D3E0-4A8A-B228-4B5A64D8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0752-F855-4951-A67E-6759544A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D5D-AEC6-434C-9EDE-9B29652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FAA-4AF3-4D4F-84E4-C433A26B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057-A610-4C7C-9D70-7554252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B54-7882-422D-8916-988C03F5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77D-D57D-466A-ABA3-0CDB20C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E31-FD10-44C7-9886-6C15F64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919-2BBB-4DC6-AED0-15BE853E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EEF-F86A-451A-B115-5915404288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B76-96E8-41B6-BB1A-9ABBDFFADF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edi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471840" y="3218040"/>
            <a:ext cx="462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620640"/>
            <a:ext cx="59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猴王出世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4242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作者：吴承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827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07160" y="525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900000" y="1628640"/>
            <a:ext cx="744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下面两个片段多读几遍，用自己喜欢的符号画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动作的词语，体会这样写的好处，然后写一个同学们劳动或活动的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他瞑目蹲身，将身一纵，径跳入泉水中。忽睁眼抬眼观看，往里边却无水无波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明明朗朗的一座铁板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过桥头，一个个强盆，夺碗，占灶，争床，搬过来，移过去；正是猴性顽劣，再无一个宁时，直搬得力倦神疲方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阅读《西游记》或《西游记》故事书，准备召开一个《西游记》故事会，看谁讲的故事最经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-252360" y="1600200"/>
            <a:ext cx="9145440" cy="319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再见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祝同学们学习愉快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!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CE3E-D505-436F-B1AE-42836AFA9C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4a96f781hc23bb099dbf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4000" y="1166760"/>
            <a:ext cx="3317760" cy="5248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927720" y="371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作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851280" y="83664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承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50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58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汝忠，号射阳山人。汉族，淮安府山阳县（今江苏省淮安市楚州区）人。中国明代杰出的小说家，是四大名著之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作者。课文选自第一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70680" y="5810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《西游记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24000" y="1343160"/>
            <a:ext cx="2979720" cy="4906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564000" y="476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中国古典四大名著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，由吴承恩编写而成。此书描写的是孙悟空、猪八戒、沙悟净保护唐僧西天取经的传奇故事。作者通过虚幻的世界，对封建统治者的态度颇可玩味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游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，简直找不出一个称职的皇帝；宠信妖怪的车迟国国王、要将小儿心肝当药引子的比丘国国王，则不是昏君就是暴君。玉皇大帝手下十万天兵天将，竟然抵不过孙悟空的一条金箍棒，而让真正的贤才去当不入流的马夫，其统治之黑暗不言而喻。如来佛祖所创佛教，僧人自然不能以钱财所迷，可是佛祖竟然默许手下人收取贿赂，这反映封建社会官官相护的黑暗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大意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由读课文，扫清生字障碍，把句子读通顺，读不懂的地方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猴是从哪儿来的？又是怎样成为猴王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留在你的脑海里的是一个怎样的猴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458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5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仙石迸裂，化出一个石猴，往水帘洞一跳，跳出一个猴王，从这里开始，一个美猴王的形象深入了人们的心理。那么，在作者吴承恩又是用怎样的语言，把一个猴子的形象深入人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品读语言，深入感悟猴王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仿佛看见了猴王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发现这句话有什么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4859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4325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写了一只欢快跳跃的猴子，用的语言也非常短促、有节奏。或者说，从这样的语言，我们读到了一个活泼可爱、顽皮跳跃的猴子，这样内容与语言的高度统一，体现出了语言的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112536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他瞑目蹲身，将身一纵，径跳入瀑布泉中，忽睁睛抬头观看，那里边却无水无波，明明朗朗的一架桥梁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那些猴有胆大的，都跳进去了；胆小的，一个个伸头缩颈，抓耳挠腮，大声叫喊，缠一会儿，也都进去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5640" y="4516560"/>
            <a:ext cx="793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 action="ppaction://hlinksldjump"/>
              </a:rPr>
              <a:t>从那纵身一跳中，我们能够感受到猴王的轻巧与敏捷；从哪抓耳挠腮 的动作中，我们仿佛看到了猴子的胆小与可爱。一个个活灵活现的形象，在语言的魅力下展现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617400" y="5994360"/>
            <a:ext cx="59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2050920" y="21448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提升，整体把握猴子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们了解了孙悟空由石猴变成美猴王的经过，相信大家对孙悟空有了更深刻的认识。你觉得这是一只怎样的猴子？用四字词语说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课文记叙的只是孙悟空的出生，是古典小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回，那你还知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有哪些精彩的故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18440" y="574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4400" y="1341360"/>
            <a:ext cx="3801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悟空出世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破天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猴子跳出水帘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戏在后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猴子封了个弼马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知官大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猴子变山神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露了尾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跟孙猴子比翻跟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差着十万八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白虎精遇上孙悟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原形毕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六耳猕猴充悟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冒牌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悟空到了花果山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称心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猴子的脸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化无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8:4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26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