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.jpeg" ContentType="image/jpeg"/>
  <Override PartName="/ppt/media/chimes.wav" ContentType="audio/x-wav"/>
  <Override PartName="/ppt/media/image6.jpeg" ContentType="image/jpeg"/>
  <Override PartName="/ppt/media/image1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BFCDB-B204-47F8-8AAB-C10E7AFDCF00}" type="slidenum">
              <a:rPr b="0" i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403C3-EADF-46A4-B043-A02F4EEA65EE}" type="slidenum">
              <a:rPr b="0" i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D8B1-4067-42FA-93BD-80B50D4E1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F15B-8C48-48F5-AB3D-A7864A575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203E-CDE0-4116-9862-8CEF069F0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D46A-A2C4-4E38-A900-167981BBB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3D25C-9A88-4B00-ABC3-B67C54BD6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F9764-D31A-4FC3-B65C-AEE768D14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CBB70-6857-49EF-9A30-B62FD07F5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C0B28-9BA5-4F31-A1DB-9FB0344E4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08E77-4CE6-4BFE-A0E7-C869062D2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82C6E-3B30-4635-988B-953D8469E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CEAF8-375D-4A5F-BCE3-C3872C34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1373-E392-447C-8902-DF724E68E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2B682-EC28-4D2C-B3B0-2C702D1D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E23B2-FF53-46EB-94E5-AA606183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B8E4E-20BD-4152-8848-0546CB375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3B4ED-7CA1-4ED9-A144-E2A0613A8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63FF9-A873-4AD3-975B-8B1D63A19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B8C4-03A3-4AF3-AAE6-E3D726E4C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C133-C980-4A81-A1BB-ECEABD05B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C851-5615-4D86-932E-5382B8B5E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D417-D76D-4AC5-8B89-10C6CE913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A134-F593-4232-8148-CE105973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ACD6-70FB-4C75-8943-EB1264AD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D1BA-30F8-4F83-8467-98730C75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0F4A8-F4BE-44B2-83F0-16192760C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402E8-BC85-421D-B145-A5F1FD6C7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audio" Target="../media/chimes.wav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" Target="slide9.xml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5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1" descr="200711013854832"/>
          <p:cNvPicPr/>
          <p:nvPr/>
        </p:nvPicPr>
        <p:blipFill>
          <a:blip r:embed="rId2"/>
          <a:stretch/>
        </p:blipFill>
        <p:spPr>
          <a:xfrm>
            <a:off x="-4680" y="3639960"/>
            <a:ext cx="3025800" cy="28926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2"/>
          <p:cNvSpPr/>
          <p:nvPr/>
        </p:nvSpPr>
        <p:spPr>
          <a:xfrm>
            <a:off x="1077840" y="263700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4. </a:t>
            </a:r>
            <a:r>
              <a:rPr b="1" lang="zh-CN" sz="7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猴子和大象</a:t>
            </a:r>
            <a:endParaRPr b="0" i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6"/>
          <p:cNvSpPr/>
          <p:nvPr/>
        </p:nvSpPr>
        <p:spPr>
          <a:xfrm>
            <a:off x="2995200" y="56736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1D693-90A0-4EE4-A3E5-BE168E142B5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19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1"/>
          <p:cNvPicPr/>
          <p:nvPr/>
        </p:nvPicPr>
        <p:blipFill>
          <a:blip r:embed="rId1"/>
          <a:stretch/>
        </p:blipFill>
        <p:spPr>
          <a:xfrm>
            <a:off x="755640" y="62064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7"/>
          <p:cNvSpPr/>
          <p:nvPr/>
        </p:nvSpPr>
        <p:spPr>
          <a:xfrm>
            <a:off x="1403280" y="1413000"/>
            <a:ext cx="5473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óu                  bí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子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鼻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子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包 （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ē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     跳（跳高）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文 （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è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     桃（桃花）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挑（挑水）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败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4067280" y="170028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755640" y="907920"/>
            <a:ext cx="6769080" cy="23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3366cc"/>
                </a:solidFill>
                <a:latin typeface="Arial"/>
              </a:rPr>
              <a:t>认真听老师读课文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标出自然段。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篇课文讲了一个怎样的故事？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矩形 8"/>
          <p:cNvSpPr/>
          <p:nvPr/>
        </p:nvSpPr>
        <p:spPr>
          <a:xfrm>
            <a:off x="1403280" y="414972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i="1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042920" y="2637000"/>
            <a:ext cx="4537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1187280" y="105264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333399"/>
                </a:solidFill>
                <a:latin typeface="Arial"/>
              </a:rPr>
              <a:t>自由读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3~8</a:t>
            </a:r>
            <a:r>
              <a:rPr b="1" i="1" lang="zh-CN" sz="4000" spc="-1" strike="noStrike">
                <a:solidFill>
                  <a:srgbClr val="333399"/>
                </a:solidFill>
                <a:latin typeface="Arial"/>
              </a:rPr>
              <a:t>自然段：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1042920" y="2060640"/>
            <a:ext cx="5977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猴子和大象分别遇到了什么困难？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他们在遇到困难时都说了什么？对方又是怎么回答的呢？用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划出猴子说的话，用“             ”划出大象说的话。 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3"/>
          <p:cNvSpPr/>
          <p:nvPr/>
        </p:nvSpPr>
        <p:spPr>
          <a:xfrm>
            <a:off x="4067280" y="3860640"/>
            <a:ext cx="936360" cy="73080"/>
          </a:xfrm>
          <a:custGeom>
            <a:avLst/>
            <a:gdLst/>
            <a:ahLst/>
            <a:rect l="l" t="t" r="r" b="b"/>
            <a:pathLst>
              <a:path w="408" h="45">
                <a:moveTo>
                  <a:pt x="0" y="0"/>
                </a:moveTo>
                <a:cubicBezTo>
                  <a:pt x="15" y="22"/>
                  <a:pt x="30" y="45"/>
                  <a:pt x="45" y="45"/>
                </a:cubicBezTo>
                <a:cubicBezTo>
                  <a:pt x="60" y="45"/>
                  <a:pt x="76" y="0"/>
                  <a:pt x="91" y="0"/>
                </a:cubicBezTo>
                <a:cubicBezTo>
                  <a:pt x="106" y="0"/>
                  <a:pt x="121" y="45"/>
                  <a:pt x="136" y="45"/>
                </a:cubicBezTo>
                <a:cubicBezTo>
                  <a:pt x="151" y="45"/>
                  <a:pt x="166" y="0"/>
                  <a:pt x="181" y="0"/>
                </a:cubicBezTo>
                <a:cubicBezTo>
                  <a:pt x="196" y="0"/>
                  <a:pt x="212" y="45"/>
                  <a:pt x="227" y="45"/>
                </a:cubicBezTo>
                <a:cubicBezTo>
                  <a:pt x="242" y="45"/>
                  <a:pt x="257" y="0"/>
                  <a:pt x="272" y="0"/>
                </a:cubicBezTo>
                <a:cubicBezTo>
                  <a:pt x="287" y="0"/>
                  <a:pt x="302" y="45"/>
                  <a:pt x="317" y="45"/>
                </a:cubicBezTo>
                <a:cubicBezTo>
                  <a:pt x="332" y="45"/>
                  <a:pt x="348" y="0"/>
                  <a:pt x="363" y="0"/>
                </a:cubicBezTo>
                <a:cubicBezTo>
                  <a:pt x="378" y="0"/>
                  <a:pt x="393" y="22"/>
                  <a:pt x="408" y="4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5"/>
          <p:cNvSpPr/>
          <p:nvPr/>
        </p:nvSpPr>
        <p:spPr>
          <a:xfrm>
            <a:off x="2124000" y="5084640"/>
            <a:ext cx="5832720" cy="1079640"/>
          </a:xfrm>
          <a:prstGeom prst="wedgeRoundRectCallout">
            <a:avLst>
              <a:gd name="adj1" fmla="val -49453"/>
              <a:gd name="adj2" fmla="val 54115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x_2010081820474912107"/>
          <p:cNvPicPr/>
          <p:nvPr/>
        </p:nvPicPr>
        <p:blipFill>
          <a:blip r:embed="rId1"/>
          <a:stretch/>
        </p:blipFill>
        <p:spPr>
          <a:xfrm>
            <a:off x="826920" y="549360"/>
            <a:ext cx="1141560" cy="129528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18"/>
          <p:cNvSpPr/>
          <p:nvPr/>
        </p:nvSpPr>
        <p:spPr>
          <a:xfrm>
            <a:off x="2340000" y="620640"/>
            <a:ext cx="6264360" cy="9367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1"/>
          <p:cNvSpPr/>
          <p:nvPr/>
        </p:nvSpPr>
        <p:spPr>
          <a:xfrm>
            <a:off x="2627280" y="765000"/>
            <a:ext cx="65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下完了，我只好空手回去了！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2" descr="u=2395266412,210308508&amp;fm=51&amp;gp=0"/>
          <p:cNvPicPr/>
          <p:nvPr/>
        </p:nvPicPr>
        <p:blipFill>
          <a:blip r:embed="rId2"/>
          <a:stretch/>
        </p:blipFill>
        <p:spPr>
          <a:xfrm>
            <a:off x="7164360" y="2205000"/>
            <a:ext cx="1655640" cy="105876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24"/>
          <p:cNvSpPr/>
          <p:nvPr/>
        </p:nvSpPr>
        <p:spPr>
          <a:xfrm rot="10800000">
            <a:off x="971280" y="2059920"/>
            <a:ext cx="5832360" cy="1297080"/>
          </a:xfrm>
          <a:prstGeom prst="wedgeRoundRectCallout">
            <a:avLst>
              <a:gd name="adj1" fmla="val -56671"/>
              <a:gd name="adj2" fmla="val 6676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6"/>
          <p:cNvSpPr/>
          <p:nvPr/>
        </p:nvSpPr>
        <p:spPr>
          <a:xfrm>
            <a:off x="971640" y="2133720"/>
            <a:ext cx="56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要紧，我个子大，力气也大。你跳到我背上，我背你过河。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8" descr="x_2010081820474912107"/>
          <p:cNvPicPr/>
          <p:nvPr/>
        </p:nvPicPr>
        <p:blipFill>
          <a:blip r:embed="rId3"/>
          <a:stretch/>
        </p:blipFill>
        <p:spPr>
          <a:xfrm>
            <a:off x="755640" y="5084640"/>
            <a:ext cx="1141560" cy="1295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9" descr="u=2395266412,210308508&amp;fm=51&amp;gp=0"/>
          <p:cNvPicPr/>
          <p:nvPr/>
        </p:nvPicPr>
        <p:blipFill>
          <a:blip r:embed="rId4"/>
          <a:stretch/>
        </p:blipFill>
        <p:spPr>
          <a:xfrm>
            <a:off x="7164360" y="3789360"/>
            <a:ext cx="1655640" cy="105876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30"/>
          <p:cNvSpPr/>
          <p:nvPr/>
        </p:nvSpPr>
        <p:spPr>
          <a:xfrm rot="10800000">
            <a:off x="826920" y="3644640"/>
            <a:ext cx="5904000" cy="11523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1"/>
          <p:cNvSpPr/>
          <p:nvPr/>
        </p:nvSpPr>
        <p:spPr>
          <a:xfrm flipV="1" rot="10800000">
            <a:off x="1115640" y="364392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唉，这么高的树！我只好空手回去了！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3"/>
          <p:cNvSpPr/>
          <p:nvPr/>
        </p:nvSpPr>
        <p:spPr>
          <a:xfrm>
            <a:off x="2195640" y="5084640"/>
            <a:ext cx="561636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别这样说，你不知道我是爬树冠军吗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？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6" name="chimes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0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未命名"/>
          <p:cNvPicPr/>
          <p:nvPr/>
        </p:nvPicPr>
        <p:blipFill>
          <a:blip r:embed="rId2"/>
          <a:stretch/>
        </p:blipFill>
        <p:spPr>
          <a:xfrm>
            <a:off x="2124000" y="549360"/>
            <a:ext cx="4897440" cy="27781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6"/>
          <p:cNvSpPr/>
          <p:nvPr/>
        </p:nvSpPr>
        <p:spPr>
          <a:xfrm>
            <a:off x="826920" y="3573360"/>
            <a:ext cx="561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猴子（   ）上树，（   ）了许多果子（   ）下来。大象（   ）着长鼻子，把果子一个一个（   ）起来。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象（   ）着猴子，过了河，回到小鸟身边。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1042920" y="3716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900000" y="3573360"/>
            <a:ext cx="5616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爬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摘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伸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捡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驮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3" name="chimes.wav"/>
      </p:stSnd>
    </p:sndAc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4890932_135640024785_1"/>
          <p:cNvPicPr/>
          <p:nvPr/>
        </p:nvPicPr>
        <p:blipFill>
          <a:blip r:embed="rId2"/>
          <a:stretch/>
        </p:blipFill>
        <p:spPr>
          <a:xfrm>
            <a:off x="6300720" y="620640"/>
            <a:ext cx="2232000" cy="18446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900000" y="1413000"/>
            <a:ext cx="5832720" cy="40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99"/>
                </a:solidFill>
                <a:latin typeface="Arial"/>
              </a:rPr>
              <a:t>齐读第</a:t>
            </a: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9</a:t>
            </a:r>
            <a:r>
              <a:rPr b="1" i="1" lang="zh-CN" sz="3600" spc="-1" strike="noStrike">
                <a:solidFill>
                  <a:srgbClr val="333399"/>
                </a:solidFill>
                <a:latin typeface="Arial"/>
              </a:rPr>
              <a:t>自然段，思考：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什么听了小鸟的话，猴子和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象“互相看了看，笑了”？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3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611280" y="1484280"/>
            <a:ext cx="763272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学校要进行“优秀班集体”的评比，评比的项目包括：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◇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书法比赛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◇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数学竞赛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◇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卫生测评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◇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体育运动会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◇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六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文艺汇演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说说你有哪些长处，可以为班级争荣誉吗？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1"/>
          <p:cNvSpPr/>
          <p:nvPr/>
        </p:nvSpPr>
        <p:spPr>
          <a:xfrm>
            <a:off x="611280" y="307800"/>
            <a:ext cx="644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Oval 9"/>
          <p:cNvSpPr/>
          <p:nvPr/>
        </p:nvSpPr>
        <p:spPr>
          <a:xfrm>
            <a:off x="6156360" y="907920"/>
            <a:ext cx="504720" cy="50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8"/>
          <p:cNvSpPr/>
          <p:nvPr/>
        </p:nvSpPr>
        <p:spPr>
          <a:xfrm>
            <a:off x="5651640" y="907920"/>
            <a:ext cx="504720" cy="50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6"/>
          <p:cNvSpPr/>
          <p:nvPr/>
        </p:nvSpPr>
        <p:spPr>
          <a:xfrm>
            <a:off x="2050920" y="907920"/>
            <a:ext cx="50508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547640" y="836640"/>
            <a:ext cx="5329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不知道我是爬树冠军吗？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知道我是爬树冠军。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1258920" y="1052640"/>
            <a:ext cx="288720" cy="936360"/>
          </a:xfrm>
          <a:custGeom>
            <a:avLst/>
            <a:gdLst>
              <a:gd name="textAreaLeft" fmla="*/ 184680 w 288720"/>
              <a:gd name="textAreaRight" fmla="*/ 289080 w 28872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6732720" y="981000"/>
            <a:ext cx="2232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反问句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陈述句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1187280" y="2852640"/>
            <a:ext cx="55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755640" y="2492280"/>
            <a:ext cx="741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练一练：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天不就是井口那么大吗？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今天就是星期五。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826920" y="364500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天就是井口那么大。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5"/>
          <p:cNvSpPr/>
          <p:nvPr/>
        </p:nvSpPr>
        <p:spPr>
          <a:xfrm>
            <a:off x="5148360" y="364500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今天不就是星期五吗？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6">
            <a:hlinkClick r:id="rId2" action="ppaction://hlinksldjump"/>
          </p:cNvPr>
          <p:cNvSpPr/>
          <p:nvPr/>
        </p:nvSpPr>
        <p:spPr>
          <a:xfrm>
            <a:off x="7380360" y="5084640"/>
            <a:ext cx="504720" cy="432000"/>
          </a:xfrm>
          <a:prstGeom prst="leftArrow">
            <a:avLst>
              <a:gd name="adj1" fmla="val 50000"/>
              <a:gd name="adj2" fmla="val 292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3" name="chimes.wav"/>
      </p:stSnd>
    </p:sndAc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7:01:1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57:17Z</dcterms:modified>
  <cp:revision>1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