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1B13-10E7-4DEF-B1F0-B94489BFB5A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E9A7-F892-4D26-A99F-A3AAB8143EB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013F-52E4-49EE-90D7-1B19659E6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23DD-CBE2-483B-AD98-A42D1EFE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9B73-3CB3-48B9-87EE-5A58AC23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76C7-EA6F-4976-BBE3-DFC6089B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C44A-1D0D-46AB-9101-319E15CB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90B3-38A5-4E22-99C0-83ECB408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2AEE-F090-4A5B-83F8-C4C42586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02BB-B85D-413A-BBBD-3739DE78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0F43-EDF2-4B5C-8743-3B6CADD1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B892-F024-439A-9345-95A15603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8F09-1F0D-41D6-BD4D-E49A403E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D681-5ACF-4D80-B0B6-48780969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48DD-F703-4E53-86D1-3978F46DE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-162000" y="-196920"/>
            <a:ext cx="9468000" cy="72518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4"/>
          <p:cNvSpPr/>
          <p:nvPr/>
        </p:nvSpPr>
        <p:spPr>
          <a:xfrm>
            <a:off x="1979640" y="234936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华文中宋"/>
                <a:ea typeface="华文中宋"/>
              </a:rPr>
              <a:t>会植树的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/>
          <p:cNvSpPr/>
          <p:nvPr/>
        </p:nvSpPr>
        <p:spPr>
          <a:xfrm>
            <a:off x="1863360" y="59864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>
            <a:off x="660240" y="3619440"/>
            <a:ext cx="1714680" cy="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未知"/>
          <p:cNvSpPr/>
          <p:nvPr/>
        </p:nvSpPr>
        <p:spPr>
          <a:xfrm flipV="1">
            <a:off x="673200" y="3936960"/>
            <a:ext cx="1358640" cy="1663920"/>
          </a:xfrm>
          <a:custGeom>
            <a:avLst/>
            <a:gdLst/>
            <a:ahLst/>
            <a:rect l="l" t="t" r="r" b="b"/>
            <a:pathLst>
              <a:path w="856" h="1048">
                <a:moveTo>
                  <a:pt x="0" y="1048"/>
                </a:moveTo>
                <a:lnTo>
                  <a:pt x="0" y="0"/>
                </a:lnTo>
                <a:lnTo>
                  <a:pt x="856" y="0"/>
                </a:lnTo>
              </a:path>
            </a:pathLst>
          </a:custGeom>
          <a:noFill/>
          <a:ln cap="rnd" w="3816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未知"/>
          <p:cNvSpPr/>
          <p:nvPr/>
        </p:nvSpPr>
        <p:spPr>
          <a:xfrm>
            <a:off x="673200" y="1892160"/>
            <a:ext cx="1358640" cy="1663920"/>
          </a:xfrm>
          <a:custGeom>
            <a:avLst/>
            <a:gdLst/>
            <a:ahLst/>
            <a:rect l="l" t="t" r="r" b="b"/>
            <a:pathLst>
              <a:path w="856" h="1048">
                <a:moveTo>
                  <a:pt x="0" y="1048"/>
                </a:moveTo>
                <a:lnTo>
                  <a:pt x="0" y="0"/>
                </a:lnTo>
                <a:lnTo>
                  <a:pt x="856" y="0"/>
                </a:lnTo>
              </a:path>
            </a:pathLst>
          </a:custGeom>
          <a:noFill/>
          <a:ln cap="rnd" w="3816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5"/>
          <p:cNvGrpSpPr/>
          <p:nvPr/>
        </p:nvGrpSpPr>
        <p:grpSpPr>
          <a:xfrm>
            <a:off x="1638360" y="929880"/>
            <a:ext cx="7099200" cy="1546200"/>
            <a:chOff x="1638360" y="929880"/>
            <a:chExt cx="7099200" cy="1546200"/>
          </a:xfrm>
        </p:grpSpPr>
        <p:sp>
          <p:nvSpPr>
            <p:cNvPr id="208" name="AutoShape 6"/>
            <p:cNvSpPr/>
            <p:nvPr/>
          </p:nvSpPr>
          <p:spPr>
            <a:xfrm>
              <a:off x="1854360" y="115560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cc"/>
                </a:gs>
                <a:gs pos="100000">
                  <a:srgbClr val="99cc00"/>
                </a:gs>
              </a:gsLst>
              <a:lin ang="2700000"/>
            </a:gradFill>
            <a:ln w="9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7"/>
            <p:cNvSpPr/>
            <p:nvPr/>
          </p:nvSpPr>
          <p:spPr>
            <a:xfrm>
              <a:off x="2449440" y="1298520"/>
              <a:ext cx="60008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8"/>
            <p:cNvSpPr/>
            <p:nvPr/>
          </p:nvSpPr>
          <p:spPr>
            <a:xfrm>
              <a:off x="1638360" y="96516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Group 9"/>
            <p:cNvGrpSpPr/>
            <p:nvPr/>
          </p:nvGrpSpPr>
          <p:grpSpPr>
            <a:xfrm>
              <a:off x="1765440" y="929880"/>
              <a:ext cx="504720" cy="619200"/>
              <a:chOff x="1765440" y="929880"/>
              <a:chExt cx="504720" cy="619200"/>
            </a:xfrm>
          </p:grpSpPr>
          <p:sp>
            <p:nvSpPr>
              <p:cNvPr id="212" name="Oval 10"/>
              <p:cNvSpPr/>
              <p:nvPr/>
            </p:nvSpPr>
            <p:spPr>
              <a:xfrm>
                <a:off x="1765440" y="133992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AutoShape 11"/>
              <p:cNvSpPr/>
              <p:nvPr/>
            </p:nvSpPr>
            <p:spPr>
              <a:xfrm>
                <a:off x="1845360" y="116748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Group 12"/>
              <p:cNvGrpSpPr/>
              <p:nvPr/>
            </p:nvGrpSpPr>
            <p:grpSpPr>
              <a:xfrm>
                <a:off x="1887120" y="929880"/>
                <a:ext cx="259560" cy="317160"/>
                <a:chOff x="1887120" y="929880"/>
                <a:chExt cx="259560" cy="317160"/>
              </a:xfrm>
            </p:grpSpPr>
            <p:sp>
              <p:nvSpPr>
                <p:cNvPr id="215" name="未知"/>
                <p:cNvSpPr/>
                <p:nvPr/>
              </p:nvSpPr>
              <p:spPr>
                <a:xfrm rot="18580800">
                  <a:off x="1929240" y="945360"/>
                  <a:ext cx="76320" cy="145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未知"/>
                <p:cNvSpPr/>
                <p:nvPr/>
              </p:nvSpPr>
              <p:spPr>
                <a:xfrm rot="2400000">
                  <a:off x="2031120" y="939600"/>
                  <a:ext cx="81000" cy="13680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Rectangle 15"/>
                <p:cNvSpPr/>
                <p:nvPr/>
              </p:nvSpPr>
              <p:spPr>
                <a:xfrm>
                  <a:off x="2018160" y="105804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8" name="Group 16"/>
          <p:cNvGrpSpPr/>
          <p:nvPr/>
        </p:nvGrpSpPr>
        <p:grpSpPr>
          <a:xfrm>
            <a:off x="1638360" y="2771280"/>
            <a:ext cx="7099200" cy="1546200"/>
            <a:chOff x="1638360" y="2771280"/>
            <a:chExt cx="7099200" cy="1546200"/>
          </a:xfrm>
        </p:grpSpPr>
        <p:sp>
          <p:nvSpPr>
            <p:cNvPr id="219" name="AutoShape 17"/>
            <p:cNvSpPr/>
            <p:nvPr/>
          </p:nvSpPr>
          <p:spPr>
            <a:xfrm>
              <a:off x="1854360" y="299700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dffb9"/>
                </a:gs>
                <a:gs pos="50000">
                  <a:srgbClr val="ffffff"/>
                </a:gs>
                <a:gs pos="100000">
                  <a:srgbClr val="edffb9"/>
                </a:gs>
              </a:gsLst>
              <a:lin ang="2700000"/>
            </a:gradFill>
            <a:ln w="9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8"/>
            <p:cNvSpPr/>
            <p:nvPr/>
          </p:nvSpPr>
          <p:spPr>
            <a:xfrm>
              <a:off x="2449440" y="3139920"/>
              <a:ext cx="600084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19"/>
            <p:cNvSpPr/>
            <p:nvPr/>
          </p:nvSpPr>
          <p:spPr>
            <a:xfrm>
              <a:off x="1638360" y="280656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20"/>
            <p:cNvGrpSpPr/>
            <p:nvPr/>
          </p:nvGrpSpPr>
          <p:grpSpPr>
            <a:xfrm>
              <a:off x="1765440" y="2771280"/>
              <a:ext cx="504720" cy="619200"/>
              <a:chOff x="1765440" y="2771280"/>
              <a:chExt cx="504720" cy="619200"/>
            </a:xfrm>
          </p:grpSpPr>
          <p:sp>
            <p:nvSpPr>
              <p:cNvPr id="223" name="Oval 21"/>
              <p:cNvSpPr/>
              <p:nvPr/>
            </p:nvSpPr>
            <p:spPr>
              <a:xfrm>
                <a:off x="1765440" y="318132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AutoShape 22"/>
              <p:cNvSpPr/>
              <p:nvPr/>
            </p:nvSpPr>
            <p:spPr>
              <a:xfrm>
                <a:off x="1845360" y="300888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Group 23"/>
              <p:cNvGrpSpPr/>
              <p:nvPr/>
            </p:nvGrpSpPr>
            <p:grpSpPr>
              <a:xfrm>
                <a:off x="1887120" y="2771280"/>
                <a:ext cx="259560" cy="317160"/>
                <a:chOff x="1887120" y="2771280"/>
                <a:chExt cx="259560" cy="317160"/>
              </a:xfrm>
            </p:grpSpPr>
            <p:sp>
              <p:nvSpPr>
                <p:cNvPr id="226" name="未知"/>
                <p:cNvSpPr/>
                <p:nvPr/>
              </p:nvSpPr>
              <p:spPr>
                <a:xfrm rot="18580800">
                  <a:off x="1929240" y="2786760"/>
                  <a:ext cx="76320" cy="145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未知"/>
                <p:cNvSpPr/>
                <p:nvPr/>
              </p:nvSpPr>
              <p:spPr>
                <a:xfrm rot="2400000">
                  <a:off x="2031120" y="2781000"/>
                  <a:ext cx="81000" cy="13680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Rectangle 26"/>
                <p:cNvSpPr/>
                <p:nvPr/>
              </p:nvSpPr>
              <p:spPr>
                <a:xfrm>
                  <a:off x="2018160" y="289944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9" name="Group 27"/>
          <p:cNvGrpSpPr/>
          <p:nvPr/>
        </p:nvGrpSpPr>
        <p:grpSpPr>
          <a:xfrm>
            <a:off x="1638360" y="4689000"/>
            <a:ext cx="7099200" cy="1546200"/>
            <a:chOff x="1638360" y="4689000"/>
            <a:chExt cx="7099200" cy="1546200"/>
          </a:xfrm>
        </p:grpSpPr>
        <p:sp>
          <p:nvSpPr>
            <p:cNvPr id="230" name="AutoShape 28"/>
            <p:cNvSpPr/>
            <p:nvPr/>
          </p:nvSpPr>
          <p:spPr>
            <a:xfrm>
              <a:off x="1854360" y="491472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cc"/>
                </a:gs>
                <a:gs pos="100000">
                  <a:srgbClr val="99cc00"/>
                </a:gs>
              </a:gsLst>
              <a:lin ang="2700000"/>
            </a:gradFill>
            <a:ln w="9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9"/>
            <p:cNvSpPr/>
            <p:nvPr/>
          </p:nvSpPr>
          <p:spPr>
            <a:xfrm>
              <a:off x="2449440" y="5057640"/>
              <a:ext cx="6000840" cy="6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30"/>
            <p:cNvSpPr/>
            <p:nvPr/>
          </p:nvSpPr>
          <p:spPr>
            <a:xfrm>
              <a:off x="1638360" y="4724280"/>
              <a:ext cx="812880" cy="812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31"/>
            <p:cNvGrpSpPr/>
            <p:nvPr/>
          </p:nvGrpSpPr>
          <p:grpSpPr>
            <a:xfrm>
              <a:off x="1765440" y="4689000"/>
              <a:ext cx="504720" cy="619200"/>
              <a:chOff x="1765440" y="4689000"/>
              <a:chExt cx="504720" cy="619200"/>
            </a:xfrm>
          </p:grpSpPr>
          <p:sp>
            <p:nvSpPr>
              <p:cNvPr id="234" name="Oval 32"/>
              <p:cNvSpPr/>
              <p:nvPr/>
            </p:nvSpPr>
            <p:spPr>
              <a:xfrm>
                <a:off x="1765440" y="509904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AutoShape 33"/>
              <p:cNvSpPr/>
              <p:nvPr/>
            </p:nvSpPr>
            <p:spPr>
              <a:xfrm>
                <a:off x="1845360" y="492660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Group 34"/>
              <p:cNvGrpSpPr/>
              <p:nvPr/>
            </p:nvGrpSpPr>
            <p:grpSpPr>
              <a:xfrm>
                <a:off x="1887120" y="4689000"/>
                <a:ext cx="259560" cy="317160"/>
                <a:chOff x="1887120" y="4689000"/>
                <a:chExt cx="259560" cy="317160"/>
              </a:xfrm>
            </p:grpSpPr>
            <p:sp>
              <p:nvSpPr>
                <p:cNvPr id="237" name="未知"/>
                <p:cNvSpPr/>
                <p:nvPr/>
              </p:nvSpPr>
              <p:spPr>
                <a:xfrm rot="18580800">
                  <a:off x="1929240" y="4704480"/>
                  <a:ext cx="76320" cy="145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未知"/>
                <p:cNvSpPr/>
                <p:nvPr/>
              </p:nvSpPr>
              <p:spPr>
                <a:xfrm rot="2400000">
                  <a:off x="2031120" y="4698720"/>
                  <a:ext cx="81000" cy="13680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Rectangle 37"/>
                <p:cNvSpPr/>
                <p:nvPr/>
              </p:nvSpPr>
              <p:spPr>
                <a:xfrm>
                  <a:off x="2018160" y="4817160"/>
                  <a:ext cx="15120" cy="18900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0" name="Group 38"/>
          <p:cNvGrpSpPr/>
          <p:nvPr/>
        </p:nvGrpSpPr>
        <p:grpSpPr>
          <a:xfrm>
            <a:off x="216000" y="3137040"/>
            <a:ext cx="939600" cy="939600"/>
            <a:chOff x="216000" y="3137040"/>
            <a:chExt cx="939600" cy="939600"/>
          </a:xfrm>
        </p:grpSpPr>
        <p:grpSp>
          <p:nvGrpSpPr>
            <p:cNvPr id="241" name="Group 39"/>
            <p:cNvGrpSpPr/>
            <p:nvPr/>
          </p:nvGrpSpPr>
          <p:grpSpPr>
            <a:xfrm>
              <a:off x="252000" y="3207960"/>
              <a:ext cx="825120" cy="807840"/>
              <a:chOff x="252000" y="3207960"/>
              <a:chExt cx="825120" cy="807840"/>
            </a:xfrm>
          </p:grpSpPr>
          <p:pic>
            <p:nvPicPr>
              <p:cNvPr id="242" name="Picture 40" descr="cast_langyangyang"/>
              <p:cNvPicPr/>
              <p:nvPr/>
            </p:nvPicPr>
            <p:blipFill>
              <a:blip r:embed="rId1"/>
              <a:stretch/>
            </p:blipFill>
            <p:spPr>
              <a:xfrm>
                <a:off x="252000" y="3207960"/>
                <a:ext cx="825120" cy="80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AutoShape 41"/>
              <p:cNvSpPr/>
              <p:nvPr/>
            </p:nvSpPr>
            <p:spPr>
              <a:xfrm>
                <a:off x="606600" y="3666240"/>
                <a:ext cx="78480" cy="6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AutoShape 42"/>
              <p:cNvSpPr/>
              <p:nvPr/>
            </p:nvSpPr>
            <p:spPr>
              <a:xfrm>
                <a:off x="779400" y="3666240"/>
                <a:ext cx="78480" cy="6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AutoShape 43"/>
            <p:cNvSpPr/>
            <p:nvPr/>
          </p:nvSpPr>
          <p:spPr>
            <a:xfrm>
              <a:off x="216000" y="3137040"/>
              <a:ext cx="939600" cy="939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Text Box 45"/>
          <p:cNvSpPr/>
          <p:nvPr/>
        </p:nvSpPr>
        <p:spPr>
          <a:xfrm>
            <a:off x="4147560" y="157644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以外貌取人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7"/>
          <p:cNvSpPr/>
          <p:nvPr/>
        </p:nvSpPr>
        <p:spPr>
          <a:xfrm>
            <a:off x="5361480" y="3087720"/>
            <a:ext cx="53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切事物并非美丽就可爱，而是因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可爱才美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9"/>
          <p:cNvSpPr/>
          <p:nvPr/>
        </p:nvSpPr>
        <p:spPr>
          <a:xfrm>
            <a:off x="3963600" y="5176800"/>
            <a:ext cx="359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生命虽然短暂，做事却很执着、一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不苟的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83B4-5832-4657-A4A4-F01AF0E1F04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468360" y="907920"/>
            <a:ext cx="2705040" cy="4969080"/>
            <a:chOff x="468360" y="907920"/>
            <a:chExt cx="2705040" cy="4969080"/>
          </a:xfrm>
        </p:grpSpPr>
        <p:pic>
          <p:nvPicPr>
            <p:cNvPr id="52" name="Picture 3" descr="22dm_95"/>
            <p:cNvPicPr/>
            <p:nvPr/>
          </p:nvPicPr>
          <p:blipFill>
            <a:blip r:embed="rId1"/>
            <a:stretch/>
          </p:blipFill>
          <p:spPr>
            <a:xfrm>
              <a:off x="1776600" y="4060800"/>
              <a:ext cx="1393560" cy="18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AutoShape 4"/>
            <p:cNvSpPr/>
            <p:nvPr/>
          </p:nvSpPr>
          <p:spPr>
            <a:xfrm>
              <a:off x="468360" y="907920"/>
              <a:ext cx="2705040" cy="4969080"/>
            </a:xfrm>
            <a:custGeom>
              <a:avLst/>
              <a:gdLst>
                <a:gd name="textAreaLeft" fmla="*/ 39240 w 2705040"/>
                <a:gd name="textAreaRight" fmla="*/ 2665800 w 2705040"/>
                <a:gd name="textAreaTop" fmla="*/ 39240 h 4969080"/>
                <a:gd name="textAreaBottom" fmla="*/ 4929840 h 4969080"/>
              </a:gdLst>
              <a:ahLst/>
              <a:rect l="textAreaLeft" t="textAreaTop" r="textAreaRight" b="textAreaBottom"/>
              <a:pathLst>
                <a:path w="21600" h="39676">
                  <a:moveTo>
                    <a:pt x="1072" y="0"/>
                  </a:moveTo>
                  <a:arcTo wR="1072" hR="1072" stAng="16200000" swAng="-5400000"/>
                  <a:lnTo>
                    <a:pt x="0" y="38604"/>
                  </a:lnTo>
                  <a:arcTo wR="1072" hR="1072" stAng="10800000" swAng="-5400000"/>
                  <a:lnTo>
                    <a:pt x="20528" y="39676"/>
                  </a:lnTo>
                  <a:arcTo wR="1072" hR="1072" stAng="5400000" swAng="-5400000"/>
                  <a:lnTo>
                    <a:pt x="21600" y="1072"/>
                  </a:lnTo>
                  <a:arcTo wR="1072" hR="1072" stAng="0" swAng="-5400000"/>
                  <a:close/>
                </a:path>
              </a:pathLst>
            </a:custGeom>
            <a:noFill/>
            <a:ln w="93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AutoShape 5"/>
          <p:cNvSpPr/>
          <p:nvPr/>
        </p:nvSpPr>
        <p:spPr>
          <a:xfrm>
            <a:off x="3263760" y="888840"/>
            <a:ext cx="5600880" cy="5004000"/>
          </a:xfrm>
          <a:prstGeom prst="roundRect">
            <a:avLst>
              <a:gd name="adj" fmla="val 2727"/>
            </a:avLst>
          </a:prstGeom>
          <a:noFill/>
          <a:ln w="9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ubPieSlice"/>
          <p:cNvSpPr/>
          <p:nvPr/>
        </p:nvSpPr>
        <p:spPr>
          <a:xfrm>
            <a:off x="590400" y="1706400"/>
            <a:ext cx="282600" cy="32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032" y="1109"/>
                </a:moveTo>
                <a:cubicBezTo>
                  <a:pt x="2339" y="2926"/>
                  <a:pt x="0" y="6684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6445"/>
                  <a:pt x="18984" y="2516"/>
                  <a:pt x="14967" y="836"/>
                </a:cubicBezTo>
                <a:lnTo>
                  <a:pt x="10800" y="10800"/>
                </a:lnTo>
                <a:lnTo>
                  <a:pt x="6032" y="1109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ubPieSlice"/>
          <p:cNvSpPr/>
          <p:nvPr/>
        </p:nvSpPr>
        <p:spPr>
          <a:xfrm>
            <a:off x="590400" y="2176560"/>
            <a:ext cx="282600" cy="32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032" y="1109"/>
                </a:moveTo>
                <a:cubicBezTo>
                  <a:pt x="2339" y="2926"/>
                  <a:pt x="0" y="6684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6445"/>
                  <a:pt x="18984" y="2516"/>
                  <a:pt x="14967" y="836"/>
                </a:cubicBezTo>
                <a:lnTo>
                  <a:pt x="10800" y="10800"/>
                </a:lnTo>
                <a:lnTo>
                  <a:pt x="6032" y="1109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ubPieSlice"/>
          <p:cNvSpPr/>
          <p:nvPr/>
        </p:nvSpPr>
        <p:spPr>
          <a:xfrm>
            <a:off x="590400" y="2658960"/>
            <a:ext cx="282600" cy="32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032" y="1109"/>
                </a:moveTo>
                <a:cubicBezTo>
                  <a:pt x="2339" y="2926"/>
                  <a:pt x="0" y="6684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6445"/>
                  <a:pt x="18984" y="2516"/>
                  <a:pt x="14967" y="836"/>
                </a:cubicBezTo>
                <a:lnTo>
                  <a:pt x="10800" y="10800"/>
                </a:lnTo>
                <a:lnTo>
                  <a:pt x="6032" y="1109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9"/>
          <p:cNvGrpSpPr/>
          <p:nvPr/>
        </p:nvGrpSpPr>
        <p:grpSpPr>
          <a:xfrm>
            <a:off x="3467160" y="1511280"/>
            <a:ext cx="266760" cy="266760"/>
            <a:chOff x="3467160" y="1511280"/>
            <a:chExt cx="266760" cy="266760"/>
          </a:xfrm>
        </p:grpSpPr>
        <p:sp>
          <p:nvSpPr>
            <p:cNvPr id="59" name="Oval 10"/>
            <p:cNvSpPr/>
            <p:nvPr/>
          </p:nvSpPr>
          <p:spPr>
            <a:xfrm>
              <a:off x="3467160" y="151128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3483360" y="158076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3473640" y="160524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3"/>
            <p:cNvSpPr/>
            <p:nvPr/>
          </p:nvSpPr>
          <p:spPr>
            <a:xfrm>
              <a:off x="3567960" y="165960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4"/>
            <p:cNvSpPr/>
            <p:nvPr/>
          </p:nvSpPr>
          <p:spPr>
            <a:xfrm>
              <a:off x="3597840" y="170856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5"/>
          <p:cNvGrpSpPr/>
          <p:nvPr/>
        </p:nvGrpSpPr>
        <p:grpSpPr>
          <a:xfrm>
            <a:off x="3419640" y="2565360"/>
            <a:ext cx="266400" cy="300240"/>
            <a:chOff x="3419640" y="2565360"/>
            <a:chExt cx="266400" cy="300240"/>
          </a:xfrm>
        </p:grpSpPr>
        <p:sp>
          <p:nvSpPr>
            <p:cNvPr id="65" name="Oval 16"/>
            <p:cNvSpPr/>
            <p:nvPr/>
          </p:nvSpPr>
          <p:spPr>
            <a:xfrm>
              <a:off x="3419640" y="2565360"/>
              <a:ext cx="266400" cy="30024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3435840" y="2643480"/>
              <a:ext cx="232560" cy="2916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3426120" y="2670840"/>
              <a:ext cx="253080" cy="2916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9"/>
            <p:cNvSpPr/>
            <p:nvPr/>
          </p:nvSpPr>
          <p:spPr>
            <a:xfrm>
              <a:off x="3520080" y="2732400"/>
              <a:ext cx="62280" cy="70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0"/>
            <p:cNvSpPr/>
            <p:nvPr/>
          </p:nvSpPr>
          <p:spPr>
            <a:xfrm>
              <a:off x="3549960" y="2787480"/>
              <a:ext cx="0" cy="781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1"/>
          <p:cNvGrpSpPr/>
          <p:nvPr/>
        </p:nvGrpSpPr>
        <p:grpSpPr>
          <a:xfrm>
            <a:off x="3419640" y="3573360"/>
            <a:ext cx="266400" cy="266760"/>
            <a:chOff x="3419640" y="3573360"/>
            <a:chExt cx="266400" cy="266760"/>
          </a:xfrm>
        </p:grpSpPr>
        <p:sp>
          <p:nvSpPr>
            <p:cNvPr id="71" name="Oval 22"/>
            <p:cNvSpPr/>
            <p:nvPr/>
          </p:nvSpPr>
          <p:spPr>
            <a:xfrm>
              <a:off x="3419640" y="3573360"/>
              <a:ext cx="26640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>
              <a:off x="3435840" y="3642840"/>
              <a:ext cx="23256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未知"/>
            <p:cNvSpPr/>
            <p:nvPr/>
          </p:nvSpPr>
          <p:spPr>
            <a:xfrm>
              <a:off x="3426120" y="3667320"/>
              <a:ext cx="25308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25"/>
            <p:cNvSpPr/>
            <p:nvPr/>
          </p:nvSpPr>
          <p:spPr>
            <a:xfrm>
              <a:off x="3520080" y="3721680"/>
              <a:ext cx="6228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26"/>
            <p:cNvSpPr/>
            <p:nvPr/>
          </p:nvSpPr>
          <p:spPr>
            <a:xfrm>
              <a:off x="3549960" y="377064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27"/>
          <p:cNvGrpSpPr/>
          <p:nvPr/>
        </p:nvGrpSpPr>
        <p:grpSpPr>
          <a:xfrm>
            <a:off x="3419640" y="4437000"/>
            <a:ext cx="266400" cy="266760"/>
            <a:chOff x="3419640" y="4437000"/>
            <a:chExt cx="266400" cy="266760"/>
          </a:xfrm>
        </p:grpSpPr>
        <p:sp>
          <p:nvSpPr>
            <p:cNvPr id="77" name="Oval 28"/>
            <p:cNvSpPr/>
            <p:nvPr/>
          </p:nvSpPr>
          <p:spPr>
            <a:xfrm>
              <a:off x="3419640" y="4437000"/>
              <a:ext cx="26640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3435840" y="4506480"/>
              <a:ext cx="23256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3426120" y="4530960"/>
              <a:ext cx="25308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31"/>
            <p:cNvSpPr/>
            <p:nvPr/>
          </p:nvSpPr>
          <p:spPr>
            <a:xfrm>
              <a:off x="3520080" y="4585320"/>
              <a:ext cx="6228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2"/>
            <p:cNvSpPr/>
            <p:nvPr/>
          </p:nvSpPr>
          <p:spPr>
            <a:xfrm>
              <a:off x="3549960" y="46342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 Box 33"/>
          <p:cNvSpPr/>
          <p:nvPr/>
        </p:nvSpPr>
        <p:spPr>
          <a:xfrm>
            <a:off x="900000" y="198900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4"/>
          <p:cNvSpPr/>
          <p:nvPr/>
        </p:nvSpPr>
        <p:spPr>
          <a:xfrm>
            <a:off x="3708360" y="1401120"/>
            <a:ext cx="510084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茫茫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m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á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ng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） 大约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uē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盘旋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x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n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） 翻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f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ā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n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）腾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铁钉（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īng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）爪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zhu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ǎ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）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小坑（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ē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g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） 大概（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à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衔（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i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á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n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接   黑黝黝（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ǒ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35"/>
          <p:cNvGrpSpPr/>
          <p:nvPr/>
        </p:nvGrpSpPr>
        <p:grpSpPr>
          <a:xfrm>
            <a:off x="3419640" y="5300640"/>
            <a:ext cx="266400" cy="266760"/>
            <a:chOff x="3419640" y="5300640"/>
            <a:chExt cx="266400" cy="266760"/>
          </a:xfrm>
        </p:grpSpPr>
        <p:sp>
          <p:nvSpPr>
            <p:cNvPr id="85" name="Oval 36"/>
            <p:cNvSpPr/>
            <p:nvPr/>
          </p:nvSpPr>
          <p:spPr>
            <a:xfrm>
              <a:off x="3419640" y="5300640"/>
              <a:ext cx="26640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3435840" y="5370120"/>
              <a:ext cx="23256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3426120" y="5394600"/>
              <a:ext cx="25308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39"/>
            <p:cNvSpPr/>
            <p:nvPr/>
          </p:nvSpPr>
          <p:spPr>
            <a:xfrm>
              <a:off x="3520080" y="5448960"/>
              <a:ext cx="6228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40"/>
            <p:cNvSpPr/>
            <p:nvPr/>
          </p:nvSpPr>
          <p:spPr>
            <a:xfrm>
              <a:off x="3549960" y="549792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2"/>
          <p:cNvSpPr/>
          <p:nvPr/>
        </p:nvSpPr>
        <p:spPr>
          <a:xfrm>
            <a:off x="5148360" y="1341360"/>
            <a:ext cx="3403440" cy="4680000"/>
          </a:xfrm>
          <a:custGeom>
            <a:avLst/>
            <a:gdLst>
              <a:gd name="textAreaLeft" fmla="*/ 87840 w 3403440"/>
              <a:gd name="textAreaRight" fmla="*/ 3315600 w 3403440"/>
              <a:gd name="textAreaTop" fmla="*/ 87840 h 4680000"/>
              <a:gd name="textAreaBottom" fmla="*/ 4592160 h 4680000"/>
            </a:gdLst>
            <a:ahLst/>
            <a:rect l="textAreaLeft" t="textAreaTop" r="textAreaRight" b="textAreaBottom"/>
            <a:pathLst>
              <a:path w="21600" h="29701">
                <a:moveTo>
                  <a:pt x="1904" y="0"/>
                </a:moveTo>
                <a:arcTo wR="1904" hR="1904" stAng="16200000" swAng="-5400000"/>
                <a:lnTo>
                  <a:pt x="0" y="27797"/>
                </a:lnTo>
                <a:arcTo wR="1904" hR="1904" stAng="10800000" swAng="-5400000"/>
                <a:lnTo>
                  <a:pt x="19696" y="29701"/>
                </a:lnTo>
                <a:arcTo wR="1904" hR="1904" stAng="5400000" swAng="-5400000"/>
                <a:lnTo>
                  <a:pt x="21600" y="1904"/>
                </a:lnTo>
                <a:arcTo wR="1904" hR="1904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539640" y="1341360"/>
            <a:ext cx="3403800" cy="4788000"/>
          </a:xfrm>
          <a:custGeom>
            <a:avLst/>
            <a:gdLst>
              <a:gd name="textAreaLeft" fmla="*/ 87840 w 3403800"/>
              <a:gd name="textAreaRight" fmla="*/ 3315960 w 3403800"/>
              <a:gd name="textAreaTop" fmla="*/ 87840 h 4788000"/>
              <a:gd name="textAreaBottom" fmla="*/ 4700160 h 4788000"/>
            </a:gdLst>
            <a:ahLst/>
            <a:rect l="textAreaLeft" t="textAreaTop" r="textAreaRight" b="textAreaBottom"/>
            <a:pathLst>
              <a:path w="21600" h="30383">
                <a:moveTo>
                  <a:pt x="1904" y="0"/>
                </a:moveTo>
                <a:arcTo wR="1904" hR="1904" stAng="16200000" swAng="-5400000"/>
                <a:lnTo>
                  <a:pt x="0" y="28479"/>
                </a:lnTo>
                <a:arcTo wR="1904" hR="1904" stAng="10800000" swAng="-5400000"/>
                <a:lnTo>
                  <a:pt x="19696" y="30383"/>
                </a:lnTo>
                <a:arcTo wR="1904" hR="1904" stAng="5400000" swAng="-5400000"/>
                <a:lnTo>
                  <a:pt x="21600" y="1904"/>
                </a:lnTo>
                <a:arcTo wR="1904" hR="1904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>
            <a:off x="448308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>
            <a:off x="459756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471168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20094110522"/>
          <p:cNvPicPr/>
          <p:nvPr/>
        </p:nvPicPr>
        <p:blipFill>
          <a:blip r:embed="rId1"/>
          <a:stretch/>
        </p:blipFill>
        <p:spPr>
          <a:xfrm>
            <a:off x="3968640" y="725400"/>
            <a:ext cx="1422360" cy="169236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9"/>
          <p:cNvGrpSpPr/>
          <p:nvPr/>
        </p:nvGrpSpPr>
        <p:grpSpPr>
          <a:xfrm>
            <a:off x="1955880" y="1139760"/>
            <a:ext cx="622080" cy="361800"/>
            <a:chOff x="1955880" y="1139760"/>
            <a:chExt cx="622080" cy="361800"/>
          </a:xfrm>
        </p:grpSpPr>
        <p:sp>
          <p:nvSpPr>
            <p:cNvPr id="97" name="AutoShape 10"/>
            <p:cNvSpPr/>
            <p:nvPr/>
          </p:nvSpPr>
          <p:spPr>
            <a:xfrm rot="5400000">
              <a:off x="2213640" y="1163160"/>
              <a:ext cx="359280" cy="312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11"/>
            <p:cNvSpPr/>
            <p:nvPr/>
          </p:nvSpPr>
          <p:spPr>
            <a:xfrm rot="16200000">
              <a:off x="1990440" y="1166040"/>
              <a:ext cx="359280" cy="311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2"/>
            <p:cNvSpPr/>
            <p:nvPr/>
          </p:nvSpPr>
          <p:spPr>
            <a:xfrm>
              <a:off x="2311920" y="128592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3"/>
            <p:cNvSpPr/>
            <p:nvPr/>
          </p:nvSpPr>
          <p:spPr>
            <a:xfrm>
              <a:off x="2066040" y="11926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4"/>
            <p:cNvSpPr/>
            <p:nvPr/>
          </p:nvSpPr>
          <p:spPr>
            <a:xfrm>
              <a:off x="2100600" y="13420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5"/>
            <p:cNvSpPr/>
            <p:nvPr/>
          </p:nvSpPr>
          <p:spPr>
            <a:xfrm>
              <a:off x="2411640" y="1151280"/>
              <a:ext cx="8604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6"/>
            <p:cNvSpPr/>
            <p:nvPr/>
          </p:nvSpPr>
          <p:spPr>
            <a:xfrm>
              <a:off x="2491560" y="135936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7"/>
            <p:cNvSpPr/>
            <p:nvPr/>
          </p:nvSpPr>
          <p:spPr>
            <a:xfrm>
              <a:off x="2195640" y="1218600"/>
              <a:ext cx="165960" cy="219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8"/>
            <p:cNvSpPr/>
            <p:nvPr/>
          </p:nvSpPr>
          <p:spPr>
            <a:xfrm>
              <a:off x="1955880" y="132480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9"/>
            <p:cNvSpPr/>
            <p:nvPr/>
          </p:nvSpPr>
          <p:spPr>
            <a:xfrm>
              <a:off x="2192040" y="124344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0"/>
          <p:cNvGrpSpPr/>
          <p:nvPr/>
        </p:nvGrpSpPr>
        <p:grpSpPr>
          <a:xfrm>
            <a:off x="6616800" y="1152360"/>
            <a:ext cx="622080" cy="361800"/>
            <a:chOff x="6616800" y="1152360"/>
            <a:chExt cx="622080" cy="361800"/>
          </a:xfrm>
        </p:grpSpPr>
        <p:sp>
          <p:nvSpPr>
            <p:cNvPr id="108" name="AutoShape 21"/>
            <p:cNvSpPr/>
            <p:nvPr/>
          </p:nvSpPr>
          <p:spPr>
            <a:xfrm rot="5400000">
              <a:off x="6874560" y="1175760"/>
              <a:ext cx="359280" cy="312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22"/>
            <p:cNvSpPr/>
            <p:nvPr/>
          </p:nvSpPr>
          <p:spPr>
            <a:xfrm rot="16200000">
              <a:off x="6651360" y="1178640"/>
              <a:ext cx="359280" cy="311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3"/>
            <p:cNvSpPr/>
            <p:nvPr/>
          </p:nvSpPr>
          <p:spPr>
            <a:xfrm>
              <a:off x="6972840" y="129852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4"/>
            <p:cNvSpPr/>
            <p:nvPr/>
          </p:nvSpPr>
          <p:spPr>
            <a:xfrm>
              <a:off x="6726960" y="12052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5"/>
            <p:cNvSpPr/>
            <p:nvPr/>
          </p:nvSpPr>
          <p:spPr>
            <a:xfrm>
              <a:off x="6761520" y="13546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6"/>
            <p:cNvSpPr/>
            <p:nvPr/>
          </p:nvSpPr>
          <p:spPr>
            <a:xfrm>
              <a:off x="7072560" y="1163880"/>
              <a:ext cx="8604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7"/>
            <p:cNvSpPr/>
            <p:nvPr/>
          </p:nvSpPr>
          <p:spPr>
            <a:xfrm>
              <a:off x="7152480" y="137196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6856560" y="1231200"/>
              <a:ext cx="165960" cy="21960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9"/>
            <p:cNvSpPr/>
            <p:nvPr/>
          </p:nvSpPr>
          <p:spPr>
            <a:xfrm>
              <a:off x="6616800" y="133740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0"/>
            <p:cNvSpPr/>
            <p:nvPr/>
          </p:nvSpPr>
          <p:spPr>
            <a:xfrm>
              <a:off x="6852960" y="125604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33"/>
          <p:cNvSpPr/>
          <p:nvPr/>
        </p:nvSpPr>
        <p:spPr>
          <a:xfrm>
            <a:off x="1547640" y="1700280"/>
            <a:ext cx="1656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茫茫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茂密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松软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灰色的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黑黝黝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尖尖的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4"/>
          <p:cNvSpPr/>
          <p:nvPr/>
        </p:nvSpPr>
        <p:spPr>
          <a:xfrm>
            <a:off x="5796000" y="1773360"/>
            <a:ext cx="20556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土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沙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树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爪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羽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3"/>
          <p:cNvSpPr/>
          <p:nvPr/>
        </p:nvSpPr>
        <p:spPr>
          <a:xfrm>
            <a:off x="2771640" y="2133720"/>
            <a:ext cx="3095640" cy="7905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4"/>
          <p:cNvSpPr/>
          <p:nvPr/>
        </p:nvSpPr>
        <p:spPr>
          <a:xfrm>
            <a:off x="2700360" y="2852640"/>
            <a:ext cx="3095640" cy="647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45"/>
          <p:cNvSpPr/>
          <p:nvPr/>
        </p:nvSpPr>
        <p:spPr>
          <a:xfrm>
            <a:off x="270036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6"/>
          <p:cNvSpPr/>
          <p:nvPr/>
        </p:nvSpPr>
        <p:spPr>
          <a:xfrm flipV="1">
            <a:off x="2771640" y="2276280"/>
            <a:ext cx="2952720" cy="1223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8"/>
          <p:cNvSpPr/>
          <p:nvPr/>
        </p:nvSpPr>
        <p:spPr>
          <a:xfrm>
            <a:off x="2771640" y="4149720"/>
            <a:ext cx="3095640" cy="1295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9"/>
          <p:cNvSpPr/>
          <p:nvPr/>
        </p:nvSpPr>
        <p:spPr>
          <a:xfrm flipV="1">
            <a:off x="3132000" y="4221000"/>
            <a:ext cx="2735280" cy="503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0"/>
          <p:cNvSpPr/>
          <p:nvPr/>
        </p:nvSpPr>
        <p:spPr>
          <a:xfrm flipV="1">
            <a:off x="2843280" y="4869000"/>
            <a:ext cx="2952720" cy="576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51"/>
          <p:cNvSpPr txBox="1"/>
          <p:nvPr/>
        </p:nvSpPr>
        <p:spPr>
          <a:xfrm>
            <a:off x="611280" y="476280"/>
            <a:ext cx="140004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round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找朋友</a:t>
            </a:r>
            <a:endParaRPr b="1" lang="en-US" sz="1800" spc="1" strike="noStrike">
              <a:ln w="12600">
                <a:solidFill>
                  <a:srgbClr val="ffffff"/>
                </a:solidFill>
                <a:round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2184480" y="863640"/>
            <a:ext cx="6705360" cy="5334120"/>
          </a:xfrm>
          <a:prstGeom prst="roundRect">
            <a:avLst>
              <a:gd name="adj" fmla="val 4046"/>
            </a:avLst>
          </a:prstGeom>
          <a:noFill/>
          <a:ln w="5724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22_80"/>
          <p:cNvPicPr/>
          <p:nvPr/>
        </p:nvPicPr>
        <p:blipFill>
          <a:blip r:embed="rId1"/>
          <a:stretch/>
        </p:blipFill>
        <p:spPr>
          <a:xfrm>
            <a:off x="179280" y="1557360"/>
            <a:ext cx="1714680" cy="189072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5"/>
          <p:cNvSpPr/>
          <p:nvPr/>
        </p:nvSpPr>
        <p:spPr>
          <a:xfrm>
            <a:off x="684360" y="5013360"/>
            <a:ext cx="253800" cy="253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6" y="10800"/>
                </a:moveTo>
                <a:cubicBezTo>
                  <a:pt x="1916" y="15706"/>
                  <a:pt x="5894" y="19684"/>
                  <a:pt x="10800" y="19684"/>
                </a:cubicBezTo>
                <a:cubicBezTo>
                  <a:pt x="15706" y="19684"/>
                  <a:pt x="19684" y="15706"/>
                  <a:pt x="19684" y="10800"/>
                </a:cubicBezTo>
                <a:cubicBezTo>
                  <a:pt x="19684" y="5894"/>
                  <a:pt x="15706" y="1916"/>
                  <a:pt x="10800" y="1916"/>
                </a:cubicBezTo>
                <a:cubicBezTo>
                  <a:pt x="5894" y="1916"/>
                  <a:pt x="1916" y="5894"/>
                  <a:pt x="1916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1187280" y="4292640"/>
            <a:ext cx="506520" cy="495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708" y="10800"/>
                </a:moveTo>
                <a:cubicBezTo>
                  <a:pt x="4708" y="14165"/>
                  <a:pt x="7435" y="16892"/>
                  <a:pt x="10800" y="16892"/>
                </a:cubicBezTo>
                <a:cubicBezTo>
                  <a:pt x="14165" y="16892"/>
                  <a:pt x="16892" y="14165"/>
                  <a:pt x="16892" y="10800"/>
                </a:cubicBezTo>
                <a:cubicBezTo>
                  <a:pt x="16892" y="7435"/>
                  <a:pt x="14165" y="4708"/>
                  <a:pt x="10800" y="4708"/>
                </a:cubicBezTo>
                <a:cubicBezTo>
                  <a:pt x="7435" y="4708"/>
                  <a:pt x="4708" y="7435"/>
                  <a:pt x="4708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未知"/>
          <p:cNvSpPr/>
          <p:nvPr/>
        </p:nvSpPr>
        <p:spPr>
          <a:xfrm rot="14400000">
            <a:off x="8123760" y="1689120"/>
            <a:ext cx="129960" cy="44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未知"/>
          <p:cNvSpPr/>
          <p:nvPr/>
        </p:nvSpPr>
        <p:spPr>
          <a:xfrm rot="1800000">
            <a:off x="8383680" y="4576320"/>
            <a:ext cx="145800" cy="44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未知"/>
          <p:cNvSpPr/>
          <p:nvPr/>
        </p:nvSpPr>
        <p:spPr>
          <a:xfrm rot="5400000">
            <a:off x="8493480" y="5879160"/>
            <a:ext cx="14112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gradFill rotWithShape="0">
            <a:gsLst>
              <a:gs pos="0">
                <a:srgbClr val="ffe5ff"/>
              </a:gs>
              <a:gs pos="50000">
                <a:srgbClr val="ec009d"/>
              </a:gs>
              <a:gs pos="100000">
                <a:srgbClr val="ffe5ff"/>
              </a:gs>
            </a:gsLst>
            <a:lin ang="2700000"/>
          </a:grad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未知"/>
          <p:cNvSpPr/>
          <p:nvPr/>
        </p:nvSpPr>
        <p:spPr>
          <a:xfrm rot="17400000">
            <a:off x="8359560" y="3612600"/>
            <a:ext cx="181080" cy="5335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未知"/>
          <p:cNvSpPr/>
          <p:nvPr/>
        </p:nvSpPr>
        <p:spPr>
          <a:xfrm rot="5400000">
            <a:off x="8391240" y="2501640"/>
            <a:ext cx="14256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2195640" y="1413000"/>
            <a:ext cx="6242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仔细读一读课文第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1~3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自然段，想一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2340000" y="2565360"/>
            <a:ext cx="6242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植树鸟的外形什么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2484360" y="364500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1095480" y="4586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9"/>
          <p:cNvSpPr/>
          <p:nvPr/>
        </p:nvSpPr>
        <p:spPr>
          <a:xfrm>
            <a:off x="1547640" y="3357720"/>
            <a:ext cx="506520" cy="495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708" y="10800"/>
                </a:moveTo>
                <a:cubicBezTo>
                  <a:pt x="4708" y="14165"/>
                  <a:pt x="7435" y="16892"/>
                  <a:pt x="10800" y="16892"/>
                </a:cubicBezTo>
                <a:cubicBezTo>
                  <a:pt x="14165" y="16892"/>
                  <a:pt x="16892" y="14165"/>
                  <a:pt x="16892" y="10800"/>
                </a:cubicBezTo>
                <a:cubicBezTo>
                  <a:pt x="16892" y="7435"/>
                  <a:pt x="14165" y="4708"/>
                  <a:pt x="10800" y="4708"/>
                </a:cubicBezTo>
                <a:cubicBezTo>
                  <a:pt x="7435" y="4708"/>
                  <a:pt x="4708" y="7435"/>
                  <a:pt x="4708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1"/>
          <p:cNvSpPr/>
          <p:nvPr/>
        </p:nvSpPr>
        <p:spPr>
          <a:xfrm>
            <a:off x="3230640" y="3397320"/>
            <a:ext cx="399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它们全身披着灰色的羽毛，尖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喙像一根铁钉，尾羽有一尺长，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半开的纸扇，两只黑黝黝的爪子特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粗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植树鸟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18"/>
          <p:cNvSpPr/>
          <p:nvPr/>
        </p:nvSpPr>
        <p:spPr>
          <a:xfrm>
            <a:off x="565200" y="2938320"/>
            <a:ext cx="7333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"/>
          <p:cNvSpPr/>
          <p:nvPr/>
        </p:nvSpPr>
        <p:spPr>
          <a:xfrm>
            <a:off x="2184480" y="863640"/>
            <a:ext cx="6705360" cy="5334120"/>
          </a:xfrm>
          <a:prstGeom prst="roundRect">
            <a:avLst>
              <a:gd name="adj" fmla="val 4046"/>
            </a:avLst>
          </a:prstGeom>
          <a:noFill/>
          <a:ln w="5724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22_80"/>
          <p:cNvPicPr/>
          <p:nvPr/>
        </p:nvPicPr>
        <p:blipFill>
          <a:blip r:embed="rId1"/>
          <a:stretch/>
        </p:blipFill>
        <p:spPr>
          <a:xfrm>
            <a:off x="179280" y="2492280"/>
            <a:ext cx="1714680" cy="189072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5"/>
          <p:cNvSpPr/>
          <p:nvPr/>
        </p:nvSpPr>
        <p:spPr>
          <a:xfrm>
            <a:off x="1619280" y="4149720"/>
            <a:ext cx="253800" cy="2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6" y="10800"/>
                </a:moveTo>
                <a:cubicBezTo>
                  <a:pt x="1916" y="15706"/>
                  <a:pt x="5894" y="19684"/>
                  <a:pt x="10800" y="19684"/>
                </a:cubicBezTo>
                <a:cubicBezTo>
                  <a:pt x="15706" y="19684"/>
                  <a:pt x="19684" y="15706"/>
                  <a:pt x="19684" y="10800"/>
                </a:cubicBezTo>
                <a:cubicBezTo>
                  <a:pt x="19684" y="5894"/>
                  <a:pt x="15706" y="1916"/>
                  <a:pt x="10800" y="1916"/>
                </a:cubicBezTo>
                <a:cubicBezTo>
                  <a:pt x="5894" y="1916"/>
                  <a:pt x="1916" y="5894"/>
                  <a:pt x="1916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684360" y="907920"/>
            <a:ext cx="495000" cy="495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708" y="10800"/>
                </a:moveTo>
                <a:cubicBezTo>
                  <a:pt x="4708" y="14165"/>
                  <a:pt x="7435" y="16892"/>
                  <a:pt x="10800" y="16892"/>
                </a:cubicBezTo>
                <a:cubicBezTo>
                  <a:pt x="14165" y="16892"/>
                  <a:pt x="16892" y="14165"/>
                  <a:pt x="16892" y="10800"/>
                </a:cubicBezTo>
                <a:cubicBezTo>
                  <a:pt x="16892" y="7435"/>
                  <a:pt x="14165" y="4708"/>
                  <a:pt x="10800" y="4708"/>
                </a:cubicBezTo>
                <a:cubicBezTo>
                  <a:pt x="7435" y="4708"/>
                  <a:pt x="4708" y="7435"/>
                  <a:pt x="4708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未知"/>
          <p:cNvSpPr/>
          <p:nvPr/>
        </p:nvSpPr>
        <p:spPr>
          <a:xfrm rot="14400000">
            <a:off x="8123760" y="1689120"/>
            <a:ext cx="129960" cy="44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 rot="1800000">
            <a:off x="8383680" y="4576320"/>
            <a:ext cx="145800" cy="44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未知"/>
          <p:cNvSpPr/>
          <p:nvPr/>
        </p:nvSpPr>
        <p:spPr>
          <a:xfrm rot="5400000">
            <a:off x="8493480" y="5879160"/>
            <a:ext cx="14112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gradFill rotWithShape="0">
            <a:gsLst>
              <a:gs pos="0">
                <a:srgbClr val="ffe5ff"/>
              </a:gs>
              <a:gs pos="50000">
                <a:srgbClr val="ec009d"/>
              </a:gs>
              <a:gs pos="100000">
                <a:srgbClr val="ffe5ff"/>
              </a:gs>
            </a:gsLst>
            <a:lin ang="2700000"/>
          </a:grad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 rot="17400000">
            <a:off x="8359560" y="3612600"/>
            <a:ext cx="181080" cy="5335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  <a:effectLst>
            <a:outerShdw dist="77353" dir="562478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未知"/>
          <p:cNvSpPr/>
          <p:nvPr/>
        </p:nvSpPr>
        <p:spPr>
          <a:xfrm rot="5400000">
            <a:off x="8391240" y="2501640"/>
            <a:ext cx="14256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2449440" y="1158840"/>
            <a:ext cx="624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小卡西看到他们时喜欢它们吗？后来呢？（接着读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4~10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自然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2195640" y="2205000"/>
            <a:ext cx="6242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卡西觉得这些鸟一点也不漂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2195640" y="3068640"/>
            <a:ext cx="624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卡西目送着远去的鸟群，对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爸说：“这些鸟的样子并不好看，但是，我特别喜欢它们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2411280" y="4692600"/>
            <a:ext cx="58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多么可爱的小鸟啊！是它们给我们送来了越来越大的绿洲！”小卡西深情地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8"/>
          <p:cNvSpPr/>
          <p:nvPr/>
        </p:nvSpPr>
        <p:spPr>
          <a:xfrm>
            <a:off x="468360" y="5229360"/>
            <a:ext cx="495360" cy="495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708" y="10800"/>
                </a:moveTo>
                <a:cubicBezTo>
                  <a:pt x="4708" y="14165"/>
                  <a:pt x="7435" y="16892"/>
                  <a:pt x="10800" y="16892"/>
                </a:cubicBezTo>
                <a:cubicBezTo>
                  <a:pt x="14165" y="16892"/>
                  <a:pt x="16892" y="14165"/>
                  <a:pt x="16892" y="10800"/>
                </a:cubicBezTo>
                <a:cubicBezTo>
                  <a:pt x="16892" y="7435"/>
                  <a:pt x="14165" y="4708"/>
                  <a:pt x="10800" y="4708"/>
                </a:cubicBezTo>
                <a:cubicBezTo>
                  <a:pt x="7435" y="4708"/>
                  <a:pt x="4708" y="7435"/>
                  <a:pt x="4708" y="10800"/>
                </a:cubicBezTo>
                <a:close/>
              </a:path>
            </a:pathLst>
          </a:custGeom>
          <a:solidFill>
            <a:srgbClr val="ffccff"/>
          </a:solidFill>
          <a:ln w="93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91661ef7fc973c310982"/>
          <p:cNvPicPr/>
          <p:nvPr/>
        </p:nvPicPr>
        <p:blipFill>
          <a:blip r:embed="rId1"/>
          <a:stretch/>
        </p:blipFill>
        <p:spPr>
          <a:xfrm>
            <a:off x="517680" y="870120"/>
            <a:ext cx="1504800" cy="196344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4"/>
          <p:cNvSpPr/>
          <p:nvPr/>
        </p:nvSpPr>
        <p:spPr>
          <a:xfrm>
            <a:off x="419040" y="851040"/>
            <a:ext cx="8305920" cy="5371920"/>
          </a:xfrm>
          <a:prstGeom prst="roundRect">
            <a:avLst>
              <a:gd name="adj" fmla="val 5556"/>
            </a:avLst>
          </a:prstGeom>
          <a:noFill/>
          <a:ln w="93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2108160" y="863640"/>
            <a:ext cx="0" cy="171432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2286000" y="863640"/>
            <a:ext cx="0" cy="113040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463840" y="863640"/>
            <a:ext cx="0" cy="140976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9"/>
          <p:cNvGrpSpPr/>
          <p:nvPr/>
        </p:nvGrpSpPr>
        <p:grpSpPr>
          <a:xfrm>
            <a:off x="1225440" y="2205000"/>
            <a:ext cx="7169400" cy="1373400"/>
            <a:chOff x="1225440" y="2205000"/>
            <a:chExt cx="7169400" cy="1373400"/>
          </a:xfrm>
        </p:grpSpPr>
        <p:grpSp>
          <p:nvGrpSpPr>
            <p:cNvPr id="165" name="Group 10"/>
            <p:cNvGrpSpPr/>
            <p:nvPr/>
          </p:nvGrpSpPr>
          <p:grpSpPr>
            <a:xfrm>
              <a:off x="1225440" y="2373840"/>
              <a:ext cx="531360" cy="418680"/>
              <a:chOff x="1225440" y="2373840"/>
              <a:chExt cx="531360" cy="418680"/>
            </a:xfrm>
          </p:grpSpPr>
          <p:sp>
            <p:nvSpPr>
              <p:cNvPr id="166" name="Oval 11"/>
              <p:cNvSpPr/>
              <p:nvPr/>
            </p:nvSpPr>
            <p:spPr>
              <a:xfrm>
                <a:off x="1379160" y="2598840"/>
                <a:ext cx="22356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12"/>
              <p:cNvSpPr/>
              <p:nvPr/>
            </p:nvSpPr>
            <p:spPr>
              <a:xfrm rot="19159200">
                <a:off x="1258920" y="2520000"/>
                <a:ext cx="10692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13"/>
              <p:cNvSpPr/>
              <p:nvPr/>
            </p:nvSpPr>
            <p:spPr>
              <a:xfrm rot="20197200">
                <a:off x="1353960" y="2392560"/>
                <a:ext cx="10548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14"/>
              <p:cNvSpPr/>
              <p:nvPr/>
            </p:nvSpPr>
            <p:spPr>
              <a:xfrm rot="1320000">
                <a:off x="1522080" y="2387520"/>
                <a:ext cx="10476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15"/>
              <p:cNvSpPr/>
              <p:nvPr/>
            </p:nvSpPr>
            <p:spPr>
              <a:xfrm rot="13740000">
                <a:off x="1614600" y="2511000"/>
                <a:ext cx="106560" cy="1432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Rectangle 16"/>
            <p:cNvSpPr/>
            <p:nvPr/>
          </p:nvSpPr>
          <p:spPr>
            <a:xfrm>
              <a:off x="1835280" y="2205000"/>
              <a:ext cx="65595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其他鸟立刻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接到命令似的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均匀、整齐地排列开来，大约每平方米停一只，像用尺子量过一般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17"/>
          <p:cNvGrpSpPr/>
          <p:nvPr/>
        </p:nvGrpSpPr>
        <p:grpSpPr>
          <a:xfrm>
            <a:off x="1298520" y="3500280"/>
            <a:ext cx="7168680" cy="587520"/>
            <a:chOff x="1298520" y="3500280"/>
            <a:chExt cx="7168680" cy="587520"/>
          </a:xfrm>
        </p:grpSpPr>
        <p:grpSp>
          <p:nvGrpSpPr>
            <p:cNvPr id="173" name="Group 18"/>
            <p:cNvGrpSpPr/>
            <p:nvPr/>
          </p:nvGrpSpPr>
          <p:grpSpPr>
            <a:xfrm>
              <a:off x="1298520" y="3669120"/>
              <a:ext cx="531360" cy="418680"/>
              <a:chOff x="1298520" y="3669120"/>
              <a:chExt cx="531360" cy="418680"/>
            </a:xfrm>
          </p:grpSpPr>
          <p:sp>
            <p:nvSpPr>
              <p:cNvPr id="174" name="Oval 19"/>
              <p:cNvSpPr/>
              <p:nvPr/>
            </p:nvSpPr>
            <p:spPr>
              <a:xfrm>
                <a:off x="1451880" y="3894120"/>
                <a:ext cx="22320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Oval 20"/>
              <p:cNvSpPr/>
              <p:nvPr/>
            </p:nvSpPr>
            <p:spPr>
              <a:xfrm rot="19159200">
                <a:off x="1332000" y="3815280"/>
                <a:ext cx="10692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Oval 21"/>
              <p:cNvSpPr/>
              <p:nvPr/>
            </p:nvSpPr>
            <p:spPr>
              <a:xfrm rot="20197200">
                <a:off x="1427040" y="3687840"/>
                <a:ext cx="10548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Oval 22"/>
              <p:cNvSpPr/>
              <p:nvPr/>
            </p:nvSpPr>
            <p:spPr>
              <a:xfrm rot="1320000">
                <a:off x="1594800" y="3682800"/>
                <a:ext cx="10476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Oval 23"/>
              <p:cNvSpPr/>
              <p:nvPr/>
            </p:nvSpPr>
            <p:spPr>
              <a:xfrm rot="13740000">
                <a:off x="1687680" y="3806280"/>
                <a:ext cx="106560" cy="1432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Rectangle 24"/>
            <p:cNvSpPr/>
            <p:nvPr/>
          </p:nvSpPr>
          <p:spPr>
            <a:xfrm>
              <a:off x="1908000" y="3500280"/>
              <a:ext cx="65592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25"/>
          <p:cNvGrpSpPr/>
          <p:nvPr/>
        </p:nvGrpSpPr>
        <p:grpSpPr>
          <a:xfrm>
            <a:off x="1298520" y="4724280"/>
            <a:ext cx="7168680" cy="587520"/>
            <a:chOff x="1298520" y="4724280"/>
            <a:chExt cx="7168680" cy="587520"/>
          </a:xfrm>
        </p:grpSpPr>
        <p:grpSp>
          <p:nvGrpSpPr>
            <p:cNvPr id="181" name="Group 26"/>
            <p:cNvGrpSpPr/>
            <p:nvPr/>
          </p:nvGrpSpPr>
          <p:grpSpPr>
            <a:xfrm>
              <a:off x="1298520" y="4893120"/>
              <a:ext cx="531360" cy="418680"/>
              <a:chOff x="1298520" y="4893120"/>
              <a:chExt cx="531360" cy="418680"/>
            </a:xfrm>
          </p:grpSpPr>
          <p:sp>
            <p:nvSpPr>
              <p:cNvPr id="182" name="Oval 27"/>
              <p:cNvSpPr/>
              <p:nvPr/>
            </p:nvSpPr>
            <p:spPr>
              <a:xfrm>
                <a:off x="1451880" y="5118120"/>
                <a:ext cx="223200" cy="1936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Oval 28"/>
              <p:cNvSpPr/>
              <p:nvPr/>
            </p:nvSpPr>
            <p:spPr>
              <a:xfrm rot="19159200">
                <a:off x="1332000" y="5039280"/>
                <a:ext cx="106920" cy="1429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Oval 29"/>
              <p:cNvSpPr/>
              <p:nvPr/>
            </p:nvSpPr>
            <p:spPr>
              <a:xfrm rot="20197200">
                <a:off x="1427040" y="4911840"/>
                <a:ext cx="10548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Oval 30"/>
              <p:cNvSpPr/>
              <p:nvPr/>
            </p:nvSpPr>
            <p:spPr>
              <a:xfrm rot="1320000">
                <a:off x="1594800" y="4906800"/>
                <a:ext cx="10476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Oval 31"/>
              <p:cNvSpPr/>
              <p:nvPr/>
            </p:nvSpPr>
            <p:spPr>
              <a:xfrm rot="13740000">
                <a:off x="1687680" y="5030280"/>
                <a:ext cx="106560" cy="1432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Rectangle 32"/>
            <p:cNvSpPr/>
            <p:nvPr/>
          </p:nvSpPr>
          <p:spPr>
            <a:xfrm>
              <a:off x="1908000" y="4724280"/>
              <a:ext cx="65592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35"/>
          <p:cNvSpPr/>
          <p:nvPr/>
        </p:nvSpPr>
        <p:spPr>
          <a:xfrm>
            <a:off x="3593160" y="1052640"/>
            <a:ext cx="394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什么原因使小卡西态度发生如此大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了转变呢？（请你再读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4~6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自然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6"/>
          <p:cNvSpPr/>
          <p:nvPr/>
        </p:nvSpPr>
        <p:spPr>
          <a:xfrm>
            <a:off x="2409120" y="4365720"/>
            <a:ext cx="4760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啄”  “刨”   “挖” “飞”  “衔”  “放”   “盖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沙漠中的绿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6"/>
          <p:cNvSpPr/>
          <p:nvPr/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美国北部的纳得华地区，是一片茫茫的沙漠，沙漠中间有一块绿洲，绿洲上生长着茂密的树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2349360" y="357336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你想对植树鸟说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3" descr="OOOPIC_hanyikun_20090914fd582727b82dd8eb"/>
          <p:cNvPicPr/>
          <p:nvPr/>
        </p:nvPicPr>
        <p:blipFill>
          <a:blip r:embed="rId1"/>
          <a:stretch/>
        </p:blipFill>
        <p:spPr>
          <a:xfrm>
            <a:off x="417600" y="1149480"/>
            <a:ext cx="1746000" cy="4305240"/>
          </a:xfrm>
          <a:prstGeom prst="rect">
            <a:avLst/>
          </a:prstGeom>
          <a:ln w="0">
            <a:noFill/>
          </a:ln>
        </p:spPr>
      </p:pic>
      <p:sp>
        <p:nvSpPr>
          <p:cNvPr id="194" name="Line 4"/>
          <p:cNvSpPr/>
          <p:nvPr/>
        </p:nvSpPr>
        <p:spPr>
          <a:xfrm>
            <a:off x="2158920" y="1181160"/>
            <a:ext cx="3264120" cy="0"/>
          </a:xfrm>
          <a:prstGeom prst="line">
            <a:avLst/>
          </a:prstGeom>
          <a:ln cap="rnd" w="28440">
            <a:solidFill>
              <a:srgbClr val="00ccff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"/>
          <p:cNvSpPr/>
          <p:nvPr/>
        </p:nvSpPr>
        <p:spPr>
          <a:xfrm>
            <a:off x="2171880" y="5448240"/>
            <a:ext cx="6553080" cy="0"/>
          </a:xfrm>
          <a:prstGeom prst="line">
            <a:avLst/>
          </a:prstGeom>
          <a:ln cap="rnd" w="28440">
            <a:solidFill>
              <a:srgbClr val="99cc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754200" y="1630440"/>
            <a:ext cx="113004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7"/>
          <p:cNvGrpSpPr/>
          <p:nvPr/>
        </p:nvGrpSpPr>
        <p:grpSpPr>
          <a:xfrm>
            <a:off x="2186640" y="1989000"/>
            <a:ext cx="6299640" cy="1373400"/>
            <a:chOff x="2186640" y="1989000"/>
            <a:chExt cx="6299640" cy="1373400"/>
          </a:xfrm>
        </p:grpSpPr>
        <p:grpSp>
          <p:nvGrpSpPr>
            <p:cNvPr id="198" name="Group 8"/>
            <p:cNvGrpSpPr/>
            <p:nvPr/>
          </p:nvGrpSpPr>
          <p:grpSpPr>
            <a:xfrm>
              <a:off x="2186640" y="2100960"/>
              <a:ext cx="308160" cy="376920"/>
              <a:chOff x="2186640" y="2100960"/>
              <a:chExt cx="308160" cy="376920"/>
            </a:xfrm>
          </p:grpSpPr>
          <p:sp>
            <p:nvSpPr>
              <p:cNvPr id="199" name="未知"/>
              <p:cNvSpPr/>
              <p:nvPr/>
            </p:nvSpPr>
            <p:spPr>
              <a:xfrm rot="18580800">
                <a:off x="2236320" y="2119320"/>
                <a:ext cx="90720" cy="17244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未知"/>
              <p:cNvSpPr/>
              <p:nvPr/>
            </p:nvSpPr>
            <p:spPr>
              <a:xfrm rot="2400000">
                <a:off x="2357280" y="2112840"/>
                <a:ext cx="96120" cy="1623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1"/>
              <p:cNvSpPr/>
              <p:nvPr/>
            </p:nvSpPr>
            <p:spPr>
              <a:xfrm>
                <a:off x="2342160" y="2253240"/>
                <a:ext cx="1800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Rectangle 12"/>
            <p:cNvSpPr/>
            <p:nvPr/>
          </p:nvSpPr>
          <p:spPr>
            <a:xfrm>
              <a:off x="2638080" y="1989000"/>
              <a:ext cx="584820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爸爸说：“这些鸟的寿命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</a:rPr>
                <a:t>只有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三年。明年它们再来的时候会有三分之一的鸟死去。可是，老的一代死去了，新的一代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</a:rPr>
                <a:t>又会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跟着来种树。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文本框 1"/>
          <p:cNvSpPr/>
          <p:nvPr/>
        </p:nvSpPr>
        <p:spPr>
          <a:xfrm>
            <a:off x="1409760" y="5751360"/>
            <a:ext cx="61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7T08:13:1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9:39Z</dcterms:modified>
  <cp:revision>12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