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E977-4DC6-4E66-9C72-359C5E9795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563D-D373-491C-B18E-FCD17C383F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703D-8452-40B6-81DE-94C7488407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0C1-5AF4-42AB-8F26-6C21AE6B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D1B-6E61-4101-9317-FCA8028D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FB7-9F56-46AA-81B9-DF5C36D3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AE7-7752-4248-8B51-E0E3E1D4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A94-DF68-4AC4-9935-9158FD03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35E-FB52-41DD-B2F1-1320FA3E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EC4-A2C8-4CFD-9D0F-0E3DA749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7C1-1B0A-4915-A3D1-6D15A23E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EF9-A79C-4DFB-BF45-055EE213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0CA-5E9E-48B5-B243-65ADC420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6F3-4495-4307-8284-19986DEA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643-A7BA-4888-AD12-01DDA448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7B0D-9EDD-4F8B-9438-2AA758F109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AA25-6B6E-4094-BF20-4BCA429D2B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图片6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189080" y="102888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97080" y="2730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84360" y="453960"/>
            <a:ext cx="482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1116000" y="1832040"/>
            <a:ext cx="6912000" cy="17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中宋"/>
              </a:rPr>
              <a:t>江南第一楼</a:t>
            </a:r>
            <a:endParaRPr b="1" lang="en-US" sz="5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3195360" y="58896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5">
            <a:hlinkClick r:id="rId2" action="ppaction://hlinksldjump"/>
          </p:cNvPr>
          <p:cNvSpPr/>
          <p:nvPr/>
        </p:nvSpPr>
        <p:spPr>
          <a:xfrm>
            <a:off x="4356000" y="6453360"/>
            <a:ext cx="76320" cy="14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图片2"/>
          <p:cNvPicPr/>
          <p:nvPr/>
        </p:nvPicPr>
        <p:blipFill>
          <a:blip r:embed="rId1"/>
          <a:stretch/>
        </p:blipFill>
        <p:spPr>
          <a:xfrm>
            <a:off x="0" y="47520"/>
            <a:ext cx="4429080" cy="676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7960" y="47160"/>
            <a:ext cx="446076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爸爸指着湖中一座翡翠似的小山说：“你看那小山，犹如白银盘中的青螺，这就是著名的君山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5">
            <a:hlinkClick r:id="rId2" action="ppaction://hlinksldjump"/>
          </p:cNvPr>
          <p:cNvSpPr/>
          <p:nvPr/>
        </p:nvSpPr>
        <p:spPr>
          <a:xfrm>
            <a:off x="7236000" y="6524640"/>
            <a:ext cx="144360" cy="14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99ff"/>
                </a:solidFill>
                <a:latin typeface="Arial"/>
              </a:rPr>
              <a:t>思考：</a:t>
            </a:r>
            <a:br>
              <a:rPr sz="7200"/>
            </a:br>
            <a:r>
              <a:rPr b="0" lang="zh-CN" sz="7200" spc="-1" strike="noStrike">
                <a:solidFill>
                  <a:srgbClr val="3399ff"/>
                </a:solidFill>
                <a:latin typeface="Arial"/>
              </a:rPr>
              <a:t>     作者是按照什么顺序参观岳阳楼的，请大家在课文中把有关的词语画出来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课30"/>
          <p:cNvPicPr/>
          <p:nvPr/>
        </p:nvPicPr>
        <p:blipFill>
          <a:blip r:embed="rId1"/>
          <a:stretch/>
        </p:blipFill>
        <p:spPr>
          <a:xfrm>
            <a:off x="-54000" y="9360"/>
            <a:ext cx="96836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51912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353240" y="2221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作者的游览顺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923760"/>
            <a:ext cx="73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200" spc="-1" strike="noStrike" u="sng">
                <a:solidFill>
                  <a:srgbClr val="3333cc"/>
                </a:solidFill>
                <a:uFillTx/>
                <a:latin typeface="Arial"/>
              </a:rPr>
              <a:t>沿着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弯曲的小路，</a:t>
            </a:r>
            <a:r>
              <a:rPr b="0" lang="zh-CN" sz="4200" spc="-1" strike="noStrike" u="sng">
                <a:solidFill>
                  <a:srgbClr val="3333cc"/>
                </a:solidFill>
                <a:uFillTx/>
                <a:latin typeface="Arial"/>
              </a:rPr>
              <a:t>穿过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一座牌楼，</a:t>
            </a:r>
            <a:r>
              <a:rPr b="0" lang="zh-CN" sz="4200" spc="-1" strike="noStrike" u="sng">
                <a:solidFill>
                  <a:srgbClr val="3333cc"/>
                </a:solidFill>
                <a:uFillTx/>
                <a:latin typeface="Arial"/>
              </a:rPr>
              <a:t>来到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了宽阔的平台，绿荫丛中三座金碧辉煌的楼阁，品字形排列在我们面前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200" spc="-1" strike="noStrike" u="sng">
                <a:solidFill>
                  <a:srgbClr val="99cc00"/>
                </a:solidFill>
                <a:uFillTx/>
                <a:latin typeface="Arial"/>
              </a:rPr>
              <a:t>踏进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岳阳楼大门，迎面是</a:t>
            </a:r>
            <a:r>
              <a:rPr b="0" lang="zh-CN" sz="4200" spc="-1" strike="noStrike">
                <a:solidFill>
                  <a:srgbClr val="000000"/>
                </a:solidFill>
                <a:latin typeface="DFKai-SB"/>
                <a:ea typeface="DFKai-SB"/>
              </a:rPr>
              <a:t>…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DFKai-SB"/>
              </a:rPr>
              <a:t>3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바탕"/>
              </a:rPr>
              <a:t>、</a:t>
            </a:r>
            <a:r>
              <a:rPr b="0" lang="zh-CN" sz="4200" spc="-1" strike="noStrike" u="sng">
                <a:solidFill>
                  <a:srgbClr val="99cc00"/>
                </a:solidFill>
                <a:uFillTx/>
                <a:latin typeface="Arial"/>
                <a:ea typeface="바탕"/>
              </a:rPr>
              <a:t>从屏风后的楼梯登楼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바탕"/>
              </a:rPr>
              <a:t>，就看到</a:t>
            </a:r>
            <a:r>
              <a:rPr b="0" lang="zh-CN" sz="4200" spc="-1" strike="noStrike">
                <a:solidFill>
                  <a:srgbClr val="000000"/>
                </a:solidFill>
                <a:latin typeface="바탕"/>
                <a:ea typeface="바탕"/>
              </a:rPr>
              <a:t>……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바탕"/>
              </a:rPr>
              <a:t>凭栏远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236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填一填，读一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       ）的平台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       ）的色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       ）的楼阁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       ）的诗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       ）的洞庭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       ）的传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588960" y="131760"/>
            <a:ext cx="67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课件背景7"/>
          <p:cNvPicPr/>
          <p:nvPr/>
        </p:nvPicPr>
        <p:blipFill>
          <a:blip r:embed="rId1"/>
          <a:stretch/>
        </p:blipFill>
        <p:spPr>
          <a:xfrm>
            <a:off x="317520" y="235080"/>
            <a:ext cx="8508960" cy="638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课件背景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1510560" y="549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拓展实践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044720" y="1484280"/>
            <a:ext cx="764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学习课文抓住事物特点、按游览顺序的方法，写写家乡的一处风景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B092-E65D-4316-8A91-BEF93D9C9C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一读，谁能读正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牌楼     金碧辉煌      宋代      忧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副      传诵          范仲淹     犹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湘水      娥皇          仙梅亭     君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12720" y="35244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听课文朗读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为什么人们称岳阳楼为“江南第一楼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课文哪一段进行了概括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57200" y="288144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96720" y="2708280"/>
            <a:ext cx="87472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ff"/>
                </a:solidFill>
                <a:latin typeface="Arial"/>
                <a:ea typeface="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浩翰的洞庭，壮美的楼阁，加上不朽的诗文，动人的传说，岳阳楼啊，我明白了，为什么人们称你为</a:t>
            </a:r>
            <a:r>
              <a:rPr b="0" lang="zh-CN" sz="3600" spc="-1" strike="noStrike">
                <a:solidFill>
                  <a:srgbClr val="333399"/>
                </a:solidFill>
                <a:latin typeface="바탕"/>
                <a:ea typeface="바탕"/>
              </a:rPr>
              <a:t>“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江南第一楼</a:t>
            </a:r>
            <a:r>
              <a:rPr b="0" lang="zh-CN" sz="3600" spc="-1" strike="noStrike">
                <a:solidFill>
                  <a:srgbClr val="333399"/>
                </a:solidFill>
                <a:latin typeface="바탕"/>
                <a:ea typeface="바탕"/>
              </a:rPr>
              <a:t>”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2000" y="6505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组讨论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一段中分别写得是课文中的那一段的内容？把你喜欢的段落记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2000" y="2707920"/>
            <a:ext cx="849636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浩翰的洞庭，壮美的楼阁，加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不朽的诗文，动人的传说，岳阳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啊，我明白了，为什么人们称你为</a:t>
            </a:r>
            <a:r>
              <a:rPr b="0" lang="zh-CN" sz="3600" spc="-1" strike="noStrike">
                <a:solidFill>
                  <a:srgbClr val="333399"/>
                </a:solidFill>
                <a:latin typeface="바탕"/>
                <a:ea typeface="바탕"/>
              </a:rPr>
              <a:t>“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江南第一楼</a:t>
            </a:r>
            <a:r>
              <a:rPr b="0" lang="zh-CN" sz="3600" spc="-1" strike="noStrike">
                <a:solidFill>
                  <a:srgbClr val="333399"/>
                </a:solidFill>
                <a:latin typeface="바탕"/>
                <a:ea typeface="바탕"/>
              </a:rPr>
              <a:t>”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>
            <a:hlinkClick r:id="rId1" action="ppaction://hlinksldjump"/>
          </p:cNvPr>
          <p:cNvSpPr/>
          <p:nvPr/>
        </p:nvSpPr>
        <p:spPr>
          <a:xfrm flipV="1">
            <a:off x="2627280" y="3281400"/>
            <a:ext cx="76320" cy="763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>
            <a:hlinkClick r:id="rId2" action="ppaction://hlinksldjump"/>
          </p:cNvPr>
          <p:cNvSpPr/>
          <p:nvPr/>
        </p:nvSpPr>
        <p:spPr>
          <a:xfrm>
            <a:off x="5435640" y="3281400"/>
            <a:ext cx="76320" cy="763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>
            <a:hlinkClick r:id="rId3" action="ppaction://hlinksldjump"/>
          </p:cNvPr>
          <p:cNvSpPr/>
          <p:nvPr/>
        </p:nvSpPr>
        <p:spPr>
          <a:xfrm flipH="1" flipV="1">
            <a:off x="2627280" y="3929040"/>
            <a:ext cx="76320" cy="763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>
            <a:hlinkClick r:id="rId4" action="ppaction://hlinksldjump"/>
          </p:cNvPr>
          <p:cNvSpPr/>
          <p:nvPr/>
        </p:nvSpPr>
        <p:spPr>
          <a:xfrm flipH="1">
            <a:off x="5435640" y="3929040"/>
            <a:ext cx="76320" cy="763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7"/>
          <p:cNvSpPr/>
          <p:nvPr/>
        </p:nvSpPr>
        <p:spPr>
          <a:xfrm>
            <a:off x="250920" y="204300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4896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076360" y="764640"/>
            <a:ext cx="3745080" cy="54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沿着弯曲的小路，穿过一座牌楼，来到了宽阔的平台，绿阴丛中三座金碧辉煌的楼阁，品字形排列在我们面前。左右是副楼，一座叫“仙梅亭”，一座叫“三醉楼”。中间是主楼，正上方一块大匾，刻着“岳阳楼”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字。建筑呈正方形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三层三檐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，用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四根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大柱支撑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十二个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琉璃瓦飞檐高高翘起，好似飞凤展翅，闪烁着金色的光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>
            <a:hlinkClick r:id="rId2" action="ppaction://hlinksldjump"/>
          </p:cNvPr>
          <p:cNvSpPr/>
          <p:nvPr/>
        </p:nvSpPr>
        <p:spPr>
          <a:xfrm>
            <a:off x="5940360" y="6524640"/>
            <a:ext cx="76320" cy="763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111"/>
          <p:cNvPicPr/>
          <p:nvPr/>
        </p:nvPicPr>
        <p:blipFill>
          <a:blip r:embed="rId1"/>
          <a:stretch/>
        </p:blipFill>
        <p:spPr>
          <a:xfrm>
            <a:off x="0" y="88920"/>
            <a:ext cx="5037120" cy="6724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037120" y="274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Arial"/>
              </a:rPr>
              <a:t>踏进岳阳楼大门，迎面是用十二块紫檀木拼成的巨幅屏风，上面刻着宋代范仲淹的《岳阳记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rId2" action="ppaction://hlinksldjump"/>
          </p:cNvPr>
          <p:cNvSpPr/>
          <p:nvPr/>
        </p:nvSpPr>
        <p:spPr>
          <a:xfrm>
            <a:off x="4861080" y="6308640"/>
            <a:ext cx="74520" cy="763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先天下之忧而忧，后天下之乐而乐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          ——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范仲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2" action="ppaction://hlinksldjump"/>
          </p:cNvPr>
          <p:cNvSpPr/>
          <p:nvPr/>
        </p:nvSpPr>
        <p:spPr>
          <a:xfrm flipH="1">
            <a:off x="6727680" y="2708280"/>
            <a:ext cx="76320" cy="763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1"/>
          <p:cNvPicPr/>
          <p:nvPr/>
        </p:nvPicPr>
        <p:blipFill>
          <a:blip r:embed="rId1"/>
          <a:stretch/>
        </p:blipFill>
        <p:spPr>
          <a:xfrm>
            <a:off x="0" y="88920"/>
            <a:ext cx="5037120" cy="6726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037120" y="8892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从屏风后的楼梯登楼，就看到四面窗格上都是雕着各种花卉图案，十分精美。楼四周回廊环绕，凭栏远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113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洞庭湖水天一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7:49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