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1AC47-2C2A-4237-B843-C49B8288105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ED05A-3564-4612-B013-E23AA733391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531B-27DD-4602-8092-A08A05850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A335-A5ED-4D91-AB4F-4570D4658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AF40-6102-4C64-8F97-8CFE4A083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97FA-8C63-4EC3-8CD9-19E7181B3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88AF-FCBB-4D03-BA81-046ADD945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0EE2-2034-49CB-AA66-FF5FD49FC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3547-7346-43DF-A69D-148294F0B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2460-03BD-43DD-9444-9CE09FBBF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F26A-3C12-4704-ADD1-60E63410D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D3BD-0C3B-42A4-9C26-B9B73172B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A68A-0081-43E5-B099-413A5D8C2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F861-0FFD-4CF1-B72F-AD3904678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AD2B1-4945-4BCE-A790-9E084F197A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00"/>
                </a:solidFill>
                <a:latin typeface="微软雅黑"/>
                <a:ea typeface="微软雅黑"/>
              </a:rPr>
              <a:t>龙 卷 风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矩形 6" descr=""/>
          <p:cNvPicPr/>
          <p:nvPr/>
        </p:nvPicPr>
        <p:blipFill>
          <a:blip r:embed="rId2"/>
          <a:stretch/>
        </p:blipFill>
        <p:spPr>
          <a:xfrm>
            <a:off x="1863720" y="5948280"/>
            <a:ext cx="550080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6FF17-CEDD-47B6-BA04-D1208A85AE7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1280" y="515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cc33"/>
                </a:solidFill>
                <a:latin typeface="Arial"/>
              </a:rPr>
              <a:t>发生在陆地上叫陆龙卷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cc00"/>
                </a:solidFill>
                <a:latin typeface="Arial"/>
              </a:rPr>
              <a:t>发生在海上叫海龙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 rot="10800000">
            <a:off x="3348000" y="6126120"/>
            <a:ext cx="5338800" cy="69840"/>
          </a:xfrm>
          <a:prstGeom prst="rect">
            <a:avLst/>
          </a:prstGeom>
          <a:noFill/>
          <a:ln w="0">
            <a:noFill/>
          </a:ln>
        </p:spPr>
        <p:txBody>
          <a:bodyPr tIns="24120" bIns="2412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WordArt 5"/>
          <p:cNvSpPr txBox="1"/>
          <p:nvPr/>
        </p:nvSpPr>
        <p:spPr>
          <a:xfrm>
            <a:off x="611280" y="981000"/>
            <a:ext cx="79246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2600">
                  <a:solidFill>
                    <a:srgbClr val="ffcc00"/>
                  </a:solidFill>
                  <a:round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质疑：龙卷风是如何形成的？</a:t>
            </a:r>
            <a:endParaRPr b="0" lang="en-US" sz="4800" spc="1" strike="noStrike">
              <a:ln w="12600">
                <a:solidFill>
                  <a:srgbClr val="ffcc00"/>
                </a:solidFill>
                <a:round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cc"/>
                </a:solidFill>
                <a:latin typeface="Arial"/>
              </a:rPr>
              <a:t>教 学 目 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cc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ff66cc"/>
                </a:solidFill>
                <a:latin typeface="Arial"/>
              </a:rPr>
              <a:t>、学习并掌握本课的生字新词，联系上下文理解个别词语的意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cc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ff66cc"/>
                </a:solidFill>
                <a:latin typeface="Arial"/>
              </a:rPr>
              <a:t>、整体感知课文内容，给课文分段，说说各段的主要内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cc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ff66cc"/>
                </a:solidFill>
                <a:latin typeface="Arial"/>
              </a:rPr>
              <a:t>、学习课文第一自然段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6"/>
          <p:cNvSpPr/>
          <p:nvPr/>
        </p:nvSpPr>
        <p:spPr>
          <a:xfrm>
            <a:off x="2340000" y="2852640"/>
            <a:ext cx="73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cc33"/>
                </a:solidFill>
                <a:latin typeface="Arial"/>
              </a:rPr>
              <a:t>自 读 要 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95280" y="1484280"/>
            <a:ext cx="82296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33cc33"/>
                </a:solidFill>
                <a:latin typeface="Arial"/>
              </a:rPr>
              <a:t>自由读课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33cc33"/>
                </a:solidFill>
                <a:latin typeface="Arial"/>
              </a:rPr>
              <a:t>画出本课生字新词，联系上下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cc33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33cc33"/>
                </a:solidFill>
                <a:latin typeface="Arial"/>
              </a:rPr>
              <a:t>理解词语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33cc33"/>
                </a:solidFill>
                <a:latin typeface="Arial"/>
              </a:rPr>
              <a:t>给课文分段，说说主要内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24130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ccff"/>
                </a:solidFill>
                <a:latin typeface="Arial"/>
              </a:rPr>
              <a:t>我会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ff"/>
                </a:solidFill>
                <a:latin typeface="Arial"/>
              </a:rPr>
              <a:t>谈虎色变   袭击   摧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ff"/>
                </a:solidFill>
                <a:latin typeface="Arial"/>
              </a:rPr>
              <a:t>抛来掷去   马萨诸塞州   肆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ff"/>
                </a:solidFill>
                <a:latin typeface="Arial"/>
              </a:rPr>
              <a:t>面目全非   恐怖   人畜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3132000" y="17002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x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4427640" y="170028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u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1547640" y="321300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zh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3492360" y="3213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3995640" y="314172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zh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6084720" y="321300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ì nü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0"/>
          <p:cNvSpPr/>
          <p:nvPr/>
        </p:nvSpPr>
        <p:spPr>
          <a:xfrm>
            <a:off x="4932360" y="465300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h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Arial"/>
              </a:rPr>
              <a:t>课文分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cc"/>
                </a:solidFill>
                <a:latin typeface="Arial"/>
              </a:rPr>
              <a:t>第一段（</a:t>
            </a: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99cc"/>
                </a:solidFill>
                <a:latin typeface="Arial"/>
              </a:rPr>
              <a:t>）：讲遭遇过龙卷风的人为它特异的形态，狂暴威猛的气势而久久不能平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cc"/>
                </a:solidFill>
                <a:latin typeface="Arial"/>
              </a:rPr>
              <a:t>第二段（</a:t>
            </a: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2-4</a:t>
            </a:r>
            <a:r>
              <a:rPr b="1" lang="zh-CN" sz="3200" spc="-1" strike="noStrike">
                <a:solidFill>
                  <a:srgbClr val="0099cc"/>
                </a:solidFill>
                <a:latin typeface="Arial"/>
              </a:rPr>
              <a:t>）：具体描写陆龙卷和还龙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cc"/>
                </a:solidFill>
                <a:latin typeface="Arial"/>
              </a:rPr>
              <a:t>第三段（</a:t>
            </a: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99cc"/>
                </a:solidFill>
                <a:latin typeface="Arial"/>
              </a:rPr>
              <a:t>）：讲目前还无法测量龙卷风的旋转速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1"/>
          <p:cNvSpPr/>
          <p:nvPr/>
        </p:nvSpPr>
        <p:spPr>
          <a:xfrm>
            <a:off x="3092400" y="5140440"/>
            <a:ext cx="515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16207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Arial"/>
                <a:ea typeface="楷体_GB2312"/>
              </a:rPr>
              <a:t>自由读第一自然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50920" y="1052640"/>
            <a:ext cx="8229600" cy="118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思考：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1.“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谈虎色变”什么意思？为什么人们会有这种感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468360" y="2349360"/>
            <a:ext cx="770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Arial"/>
                <a:ea typeface="楷体_GB2312"/>
              </a:rPr>
              <a:t>谈虎色变：比喻人们一提到可怕的龙卷风连脸色都变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Arial"/>
                <a:ea typeface="楷体_GB2312"/>
              </a:rPr>
              <a:t>说明遭遇过龙卷风的人非常害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971640" y="356400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2.“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特异”和“狂暴威猛”又是什么意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468360" y="4437000"/>
            <a:ext cx="770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Arial"/>
                <a:ea typeface="楷体_GB2312"/>
              </a:rPr>
              <a:t>特异：特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Arial"/>
                <a:ea typeface="楷体_GB2312"/>
              </a:rPr>
              <a:t>狂暴威猛：课文指龙卷风的威力强烈而凶暴，强大的让人感到恐惧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7T11:51:38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55:38Z</dcterms:modified>
  <cp:revision>1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