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4BC68-3C43-4ADC-B115-4E61285FA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AA404-DA4A-49EA-B6AF-3EF774E36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75FC-3EB2-40A9-90D1-BF71333A2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34DF-B550-4D47-8270-417DD2D6C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E18E-99AE-4346-99FD-416BEB624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A40C-CD91-4AB2-9728-47B531F5B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D3DD1-85C0-498C-8017-5A353673B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F8FA1-224D-414C-9A0E-A288EE9E1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87438-4ED7-4660-9565-05C027205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DBAD1-DAC9-4C6E-B2A3-697D0330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CEAD5-36C9-431A-ABF4-CF3AF6B49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F5887-43B6-4857-BDAA-0675BECC5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D9F6D-6170-46E9-B938-2B45C0E4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19A3-A9E7-4D7E-B7CE-815E10690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02E05-BA8A-4F10-893C-E902C87A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5B91F-7F80-4778-89B2-31A0835E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0E6C1-15E9-4111-8C63-9A24A1903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3A970-A5E6-4D14-86EE-9895BC8BC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2F35D-90EA-4F45-81FE-93A0B1423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572DA-2C87-4D28-BC24-6B5FC8B2F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72E89-6DFB-4D79-B19B-EA0B3E9CC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597E6-78E4-4A83-A4A4-CC30A3246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61282-9BB3-4D86-85CD-A5FEE8D2F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D4723-D063-47C5-B5FC-5172F96C6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C98C-8B0C-442A-9A5C-CD19A8D67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8C53E-4558-4C9E-9FEA-91515B429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9964A-8195-4C6B-8882-C8632C5A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BC927-3900-4297-ACE0-BFBCE3AD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6C0C4-BE05-4903-B014-28DF1D5D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CFCDD-60DE-4203-8849-8AA4F0525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E7629-5A4C-4D6C-A5CA-3C5CABF46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B275F-0B8B-456E-BC12-291E59B2B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4DD7C-1F40-46AE-B846-8A68ACF7A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8ED9E-803E-4998-9937-0E628859D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48A8E-C60A-481C-B5C7-E2859A3E8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C8C7-4A89-48CB-8322-68C8A2A07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80807-05CF-428F-9A07-761D0FFAD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FD29D-C0C0-42CF-9274-0DBD23D6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C51FB-2BD2-4CAD-A108-122FEB3DE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8A5B9-AC13-4A14-A28E-24AFD01F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DCC81-1273-4C90-91E0-2DE61673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39508-EBD3-4183-9BC3-C0123D47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50495-852D-4B9A-9980-2389C4E5C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E816B-D822-4A6D-9ECD-DA6E4E33F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7F9C7-B8B6-43E3-86FC-C3FAB4167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9CBE2-A573-467A-BF44-04F8EE17E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E1F2-FBC0-4A7D-A904-E47A70387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997C0-A299-49F3-98E1-E1BF123EA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EA30D-B684-4660-BC36-4307B8139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28B29-5BEA-4774-A261-51CB72379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D15DE-7575-4748-ABE7-35DEDA181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2FCE6-6B83-46F5-A7D8-91748B840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8CDBB-AC5B-44D1-BD82-BF2C03F5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47F3F-D509-4AB0-BDCE-B8A9266B0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2FB3E-3FB3-4DEA-98DF-86DC0935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09BE4-6645-4CBF-8459-8B7F6D7C2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C76E9-14C1-4FF9-865C-56EAD8030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D527-80AB-4A0C-8BB7-23BD5C476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02174-DB60-4952-B73A-81C22276F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96C62-125F-4566-A3F4-F10FA4B98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805CF-AF9E-4D35-9182-C856AC1DC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6239E-C13C-4440-B449-F73B4FAFC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ABF716-DCA6-44C0-8637-92B8FD979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8A426-C663-4BD8-8563-77599FD16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FBB4A-6741-4BF2-ABD9-DF4A2D84E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C3B77-AFFF-4BF1-B7D0-45761A97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D602DE-A347-444B-9A50-612D09D8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48C19-E9D4-4A83-8369-5AD4CC57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BF00-5CFA-4BE5-B5C0-0A17E52D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1B3A8-74D8-44A9-958F-C012463CF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F9CFC-4276-43E1-A4B3-93066B361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E1669-062B-40FC-A42D-CADF17A04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10A12-CECA-4E74-9AE8-3E201C759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FABBBA-EB29-42C2-938E-268C90E26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C62EE-4114-49B6-9CC2-550F37F8A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D77A1A-B7D6-4EA3-8A4E-EF69ABD84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F449C-D0CD-4750-9E15-345C92109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D0681-06B2-42BA-AA36-CD159440D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4688F1-1277-4293-B388-89F0CD9E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FD20-373F-49D3-A579-462B80C6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7A5294-7C98-44C2-B3DC-C59C5DBB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3F5DA-F3AC-43CC-8202-F3BF7B43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EDBF3-E85D-47DB-990D-EA902020B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E745B-C9C2-49BA-9D28-6578DD3D0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7942C-52FB-4D8F-9F5E-9DC5CE204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AF0DF4-AD21-49E1-BB1E-2D8F573DD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47FA9-E1F0-43F3-BAF1-9FDD913A7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C0325-F76D-4662-AE94-BFEA14046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ADCEAF-CC4D-475E-90AE-B2B180980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E87DA4-D31E-45E8-820E-79A74CC41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D0F4-4D76-4873-9EA3-E2C74275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3203D9-8BDF-4E67-BFE1-AF16A913D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865155-3AD8-4D33-A1AB-125093AD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79A57E-FF73-4E71-9FB1-0EC47353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5E4382-2A15-4BC8-AFA0-0E7D458A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0C9A12-4BC5-4FF4-BB07-E95290DBE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A471AF-6CCB-4E8A-AD8F-D3753614A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FF62F4-AAD8-425D-BD0E-74DE71098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56661-A3E2-47C8-84A8-A89D161D9D0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直接连接符 6" descr=""/>
          <p:cNvPicPr/>
          <p:nvPr/>
        </p:nvPicPr>
        <p:blipFill>
          <a:blip r:embed="rId3"/>
          <a:stretch/>
        </p:blipFill>
        <p:spPr>
          <a:xfrm>
            <a:off x="514440" y="1046160"/>
            <a:ext cx="8629560" cy="279360"/>
          </a:xfrm>
          <a:prstGeom prst="rect">
            <a:avLst/>
          </a:prstGeom>
          <a:ln w="0">
            <a:noFill/>
          </a:ln>
        </p:spPr>
      </p:pic>
      <p:pic>
        <p:nvPicPr>
          <p:cNvPr id="42" name="直接连接符 7" descr=""/>
          <p:cNvPicPr/>
          <p:nvPr/>
        </p:nvPicPr>
        <p:blipFill>
          <a:blip r:embed="rId4"/>
          <a:stretch/>
        </p:blipFill>
        <p:spPr>
          <a:xfrm>
            <a:off x="514440" y="1046160"/>
            <a:ext cx="8629560" cy="279360"/>
          </a:xfrm>
          <a:prstGeom prst="rect">
            <a:avLst/>
          </a:prstGeom>
          <a:ln w="0">
            <a:noFill/>
          </a:ln>
        </p:spPr>
      </p:pic>
      <p:pic>
        <p:nvPicPr>
          <p:cNvPr id="43" name="直接连接符 8" descr=""/>
          <p:cNvPicPr/>
          <p:nvPr/>
        </p:nvPicPr>
        <p:blipFill>
          <a:blip r:embed="rId5"/>
          <a:stretch/>
        </p:blipFill>
        <p:spPr>
          <a:xfrm>
            <a:off x="514440" y="1052640"/>
            <a:ext cx="8629560" cy="2808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3B766-661A-4B34-B391-EBC99413EE0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直接连接符 6" descr=""/>
          <p:cNvPicPr/>
          <p:nvPr/>
        </p:nvPicPr>
        <p:blipFill>
          <a:blip r:embed="rId3"/>
          <a:stretch/>
        </p:blipFill>
        <p:spPr>
          <a:xfrm>
            <a:off x="514440" y="3440160"/>
            <a:ext cx="8629560" cy="2793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11E92-D319-471D-A449-158E225528B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直接连接符 6" descr=""/>
          <p:cNvPicPr/>
          <p:nvPr/>
        </p:nvPicPr>
        <p:blipFill>
          <a:blip r:embed="rId3"/>
          <a:stretch/>
        </p:blipFill>
        <p:spPr>
          <a:xfrm>
            <a:off x="514440" y="6014880"/>
            <a:ext cx="8629560" cy="2797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7C9B1-7028-4670-B77E-4B9DAE1A895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C2A7E-15CA-41F7-80AB-BD93B8489CB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直接连接符 6" descr=""/>
          <p:cNvPicPr/>
          <p:nvPr/>
        </p:nvPicPr>
        <p:blipFill>
          <a:blip r:embed="rId3"/>
          <a:stretch/>
        </p:blipFill>
        <p:spPr>
          <a:xfrm>
            <a:off x="514440" y="5843520"/>
            <a:ext cx="8629560" cy="28116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1761E-1212-4935-A09F-65B68145E22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5F1A9-45EF-4582-A904-47802318DF8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01EA1-47C2-45A0-B382-DCDA9480A50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WordArt 24"/>
          <p:cNvSpPr txBox="1"/>
          <p:nvPr/>
        </p:nvSpPr>
        <p:spPr>
          <a:xfrm>
            <a:off x="714240" y="1125360"/>
            <a:ext cx="3684600" cy="155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中宋"/>
              </a:rPr>
              <a:t>母鸡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1116000" y="2914560"/>
            <a:ext cx="28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华文楷体"/>
                <a:ea typeface="华文楷体"/>
              </a:rPr>
              <a:t>老   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4" descr="图片5"/>
          <p:cNvPicPr/>
          <p:nvPr/>
        </p:nvPicPr>
        <p:blipFill>
          <a:blip r:embed="rId4"/>
          <a:stretch/>
        </p:blipFill>
        <p:spPr>
          <a:xfrm>
            <a:off x="4727520" y="907920"/>
            <a:ext cx="3805200" cy="254952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1" descr=""/>
          <p:cNvPicPr/>
          <p:nvPr/>
        </p:nvPicPr>
        <p:blipFill>
          <a:blip r:embed="rId5"/>
          <a:stretch/>
        </p:blipFill>
        <p:spPr>
          <a:xfrm>
            <a:off x="654120" y="3583080"/>
            <a:ext cx="3727440" cy="2484360"/>
          </a:xfrm>
          <a:prstGeom prst="rect">
            <a:avLst/>
          </a:prstGeom>
          <a:ln w="0">
            <a:noFill/>
          </a:ln>
        </p:spPr>
      </p:pic>
      <p:sp>
        <p:nvSpPr>
          <p:cNvPr id="345" name="矩形 5"/>
          <p:cNvSpPr/>
          <p:nvPr/>
        </p:nvSpPr>
        <p:spPr>
          <a:xfrm>
            <a:off x="4132080" y="5661000"/>
            <a:ext cx="4852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4"/>
          <p:cNvSpPr/>
          <p:nvPr/>
        </p:nvSpPr>
        <p:spPr>
          <a:xfrm>
            <a:off x="539640" y="83664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华文楷体"/>
                <a:ea typeface="华文楷体"/>
              </a:rPr>
              <a:t>    </a:t>
            </a:r>
            <a:r>
              <a:rPr b="1" lang="zh-CN" sz="3600" spc="-1" strike="noStrike">
                <a:solidFill>
                  <a:srgbClr val="008000"/>
                </a:solidFill>
                <a:latin typeface="华文楷体"/>
                <a:ea typeface="华文楷体"/>
              </a:rPr>
              <a:t>一只鸟儿飞过，或是什么东西响了一声，它立刻警戒起来，歪着头儿听；挺着声儿预备作战；看看前，看看后，咕咕地警告鸡雏要马上集合到它身边来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4"/>
          <p:cNvSpPr/>
          <p:nvPr/>
        </p:nvSpPr>
        <p:spPr>
          <a:xfrm>
            <a:off x="2195640" y="436572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负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4" descr="母鸡"/>
          <p:cNvPicPr/>
          <p:nvPr/>
        </p:nvPicPr>
        <p:blipFill>
          <a:blip r:embed="rId2"/>
          <a:stretch/>
        </p:blipFill>
        <p:spPr>
          <a:xfrm>
            <a:off x="3635280" y="3282840"/>
            <a:ext cx="550872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4"/>
          <p:cNvSpPr/>
          <p:nvPr/>
        </p:nvSpPr>
        <p:spPr>
          <a:xfrm>
            <a:off x="395280" y="0"/>
            <a:ext cx="813744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      </a:t>
            </a:r>
            <a:r>
              <a:rPr b="1" lang="zh-CN" sz="3600" spc="-1" strike="noStrike">
                <a:solidFill>
                  <a:srgbClr val="008000"/>
                </a:solidFill>
                <a:latin typeface="华文楷体"/>
                <a:ea typeface="华文楷体"/>
              </a:rPr>
              <a:t>当它发现了一点可吃的东西，就咕咕地紧叫，啄一啄那个东西，马上便放下，叫它的儿女吃。结果，每一只鸡雏的肚子都圆圆地下垂，像刚装了一两个汤圆儿似的，它自己却消瘦了许多。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-757080" y="44370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隶书"/>
              </a:rPr>
              <a:t>                      </a:t>
            </a:r>
            <a:r>
              <a:rPr b="1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慈 爱</a:t>
            </a:r>
            <a:r>
              <a:rPr b="1" lang="zh-CN" sz="8800" spc="-1" strike="noStrike">
                <a:solidFill>
                  <a:srgbClr val="008000"/>
                </a:solidFill>
                <a:latin typeface="华文楷体"/>
                <a:ea typeface="华文楷体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4" descr="图片5"/>
          <p:cNvPicPr/>
          <p:nvPr/>
        </p:nvPicPr>
        <p:blipFill>
          <a:blip r:embed="rId2"/>
          <a:stretch/>
        </p:blipFill>
        <p:spPr>
          <a:xfrm>
            <a:off x="4140360" y="3765600"/>
            <a:ext cx="500364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4"/>
          <p:cNvSpPr/>
          <p:nvPr/>
        </p:nvSpPr>
        <p:spPr>
          <a:xfrm>
            <a:off x="539640" y="1052640"/>
            <a:ext cx="80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华文楷体"/>
                <a:ea typeface="华文楷体"/>
              </a:rPr>
              <a:t>      </a:t>
            </a:r>
            <a:r>
              <a:rPr b="1" lang="zh-CN" sz="3600" spc="-1" strike="noStrike">
                <a:solidFill>
                  <a:srgbClr val="008000"/>
                </a:solidFill>
                <a:latin typeface="华文楷体"/>
                <a:ea typeface="华文楷体"/>
              </a:rPr>
              <a:t>假如有别的大鸡来抢食，它一定出击，把它们赶出老远，连大公鸡也怕它三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5"/>
          <p:cNvSpPr/>
          <p:nvPr/>
        </p:nvSpPr>
        <p:spPr>
          <a:xfrm>
            <a:off x="-684360" y="3645000"/>
            <a:ext cx="7705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66"/>
                </a:solidFill>
                <a:latin typeface="Arial"/>
                <a:ea typeface="隶书"/>
              </a:rPr>
              <a:t>        </a:t>
            </a:r>
            <a:r>
              <a:rPr b="1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勇 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4" descr="母鸡"/>
          <p:cNvPicPr/>
          <p:nvPr/>
        </p:nvPicPr>
        <p:blipFill>
          <a:blip r:embed="rId2"/>
          <a:stretch/>
        </p:blipFill>
        <p:spPr>
          <a:xfrm>
            <a:off x="3564000" y="2924280"/>
            <a:ext cx="558000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4"/>
          <p:cNvSpPr/>
          <p:nvPr/>
        </p:nvSpPr>
        <p:spPr>
          <a:xfrm>
            <a:off x="611280" y="981000"/>
            <a:ext cx="75610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华文楷体"/>
                <a:ea typeface="华文楷体"/>
              </a:rPr>
              <a:t>      </a:t>
            </a:r>
            <a:r>
              <a:rPr b="1" lang="zh-CN" sz="3600" spc="-1" strike="noStrike">
                <a:solidFill>
                  <a:srgbClr val="008000"/>
                </a:solidFill>
                <a:latin typeface="华文楷体"/>
                <a:ea typeface="华文楷体"/>
              </a:rPr>
              <a:t>它教鸡雏们啄食、掘土，用土洗澡，一天教多少多少次。</a:t>
            </a: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5"/>
          <p:cNvSpPr/>
          <p:nvPr/>
        </p:nvSpPr>
        <p:spPr>
          <a:xfrm>
            <a:off x="-396720" y="3429000"/>
            <a:ext cx="676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66"/>
                </a:solidFill>
                <a:latin typeface="Arial"/>
                <a:ea typeface="隶书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辛 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4" descr="图片5"/>
          <p:cNvPicPr/>
          <p:nvPr/>
        </p:nvPicPr>
        <p:blipFill>
          <a:blip r:embed="rId2"/>
          <a:stretch/>
        </p:blipFill>
        <p:spPr>
          <a:xfrm>
            <a:off x="3851280" y="3384720"/>
            <a:ext cx="5292720" cy="34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3"/>
          <p:cNvSpPr/>
          <p:nvPr/>
        </p:nvSpPr>
        <p:spPr>
          <a:xfrm>
            <a:off x="1332000" y="69228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8000"/>
                </a:solidFill>
                <a:latin typeface="华文楷体"/>
                <a:ea typeface="华文楷体"/>
              </a:rPr>
              <a:t>一个母亲必定就是一位英雄。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4" descr="母鸡"/>
          <p:cNvPicPr/>
          <p:nvPr/>
        </p:nvPicPr>
        <p:blipFill>
          <a:blip r:embed="rId2"/>
          <a:stretch/>
        </p:blipFill>
        <p:spPr>
          <a:xfrm>
            <a:off x="1332000" y="1916280"/>
            <a:ext cx="685008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3"/>
          <p:cNvSpPr/>
          <p:nvPr/>
        </p:nvSpPr>
        <p:spPr>
          <a:xfrm>
            <a:off x="1116000" y="836640"/>
            <a:ext cx="72723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华文楷体"/>
                <a:ea typeface="华文楷体"/>
              </a:rPr>
              <a:t>思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r>
              <a:rPr b="1" lang="zh-CN" sz="3600" spc="-1" strike="noStrike">
                <a:solidFill>
                  <a:srgbClr val="008000"/>
                </a:solidFill>
                <a:latin typeface="华文楷体"/>
                <a:ea typeface="华文楷体"/>
              </a:rPr>
              <a:t>在老舍先生的笔下，母鸡前后变化怎么这么大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4" descr="图片5"/>
          <p:cNvPicPr/>
          <p:nvPr/>
        </p:nvPicPr>
        <p:blipFill>
          <a:blip r:embed="rId2"/>
          <a:stretch/>
        </p:blipFill>
        <p:spPr>
          <a:xfrm>
            <a:off x="2268360" y="3284640"/>
            <a:ext cx="489600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3"/>
          <p:cNvSpPr/>
          <p:nvPr/>
        </p:nvSpPr>
        <p:spPr>
          <a:xfrm>
            <a:off x="1042920" y="1125360"/>
            <a:ext cx="6840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8000"/>
                </a:solidFill>
                <a:latin typeface="Arial"/>
                <a:ea typeface="黑体"/>
              </a:rPr>
              <a:t>总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8000"/>
                </a:solidFill>
                <a:latin typeface="华文楷体"/>
                <a:ea typeface="华文楷体"/>
              </a:rPr>
              <a:t>是呀，做了母亲不仅要把孩子养大，还要交给他生活的本领。她要倾其所有的爱去对孩子，自己再苦再累也毫无怨言。这就是伟大的母亲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e3b30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4e3b3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ad1f1f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ad1f1f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4e3b3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e3b3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4e3b3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3b3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4e3b3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e3b3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e3b3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e3b3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4e3b3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ad1f1f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ad1f1f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4e3b3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ad1f1f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ad1f1f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4e3b3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ad1f1f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ad1f1f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4e3b3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ad1f1f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ad1f1f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4e3b3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ad1f1f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ad1f1f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4e3b3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ad1f1f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ad1f1f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4e3b3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4e3b3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4e3b3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4e3b3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4e3b3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4e3b3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3b3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3b3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3b3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3b3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3b3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02E91-EE40-4975-A74B-AA160A0B7B1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4"/>
          <p:cNvSpPr/>
          <p:nvPr/>
        </p:nvSpPr>
        <p:spPr>
          <a:xfrm>
            <a:off x="468360" y="907920"/>
            <a:ext cx="8820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华文楷体"/>
                <a:ea typeface="华文楷体"/>
              </a:rPr>
              <a:t>学习目标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华文楷体"/>
                <a:ea typeface="华文楷体"/>
              </a:rPr>
              <a:t>1.</a:t>
            </a:r>
            <a:r>
              <a:rPr b="1" lang="zh-CN" sz="3600" spc="-1" strike="noStrike">
                <a:solidFill>
                  <a:srgbClr val="008000"/>
                </a:solidFill>
                <a:latin typeface="华文楷体"/>
                <a:ea typeface="华文楷体"/>
              </a:rPr>
              <a:t>认识“怨、抗、侮”等</a:t>
            </a:r>
            <a:r>
              <a:rPr b="1" lang="en-US" sz="3600" spc="-1" strike="noStrike">
                <a:solidFill>
                  <a:srgbClr val="008000"/>
                </a:solidFill>
                <a:latin typeface="华文楷体"/>
                <a:ea typeface="华文楷体"/>
              </a:rPr>
              <a:t>7</a:t>
            </a:r>
            <a:r>
              <a:rPr b="1" lang="zh-CN" sz="3600" spc="-1" strike="noStrike">
                <a:solidFill>
                  <a:srgbClr val="008000"/>
                </a:solidFill>
                <a:latin typeface="华文楷体"/>
                <a:ea typeface="华文楷体"/>
              </a:rPr>
              <a:t>个生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华文楷体"/>
                <a:ea typeface="华文楷体"/>
              </a:rPr>
              <a:t>2.</a:t>
            </a:r>
            <a:r>
              <a:rPr b="1" lang="zh-CN" sz="3600" spc="-1" strike="noStrike">
                <a:solidFill>
                  <a:srgbClr val="008000"/>
                </a:solidFill>
                <a:latin typeface="华文楷体"/>
                <a:ea typeface="华文楷体"/>
              </a:rPr>
              <a:t>能正确、流利朗读课文，能说出作者对母鸡的感情变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华文楷体"/>
                <a:ea typeface="华文楷体"/>
              </a:rPr>
              <a:t>3.</a:t>
            </a:r>
            <a:r>
              <a:rPr b="1" lang="zh-CN" sz="3600" spc="-1" strike="noStrike">
                <a:solidFill>
                  <a:srgbClr val="008000"/>
                </a:solidFill>
                <a:latin typeface="华文楷体"/>
                <a:ea typeface="华文楷体"/>
              </a:rPr>
              <a:t>能联系实际，感受母爱，学会感恩母亲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文本框 1"/>
          <p:cNvSpPr/>
          <p:nvPr/>
        </p:nvSpPr>
        <p:spPr>
          <a:xfrm>
            <a:off x="1187280" y="266760"/>
            <a:ext cx="598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4"/>
          <p:cNvSpPr/>
          <p:nvPr/>
        </p:nvSpPr>
        <p:spPr>
          <a:xfrm>
            <a:off x="971640" y="1341360"/>
            <a:ext cx="763416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00"/>
                </a:solidFill>
                <a:latin typeface="华文楷体"/>
                <a:ea typeface="华文楷体"/>
              </a:rPr>
              <a:t>初读课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00"/>
                </a:solidFill>
                <a:latin typeface="华文楷体"/>
                <a:ea typeface="华文楷体"/>
              </a:rPr>
              <a:t>       </a:t>
            </a:r>
            <a:r>
              <a:rPr b="1" lang="zh-CN" sz="5400" spc="-1" strike="noStrike">
                <a:solidFill>
                  <a:srgbClr val="008000"/>
                </a:solidFill>
                <a:latin typeface="华文楷体"/>
                <a:ea typeface="华文楷体"/>
              </a:rPr>
              <a:t>大声朗读课文一遍，标出自然段、生字、不理解的词。不理解的词可联系上下文或查字典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4"/>
          <p:cNvSpPr/>
          <p:nvPr/>
        </p:nvSpPr>
        <p:spPr>
          <a:xfrm>
            <a:off x="826920" y="907920"/>
            <a:ext cx="777744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华文楷体"/>
                <a:ea typeface="华文楷体"/>
              </a:rPr>
              <a:t>检查自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华文楷体"/>
                <a:ea typeface="华文楷体"/>
              </a:rPr>
              <a:t>怨    抗     侮    绩     凄      慈    辛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华文楷体"/>
                <a:ea typeface="华文楷体"/>
              </a:rPr>
              <a:t>如怨如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华文楷体"/>
                <a:ea typeface="华文楷体"/>
              </a:rPr>
              <a:t>趁其不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6"/>
          <p:cNvSpPr/>
          <p:nvPr/>
        </p:nvSpPr>
        <p:spPr>
          <a:xfrm>
            <a:off x="3071880" y="4643280"/>
            <a:ext cx="56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形容没完没了地抱怨，诉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7"/>
          <p:cNvSpPr/>
          <p:nvPr/>
        </p:nvSpPr>
        <p:spPr>
          <a:xfrm>
            <a:off x="3214800" y="557208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趁人不防备的时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8"/>
          <p:cNvSpPr/>
          <p:nvPr/>
        </p:nvSpPr>
        <p:spPr>
          <a:xfrm>
            <a:off x="826920" y="2276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yuà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9"/>
          <p:cNvSpPr/>
          <p:nvPr/>
        </p:nvSpPr>
        <p:spPr>
          <a:xfrm>
            <a:off x="1857240" y="228600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kà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0"/>
          <p:cNvSpPr/>
          <p:nvPr/>
        </p:nvSpPr>
        <p:spPr>
          <a:xfrm>
            <a:off x="3059280" y="2276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w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1"/>
          <p:cNvSpPr/>
          <p:nvPr/>
        </p:nvSpPr>
        <p:spPr>
          <a:xfrm>
            <a:off x="4211640" y="2276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j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2"/>
          <p:cNvSpPr/>
          <p:nvPr/>
        </p:nvSpPr>
        <p:spPr>
          <a:xfrm>
            <a:off x="5219640" y="2276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q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3"/>
          <p:cNvSpPr/>
          <p:nvPr/>
        </p:nvSpPr>
        <p:spPr>
          <a:xfrm>
            <a:off x="6443640" y="2276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4"/>
          <p:cNvSpPr/>
          <p:nvPr/>
        </p:nvSpPr>
        <p:spPr>
          <a:xfrm>
            <a:off x="7524720" y="2276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xī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矩形 4"/>
          <p:cNvSpPr/>
          <p:nvPr/>
        </p:nvSpPr>
        <p:spPr>
          <a:xfrm>
            <a:off x="2484360" y="2671920"/>
            <a:ext cx="73512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4"/>
          <p:cNvSpPr/>
          <p:nvPr/>
        </p:nvSpPr>
        <p:spPr>
          <a:xfrm>
            <a:off x="611280" y="1052640"/>
            <a:ext cx="8064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华文楷体"/>
                <a:ea typeface="华文楷体"/>
              </a:rPr>
              <a:t>小组讨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华文楷体"/>
                <a:ea typeface="华文楷体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华文楷体"/>
                <a:ea typeface="华文楷体"/>
              </a:rPr>
              <a:t>       </a:t>
            </a:r>
            <a:r>
              <a:rPr b="1" lang="zh-CN" sz="4400" spc="-1" strike="noStrike">
                <a:solidFill>
                  <a:srgbClr val="008000"/>
                </a:solidFill>
                <a:latin typeface="华文楷体"/>
                <a:ea typeface="华文楷体"/>
              </a:rPr>
              <a:t>现在请同学们快速读一遍课文，看一看作者对母鸡的态度。（自己先思考，再小组讨论。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1500120" y="5000760"/>
            <a:ext cx="62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讨厌       不敢讨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3"/>
          <p:cNvSpPr/>
          <p:nvPr/>
        </p:nvSpPr>
        <p:spPr>
          <a:xfrm>
            <a:off x="826920" y="1125360"/>
            <a:ext cx="76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</a:t>
            </a:r>
            <a:r>
              <a:rPr b="1" lang="zh-CN" sz="4800" spc="-1" strike="noStrike">
                <a:solidFill>
                  <a:srgbClr val="008000"/>
                </a:solidFill>
                <a:latin typeface="华文楷体"/>
                <a:ea typeface="华文楷体"/>
              </a:rPr>
              <a:t>作者前后对母鸡态度发生了很大变化，课文内容也发生了很大变化，作者用了一个过渡段把内容完整地结合在了一起。现在请同学们快速找一下，在文中标示出来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3"/>
          <p:cNvSpPr/>
          <p:nvPr/>
        </p:nvSpPr>
        <p:spPr>
          <a:xfrm>
            <a:off x="468360" y="1197000"/>
            <a:ext cx="8424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华文楷体"/>
                <a:ea typeface="华文楷体"/>
              </a:rPr>
              <a:t>再读课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华文楷体"/>
                <a:ea typeface="华文楷体"/>
              </a:rPr>
              <a:t>       </a:t>
            </a:r>
            <a:r>
              <a:rPr b="1" lang="zh-CN" sz="4000" spc="-1" strike="noStrike">
                <a:solidFill>
                  <a:srgbClr val="008000"/>
                </a:solidFill>
                <a:latin typeface="华文楷体"/>
                <a:ea typeface="华文楷体"/>
              </a:rPr>
              <a:t>过渡段把课文分为两部分，前三段写我讨厌母鸡，后面写我不敢讨厌母鸡。现在，请大家来解决“我讨厌母鸡的原因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5"/>
          <p:cNvSpPr/>
          <p:nvPr/>
        </p:nvSpPr>
        <p:spPr>
          <a:xfrm>
            <a:off x="571680" y="4929120"/>
            <a:ext cx="81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叫声烦人    欺软怕硬     炫耀自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3"/>
          <p:cNvSpPr/>
          <p:nvPr/>
        </p:nvSpPr>
        <p:spPr>
          <a:xfrm>
            <a:off x="826920" y="119700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</a:t>
            </a:r>
            <a:r>
              <a:rPr b="1" lang="zh-CN" sz="3600" spc="-1" strike="noStrike">
                <a:solidFill>
                  <a:srgbClr val="008000"/>
                </a:solidFill>
                <a:latin typeface="华文楷体"/>
                <a:ea typeface="华文楷体"/>
              </a:rPr>
              <a:t>看来作者的确讨厌母鸡，后来为什么又不敢讨厌母鸡了呢？接下来让我们继续解决“我”不敢讨厌母鸡的原因，读后面的内容，找一找，标一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4"/>
          <p:cNvSpPr/>
          <p:nvPr/>
        </p:nvSpPr>
        <p:spPr>
          <a:xfrm>
            <a:off x="785880" y="400068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它负责、慈爱、勇敢、辛苦，因为它有了一群鸡雏。它伟大，因为它是鸡母亲。一个母亲必定就是一位英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3"/>
          <p:cNvSpPr/>
          <p:nvPr/>
        </p:nvSpPr>
        <p:spPr>
          <a:xfrm>
            <a:off x="1042920" y="981000"/>
            <a:ext cx="7561440" cy="24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华文楷体"/>
                <a:ea typeface="华文楷体"/>
              </a:rPr>
              <a:t>合作探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华文楷体"/>
                <a:ea typeface="华文楷体"/>
              </a:rPr>
              <a:t>             </a:t>
            </a:r>
            <a:r>
              <a:rPr b="1" lang="en-US" sz="4000" spc="-1" strike="noStrike">
                <a:solidFill>
                  <a:srgbClr val="008000"/>
                </a:solidFill>
                <a:latin typeface="华文楷体"/>
                <a:ea typeface="华文楷体"/>
              </a:rPr>
              <a:t>1.</a:t>
            </a:r>
            <a:r>
              <a:rPr b="1" lang="zh-CN" sz="4000" spc="-1" strike="noStrike">
                <a:solidFill>
                  <a:srgbClr val="008000"/>
                </a:solidFill>
                <a:latin typeface="华文楷体"/>
                <a:ea typeface="华文楷体"/>
              </a:rPr>
              <a:t>母鸡负责、慈爱、勇敢、辛苦，是从哪些段落体现出来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4"/>
          <p:cNvSpPr/>
          <p:nvPr/>
        </p:nvSpPr>
        <p:spPr>
          <a:xfrm>
            <a:off x="2571840" y="328608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（</a:t>
            </a:r>
            <a:r>
              <a:rPr b="0" lang="en-US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5 —— 8</a:t>
            </a:r>
            <a:r>
              <a:rPr b="0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自然段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5"/>
          <p:cNvSpPr/>
          <p:nvPr/>
        </p:nvSpPr>
        <p:spPr>
          <a:xfrm>
            <a:off x="1258920" y="4005360"/>
            <a:ext cx="7129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华文楷体"/>
                <a:ea typeface="华文楷体"/>
              </a:rPr>
              <a:t>    </a:t>
            </a:r>
            <a:r>
              <a:rPr b="1" lang="en-US" sz="4000" spc="-1" strike="noStrike">
                <a:solidFill>
                  <a:srgbClr val="008000"/>
                </a:solidFill>
                <a:latin typeface="华文楷体"/>
                <a:ea typeface="华文楷体"/>
              </a:rPr>
              <a:t>2.</a:t>
            </a:r>
            <a:r>
              <a:rPr b="1" lang="zh-CN" sz="4000" spc="-1" strike="noStrike">
                <a:solidFill>
                  <a:srgbClr val="008000"/>
                </a:solidFill>
                <a:latin typeface="华文楷体"/>
                <a:ea typeface="华文楷体"/>
              </a:rPr>
              <a:t>请各小组选一段研读，看你从哪些词语或句子里体会到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13:48:3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42:18Z</dcterms:modified>
  <cp:revision>7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