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0B26-1723-4A3E-889A-3A3B641814AB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1C8B-BEC3-4801-9F83-25362F587CCD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BB3-9007-474D-86D3-2797E62A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C30-1FB7-4351-ADB9-C388F787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E82-B119-4F7B-8FBD-B5C924E6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544-51EF-4642-9421-8910A07C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CEDA-1954-4DF5-B35D-95A79F2C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2BF6-D393-4963-B625-B9C44891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6EE6-18D2-4895-97A8-5776BFCD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29BA-6EA8-4492-9D9D-D1CB768D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0468-5E74-46DA-9298-1243F922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C3C7-0CFF-4B77-903F-49B601C0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F626-6647-489E-9965-4C82E756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1CE-7123-40C3-84AF-7D1F98ED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C6EB-8F24-4BB0-ABA0-C0FFC381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C554-56A0-483D-B9EC-2E9725DB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9B15-A070-4323-8B1F-C39F8FAA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DC95-E34B-4FB2-9375-6A44BD2D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BAC5-AEE6-49EA-A6BA-809D955C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C24-AB45-4D4F-B1FB-A8DCA816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7A3-2E4B-4109-8459-6EE4153A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09CF-5802-4A87-A852-4F73F272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384-1D4D-4A98-A623-12107219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A01-4DD9-4EC6-8D0E-1A50841A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2FB-DC6E-417F-B288-BBAD7C03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C14-3243-40AC-A968-D037D5A9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BCE8-3A06-41EE-B529-E874E486E5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32D4-0980-40C6-9A0F-3A9B16CD876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4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200852723294728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3"/>
          <p:cNvSpPr txBox="1"/>
          <p:nvPr/>
        </p:nvSpPr>
        <p:spPr>
          <a:xfrm>
            <a:off x="2535120" y="2852640"/>
            <a:ext cx="3810240" cy="15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华文新魏"/>
              </a:rPr>
              <a:t>母鸡</a:t>
            </a:r>
            <a:endParaRPr b="1" lang="en-US" sz="6000" spc="-1" strike="noStrike">
              <a:ln w="0">
                <a:noFill/>
              </a:ln>
              <a:solidFill>
                <a:srgbClr val="c0000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91" name="矩形 8" descr=""/>
          <p:cNvPicPr/>
          <p:nvPr/>
        </p:nvPicPr>
        <p:blipFill>
          <a:blip r:embed="rId2"/>
          <a:stretch/>
        </p:blipFill>
        <p:spPr>
          <a:xfrm>
            <a:off x="1859040" y="5732640"/>
            <a:ext cx="5500440" cy="4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2010526118573885"/>
          <p:cNvPicPr/>
          <p:nvPr/>
        </p:nvPicPr>
        <p:blipFill>
          <a:blip r:embed="rId1"/>
          <a:stretch/>
        </p:blipFill>
        <p:spPr>
          <a:xfrm>
            <a:off x="0" y="0"/>
            <a:ext cx="10044000" cy="8082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母鸡</a:t>
            </a:r>
            <a:endParaRPr b="0" lang="en-US" sz="6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134136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一向讨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无病呻吟    欺软怕硬   拼命炫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不敢再讨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负责     慈爱    勇敢    辛苦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733920" y="1125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宋体"/>
              </a:rPr>
              <a:t>先抑后扬的写作手法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11280" y="1052640"/>
            <a:ext cx="8064360" cy="31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男女同学分段朗读第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至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8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自然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讨论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作者分别通过哪些具体事例写母鸡</a:t>
            </a:r>
            <a:r>
              <a:rPr b="1" lang="zh-CN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1" action="ppaction://hlinksldjump"/>
              </a:rPr>
              <a:t>负责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2" action="ppaction://hlinksldjump"/>
              </a:rPr>
              <a:t>慈爱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3" action="ppaction://hlinksldjump"/>
              </a:rPr>
              <a:t>勇敢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4" action="ppaction://hlinksldjump"/>
              </a:rPr>
              <a:t>辛苦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755640" y="83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只鸟儿飞过，或是什么东西响了一声，它立刻警戒起来，歪着头儿听；挺着声儿预备作战；看看前，看看后，咕咕地警告鸡雏要马上集合到它身边来！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68360" y="3716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                  </a:t>
            </a:r>
            <a:r>
              <a:rPr b="1" lang="zh-CN" sz="8800" spc="-1" strike="noStrike">
                <a:solidFill>
                  <a:srgbClr val="008000"/>
                </a:solidFill>
                <a:latin typeface="Arial"/>
                <a:ea typeface="隶书"/>
              </a:rPr>
              <a:t>负 责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5">
            <a:hlinkClick r:id="" action="ppaction://hlinkshowjump?jump=nextslide"/>
          </p:cNvPr>
          <p:cNvSpPr/>
          <p:nvPr/>
        </p:nvSpPr>
        <p:spPr>
          <a:xfrm>
            <a:off x="7451640" y="5805360"/>
            <a:ext cx="1008000" cy="5763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母鸡"/>
          <p:cNvPicPr/>
          <p:nvPr/>
        </p:nvPicPr>
        <p:blipFill>
          <a:blip r:embed="rId1"/>
          <a:stretch/>
        </p:blipFill>
        <p:spPr>
          <a:xfrm>
            <a:off x="1258920" y="1052640"/>
            <a:ext cx="6850080" cy="444492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3">
            <a:hlinkClick r:id="rId2" action="ppaction://hlinksldjump"/>
          </p:cNvPr>
          <p:cNvSpPr/>
          <p:nvPr/>
        </p:nvSpPr>
        <p:spPr>
          <a:xfrm>
            <a:off x="7667640" y="602136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395280" y="765000"/>
            <a:ext cx="813744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当它发现了一点可吃的东西，就咕咕地紧叫，啄一啄那个东西，马上便放下，叫它的儿女吃。结果，每一只鸡雏的肚子都圆圆地下垂，像刚装了一两个汤圆儿似的，它自己却消瘦了许多。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0" y="4221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                      </a:t>
            </a:r>
            <a:r>
              <a:rPr b="1" lang="zh-CN" sz="8800" spc="-1" strike="noStrike">
                <a:solidFill>
                  <a:srgbClr val="008000"/>
                </a:solidFill>
                <a:latin typeface="Arial"/>
                <a:ea typeface="隶书"/>
              </a:rPr>
              <a:t>慈 爱 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>
            <a:hlinkClick r:id="" action="ppaction://hlinkshowjump?jump=nextslide"/>
          </p:cNvPr>
          <p:cNvSpPr/>
          <p:nvPr/>
        </p:nvSpPr>
        <p:spPr>
          <a:xfrm>
            <a:off x="7308720" y="6093000"/>
            <a:ext cx="1150920" cy="5047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9235" h="21600">
                <a:moveTo>
                  <a:pt x="0" y="0"/>
                </a:moveTo>
                <a:lnTo>
                  <a:pt x="49235" y="0"/>
                </a:lnTo>
                <a:lnTo>
                  <a:pt x="49235" y="21600"/>
                </a:lnTo>
                <a:lnTo>
                  <a:pt x="0" y="21600"/>
                </a:lnTo>
                <a:close/>
              </a:path>
              <a:path fill="lightenLess" w="49235" h="21600">
                <a:moveTo>
                  <a:pt x="0" y="0"/>
                </a:moveTo>
                <a:lnTo>
                  <a:pt x="49235" y="0"/>
                </a:lnTo>
                <a:lnTo>
                  <a:pt x="47835" y="1400"/>
                </a:lnTo>
                <a:lnTo>
                  <a:pt x="1400" y="1400"/>
                </a:lnTo>
                <a:close/>
              </a:path>
              <a:path fill="darken" w="49235" h="21600">
                <a:moveTo>
                  <a:pt x="49235" y="0"/>
                </a:moveTo>
                <a:lnTo>
                  <a:pt x="49235" y="21600"/>
                </a:lnTo>
                <a:lnTo>
                  <a:pt x="47835" y="20200"/>
                </a:lnTo>
                <a:lnTo>
                  <a:pt x="47835" y="1400"/>
                </a:lnTo>
                <a:close/>
              </a:path>
              <a:path fill="darkenLess" w="49235" h="21600">
                <a:moveTo>
                  <a:pt x="49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5" y="20200"/>
                </a:lnTo>
                <a:close/>
              </a:path>
              <a:path fill="lighten" w="49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35" h="21600">
                <a:moveTo>
                  <a:pt x="17611" y="3794"/>
                </a:moveTo>
                <a:lnTo>
                  <a:pt x="31624" y="10800"/>
                </a:lnTo>
                <a:lnTo>
                  <a:pt x="17611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图片5"/>
          <p:cNvPicPr/>
          <p:nvPr/>
        </p:nvPicPr>
        <p:blipFill>
          <a:blip r:embed="rId1"/>
          <a:stretch/>
        </p:blipFill>
        <p:spPr>
          <a:xfrm>
            <a:off x="1763640" y="1268280"/>
            <a:ext cx="5543640" cy="39499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>
            <a:hlinkClick r:id="" action="ppaction://hlinkshowjump?jump=nextslide"/>
          </p:cNvPr>
          <p:cNvSpPr/>
          <p:nvPr/>
        </p:nvSpPr>
        <p:spPr>
          <a:xfrm>
            <a:off x="7308720" y="5877000"/>
            <a:ext cx="1295640" cy="647640"/>
          </a:xfrm>
          <a:custGeom>
            <a:avLst/>
            <a:gdLst>
              <a:gd name="textAreaLeft" fmla="*/ 41760 w 1295640"/>
              <a:gd name="textAreaRight" fmla="*/ 1253880 w 1295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611280" y="141300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宋体"/>
              </a:rPr>
              <a:t>想象“咕咕地紧叫”好象是在说什么？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宋体"/>
              </a:rPr>
              <a:t>假如你是这只母鸡，你会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宋体"/>
              </a:rPr>
              <a:t>叫些什么？谁来试试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3">
            <a:hlinkClick r:id="rId1" action="ppaction://hlinksldjump"/>
          </p:cNvPr>
          <p:cNvSpPr/>
          <p:nvPr/>
        </p:nvSpPr>
        <p:spPr>
          <a:xfrm>
            <a:off x="7236000" y="5661000"/>
            <a:ext cx="1223640" cy="719280"/>
          </a:xfrm>
          <a:custGeom>
            <a:avLst/>
            <a:gdLst>
              <a:gd name="textAreaLeft" fmla="*/ 46440 w 1223640"/>
              <a:gd name="textAreaRight" fmla="*/ 1177200 w 122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6738" h="21600">
                <a:moveTo>
                  <a:pt x="0" y="0"/>
                </a:moveTo>
                <a:lnTo>
                  <a:pt x="36738" y="0"/>
                </a:lnTo>
                <a:lnTo>
                  <a:pt x="36738" y="21600"/>
                </a:lnTo>
                <a:lnTo>
                  <a:pt x="0" y="21600"/>
                </a:lnTo>
                <a:close/>
              </a:path>
              <a:path fill="lightenLess" w="36738" h="21600">
                <a:moveTo>
                  <a:pt x="0" y="0"/>
                </a:moveTo>
                <a:lnTo>
                  <a:pt x="36738" y="0"/>
                </a:lnTo>
                <a:lnTo>
                  <a:pt x="35338" y="1400"/>
                </a:lnTo>
                <a:lnTo>
                  <a:pt x="1400" y="1400"/>
                </a:lnTo>
                <a:close/>
              </a:path>
              <a:path fill="darken" w="36738" h="21600">
                <a:moveTo>
                  <a:pt x="36738" y="0"/>
                </a:moveTo>
                <a:lnTo>
                  <a:pt x="36738" y="21600"/>
                </a:lnTo>
                <a:lnTo>
                  <a:pt x="35338" y="20200"/>
                </a:lnTo>
                <a:lnTo>
                  <a:pt x="35338" y="1400"/>
                </a:lnTo>
                <a:close/>
              </a:path>
              <a:path fill="darkenLess" w="36738" h="21600">
                <a:moveTo>
                  <a:pt x="36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38" y="20200"/>
                </a:lnTo>
                <a:close/>
              </a:path>
              <a:path fill="lighten" w="36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38" h="21600">
                <a:moveTo>
                  <a:pt x="11363" y="3794"/>
                </a:moveTo>
                <a:lnTo>
                  <a:pt x="25376" y="10800"/>
                </a:lnTo>
                <a:lnTo>
                  <a:pt x="11363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539640" y="105264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假如有别的大鸡来抢食，它一定出击，把它们赶出老远，连大公鸡也怕它三分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39640" y="3573360"/>
            <a:ext cx="770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Arial"/>
                <a:ea typeface="隶书"/>
              </a:rPr>
              <a:t>        </a:t>
            </a:r>
            <a:r>
              <a:rPr b="1" lang="zh-CN" sz="8800" spc="-1" strike="noStrike">
                <a:solidFill>
                  <a:srgbClr val="008000"/>
                </a:solidFill>
                <a:latin typeface="Arial"/>
                <a:ea typeface="隶书"/>
              </a:rPr>
              <a:t>勇 敢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4">
            <a:hlinkClick r:id="rId1" action="ppaction://hlinksldjump"/>
          </p:cNvPr>
          <p:cNvSpPr/>
          <p:nvPr/>
        </p:nvSpPr>
        <p:spPr>
          <a:xfrm>
            <a:off x="6659640" y="6021360"/>
            <a:ext cx="1368360" cy="50328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8701" h="21600">
                <a:moveTo>
                  <a:pt x="0" y="0"/>
                </a:moveTo>
                <a:lnTo>
                  <a:pt x="58701" y="0"/>
                </a:lnTo>
                <a:lnTo>
                  <a:pt x="58701" y="21600"/>
                </a:lnTo>
                <a:lnTo>
                  <a:pt x="0" y="21600"/>
                </a:lnTo>
                <a:close/>
              </a:path>
              <a:path fill="lightenLess" w="58701" h="21600">
                <a:moveTo>
                  <a:pt x="0" y="0"/>
                </a:moveTo>
                <a:lnTo>
                  <a:pt x="58701" y="0"/>
                </a:lnTo>
                <a:lnTo>
                  <a:pt x="57301" y="1400"/>
                </a:lnTo>
                <a:lnTo>
                  <a:pt x="1400" y="1400"/>
                </a:lnTo>
                <a:close/>
              </a:path>
              <a:path fill="darken" w="58701" h="21600">
                <a:moveTo>
                  <a:pt x="58701" y="0"/>
                </a:moveTo>
                <a:lnTo>
                  <a:pt x="58701" y="21600"/>
                </a:lnTo>
                <a:lnTo>
                  <a:pt x="57301" y="20200"/>
                </a:lnTo>
                <a:lnTo>
                  <a:pt x="57301" y="1400"/>
                </a:lnTo>
                <a:close/>
              </a:path>
              <a:path fill="darkenLess" w="58701" h="21600">
                <a:moveTo>
                  <a:pt x="58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01" y="20200"/>
                </a:lnTo>
                <a:close/>
              </a:path>
              <a:path fill="lighten" w="58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701" h="21600">
                <a:moveTo>
                  <a:pt x="22344" y="3794"/>
                </a:moveTo>
                <a:lnTo>
                  <a:pt x="36357" y="10800"/>
                </a:lnTo>
                <a:lnTo>
                  <a:pt x="22344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611280" y="98100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它教鸡雏们啄食、掘土，用土洗澡，一天教多少多少次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84360" y="3645000"/>
            <a:ext cx="676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Arial"/>
                <a:ea typeface="隶书"/>
              </a:rPr>
              <a:t>       </a:t>
            </a:r>
            <a:r>
              <a:rPr b="1" lang="zh-CN" sz="8800" spc="-1" strike="noStrike">
                <a:solidFill>
                  <a:srgbClr val="008000"/>
                </a:solidFill>
                <a:latin typeface="Arial"/>
                <a:ea typeface="隶书"/>
              </a:rPr>
              <a:t>辛 苦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">
            <a:hlinkClick r:id="" action="ppaction://hlinkshowjump?jump=nextslide"/>
          </p:cNvPr>
          <p:cNvSpPr/>
          <p:nvPr/>
        </p:nvSpPr>
        <p:spPr>
          <a:xfrm>
            <a:off x="6659640" y="6021360"/>
            <a:ext cx="1368360" cy="50328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8701" h="21600">
                <a:moveTo>
                  <a:pt x="0" y="0"/>
                </a:moveTo>
                <a:lnTo>
                  <a:pt x="58701" y="0"/>
                </a:lnTo>
                <a:lnTo>
                  <a:pt x="58701" y="21600"/>
                </a:lnTo>
                <a:lnTo>
                  <a:pt x="0" y="21600"/>
                </a:lnTo>
                <a:close/>
              </a:path>
              <a:path fill="lightenLess" w="58701" h="21600">
                <a:moveTo>
                  <a:pt x="0" y="0"/>
                </a:moveTo>
                <a:lnTo>
                  <a:pt x="58701" y="0"/>
                </a:lnTo>
                <a:lnTo>
                  <a:pt x="57301" y="1400"/>
                </a:lnTo>
                <a:lnTo>
                  <a:pt x="1400" y="1400"/>
                </a:lnTo>
                <a:close/>
              </a:path>
              <a:path fill="darken" w="58701" h="21600">
                <a:moveTo>
                  <a:pt x="58701" y="0"/>
                </a:moveTo>
                <a:lnTo>
                  <a:pt x="58701" y="21600"/>
                </a:lnTo>
                <a:lnTo>
                  <a:pt x="57301" y="20200"/>
                </a:lnTo>
                <a:lnTo>
                  <a:pt x="57301" y="1400"/>
                </a:lnTo>
                <a:close/>
              </a:path>
              <a:path fill="darkenLess" w="58701" h="21600">
                <a:moveTo>
                  <a:pt x="58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01" y="20200"/>
                </a:lnTo>
                <a:close/>
              </a:path>
              <a:path fill="lighten" w="58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701" h="21600">
                <a:moveTo>
                  <a:pt x="22344" y="3794"/>
                </a:moveTo>
                <a:lnTo>
                  <a:pt x="36357" y="10800"/>
                </a:lnTo>
                <a:lnTo>
                  <a:pt x="22344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到下蛋的时候，它差不多是发了狂，恨不得让全世界都知道它这点儿成绩；就是聋子也会被它吵的受不了。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2349360"/>
            <a:ext cx="854064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这是作者夸张的写法，讽刺了母鸡的炫耀。聋子本来是不怕吵的，作者用“就是聋子也会被它吵的受不了”淋漓尽致地表达了讨厌母鸡的情绪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60138edeea8b1102cf534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41200" y="260280"/>
            <a:ext cx="86616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宋体"/>
              </a:rPr>
              <a:t>测一测：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谁最棒？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158760" y="5291280"/>
            <a:ext cx="81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更多免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板尽在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母鸡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395280" y="69228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它负责、慈爱、勇敢、辛苦，因为它有了一群鸡雏。它伟大，因为它是鸡母亲。一个母亲必定就是一位英雄。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24000" y="26370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有什么体会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3284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都是在写母亲，对母亲的赞颂之情在逐句加深。作者为母鸡身上所表现出的母爱所震撼，认识到天地间所有的母亲都是英雄。这是对普天下所有母亲的赞颂。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79280" y="1890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解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48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我不敢再讨厌母鸡了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79280" y="1628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作者用“不敢”来表明自己对母鸡情感的变化。他此时已不是简单的喜欢，而是母爱的一种纯洁、神圣的尊敬，是情感的升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98400" y="42102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4684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AutoShape 34">
            <a:hlinkClick r:id="" action="ppaction://hlinkshowjump?jump=nextslide"/>
          </p:cNvPr>
          <p:cNvSpPr/>
          <p:nvPr/>
        </p:nvSpPr>
        <p:spPr>
          <a:xfrm>
            <a:off x="183528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5"/>
          <p:cNvSpPr/>
          <p:nvPr/>
        </p:nvSpPr>
        <p:spPr>
          <a:xfrm>
            <a:off x="341964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36"/>
          <p:cNvSpPr/>
          <p:nvPr/>
        </p:nvSpPr>
        <p:spPr>
          <a:xfrm>
            <a:off x="493236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7"/>
          <p:cNvSpPr/>
          <p:nvPr/>
        </p:nvSpPr>
        <p:spPr>
          <a:xfrm>
            <a:off x="6300720" y="479736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8"/>
          <p:cNvSpPr/>
          <p:nvPr/>
        </p:nvSpPr>
        <p:spPr>
          <a:xfrm>
            <a:off x="774072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61812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孵鸡雏前；孵鸡雏后；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AutoShape 34">
            <a:hlinkClick r:id="rId1" action="ppaction://hlinksldjump"/>
          </p:cNvPr>
          <p:cNvSpPr/>
          <p:nvPr/>
        </p:nvSpPr>
        <p:spPr>
          <a:xfrm>
            <a:off x="341964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5"/>
          <p:cNvSpPr/>
          <p:nvPr/>
        </p:nvSpPr>
        <p:spPr>
          <a:xfrm>
            <a:off x="493236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6"/>
          <p:cNvSpPr/>
          <p:nvPr/>
        </p:nvSpPr>
        <p:spPr>
          <a:xfrm>
            <a:off x="6300720" y="479736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7"/>
          <p:cNvSpPr/>
          <p:nvPr/>
        </p:nvSpPr>
        <p:spPr>
          <a:xfrm>
            <a:off x="774072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46840" y="549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孵鸡雏前；孵鸡雏后；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由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到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不敢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AutoShape 34">
            <a:hlinkClick r:id="rId1" action="ppaction://hlinksldjump"/>
          </p:cNvPr>
          <p:cNvSpPr/>
          <p:nvPr/>
        </p:nvSpPr>
        <p:spPr>
          <a:xfrm>
            <a:off x="493236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35"/>
          <p:cNvSpPr/>
          <p:nvPr/>
        </p:nvSpPr>
        <p:spPr>
          <a:xfrm>
            <a:off x="6300720" y="479736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6"/>
          <p:cNvSpPr/>
          <p:nvPr/>
        </p:nvSpPr>
        <p:spPr>
          <a:xfrm>
            <a:off x="774072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18120" y="62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孵鸡雏前；孵鸡雏后；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由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到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不敢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先分后总；拟人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AutoShape 34">
            <a:hlinkClick r:id="rId1" action="ppaction://hlinksldjump"/>
          </p:cNvPr>
          <p:cNvSpPr/>
          <p:nvPr/>
        </p:nvSpPr>
        <p:spPr>
          <a:xfrm>
            <a:off x="6300720" y="479736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35"/>
          <p:cNvSpPr/>
          <p:nvPr/>
        </p:nvSpPr>
        <p:spPr>
          <a:xfrm>
            <a:off x="774072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61812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孵鸡雏前；孵鸡雏后；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由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到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不敢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先分后总；拟人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AutoShape 34">
            <a:hlinkClick r:id="rId1" action="ppaction://hlinksldjump"/>
          </p:cNvPr>
          <p:cNvSpPr/>
          <p:nvPr/>
        </p:nvSpPr>
        <p:spPr>
          <a:xfrm>
            <a:off x="774072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61812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孵鸡雏前；孵鸡雏后；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由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到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不敢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先分后总；拟人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850040" y="333360"/>
            <a:ext cx="34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请欣赏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的母亲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片断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68360" y="105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生命是母亲给我的。我之能长大成人，是母亲的血汗灌养的。我之能成为一个不十分坏的人，是母亲感化的。我的性格、习惯，是母亲传给的。她一世未曾享过一天福，临死还吃的是粗粮。唉！还说什么呢？心痛！心痛！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</a:rPr>
              <a:t>（老舍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81080" y="117360"/>
            <a:ext cx="878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每课一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一、带着问题来读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 本文是（       ）先生的一篇脍炙人口的佳作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老舍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B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丰子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课文以作者的（      ）变化为线索，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空间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情感）由对母鸡的（       ）转变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__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前后形成了鲜明的对比，赞颂了（  ）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动脑筋，找伙伴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嗅   啼   嘶   吼   嚎   啸   鸣   叫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狼（  ）  鸡（  ） 猿（  ）   狗（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虎（  ）  狮（  ） 马（  ）   鸟（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我会选择修辞方法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拟人    比喻    夸张    反问    设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下蛋的时候，它恨不能让全世界都知道，就是聋子也会被它吵得受不了。   （     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145116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会读：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嘎 嘎   疙 瘩   反 抗   可 恶   狠 狠   成 绩  聋 子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挺 着   警 戒   歪 斜   下 垂   消  瘦   抢 食  洗 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蹲 着   温 暖   啼 叫   凄 惨    慈 爱   辛 苦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小 雏 鸡    一 撮 儿    趁 其 不 备     颤 颤 巍 巍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 声 细 气     无 怨 无 悔    下 毒 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476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ā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187280" y="404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e  dā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843280" y="4762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kà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284720" y="4762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580000" y="54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ě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7164360" y="549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7596360" y="549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ó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-123840" y="1700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ǐ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411280" y="1700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ā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700360" y="2852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í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924360" y="285264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ī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5292720" y="2852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í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6588000" y="285264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ī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250920" y="400536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340000" y="400536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uǒ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8028000" y="4005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ē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916360" y="5157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uà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580000" y="5229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17360" y="260280"/>
            <a:ext cx="900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猫的头撞在门上，桌腿上，撞疼了也不哭。（      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这样的一只母鸡难道不伟大吗？（     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读短文，按要求回答问题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可是，现在我改变了心思，我看见一只孵出一群小雏鸡的母鸡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         ）在院子里， （       ）在院外，它（    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挺着脖儿，表示出世界上并没有可怕的东西。一只鸟儿飞过，（       ）什么东西响了一声，它立刻警戒起来：歪着头听：挺着身儿预备作战；看看（    ），看看（     ），咕咕地警告鸡雏要马上集合到它身边来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 按原文填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 在短文中找出一对近义词。（        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---------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        ）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画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”的句子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句，起到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的作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短文主要叙述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说明了母鸡很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_________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@50HK}I5$49QE}FX(UPM]0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WordArt 6"/>
          <p:cNvSpPr txBox="1"/>
          <p:nvPr/>
        </p:nvSpPr>
        <p:spPr>
          <a:xfrm>
            <a:off x="2195640" y="2637000"/>
            <a:ext cx="5329080" cy="20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谢谢观赏  再见</a:t>
            </a:r>
            <a:endParaRPr b="1" lang="en-US" sz="36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100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28E0-BC06-4909-8053-F01B7F36978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66"/>
                </a:solidFill>
                <a:latin typeface="Arial"/>
              </a:rPr>
              <a:t>试一试</a:t>
            </a: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6" name="Picture 3" descr="163746"/>
          <p:cNvPicPr/>
          <p:nvPr/>
        </p:nvPicPr>
        <p:blipFill>
          <a:blip r:embed="rId1"/>
          <a:stretch/>
        </p:blipFill>
        <p:spPr>
          <a:xfrm>
            <a:off x="6480000" y="4227480"/>
            <a:ext cx="2664000" cy="26305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题目（            ）作者（   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文用的什么写作手法（ 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抑后扬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扬后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对母鸡的态度先是（      ），后来是（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欢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讨厌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崇敬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憎恨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是聋子也会被它吵得受不下去。”用（      ）修辞方法，表现了母鸡（      ）的性格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拟人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夸张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喻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病呻吟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欢炫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”以前讨厌母鸡的原因不正确的一项是（ 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病呻吟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欺软怕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”曾在小时候受了母鸡的惊吓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欢炫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不敢再讨厌母鸡了。”其中“不敢”一词的含义是（ 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害怕母鸡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很敬佩母鸡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赌气的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通过写对母鸡看法的变化，表达了对（     ）的赞颂之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母鸡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母爱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276720" y="404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547640" y="40464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3492360" y="69228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763640" y="333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《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母鸡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》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067280" y="33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老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4356000" y="6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284720" y="14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6659640" y="14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443640" y="220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2268360" y="256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6732720" y="33577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7956720" y="4365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673272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5"/>
          <p:cNvSpPr/>
          <p:nvPr/>
        </p:nvSpPr>
        <p:spPr>
          <a:xfrm>
            <a:off x="1908000" y="31827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ji2_059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007-08-13_18-55-25_2557-19547"/>
          <p:cNvPicPr/>
          <p:nvPr/>
        </p:nvPicPr>
        <p:blipFill>
          <a:blip r:embed="rId1"/>
          <a:stretch/>
        </p:blipFill>
        <p:spPr>
          <a:xfrm>
            <a:off x="-324000" y="-1900080"/>
            <a:ext cx="10029960" cy="87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ji2_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2009101212932443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00"/>
                </a:solidFill>
                <a:latin typeface="Arial"/>
              </a:rPr>
              <a:t>阅读提示</a:t>
            </a: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1680" y="1844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从课文的哪几段可以读出老舍先生很讨厌母鸡？哪几段写崇敬母鸡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者为什么讨厌这只母鸡？自己试着用两三个词来概括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者对母鸡的态度为什么发生了改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课文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段在文中起什么作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母鸡具有哪些优秀的品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1:17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2:23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