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57C2-FF91-4A18-B4E0-383CF7E8F8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D950-F589-4AF5-80E2-1F846A2955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814-805F-4057-A660-6FFA32BA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633-22CA-4D44-850A-0CBC794F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6AD-6C44-4B6F-8EB6-910A25FA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926-C981-446A-8FD4-445C6C06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637-D171-4677-BB04-5EEDB38F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1D8-7970-4B04-81BC-EE3D7E62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A949-9237-4C0C-9780-21CAA9E6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CAA-F774-4B0A-82E3-C836079F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C3F-BD06-428D-A089-ED9B18EA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112-DDA6-44D3-AEAB-89F09F3B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501-E12E-4499-9758-344A75F0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CA6-6B9C-4D5B-B74D-B5870608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B196-5831-44BB-A971-E780AC291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4356000" y="765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湘教版一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71640" y="270828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善 良 的 孩 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442520" y="568476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61272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306864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认为“善良”指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活中你做过哪些善良的事情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2268360" y="1413000"/>
            <a:ext cx="4680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4787-0265-4131-98E3-1BA3C011AA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角色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会男孩的善良，懂得应做一个心地善良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1908000" y="2997360"/>
            <a:ext cx="60501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传      掉     星    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灭     赶      别     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979640" y="2492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1619280" y="227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u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276720" y="2276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di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4572000" y="2276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xī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0360" y="23493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zh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169236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m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205080" y="422748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g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048200" y="544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4716360" y="422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bi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012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su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21"/>
          <p:cNvSpPr txBox="1"/>
          <p:nvPr/>
        </p:nvSpPr>
        <p:spPr>
          <a:xfrm>
            <a:off x="3429000" y="1125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生字大盘点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1127160" y="5902200"/>
            <a:ext cx="62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2195640" y="2781360"/>
            <a:ext cx="57261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善良   实现   愿望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掉下   传说   帮助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熄灭   赶紧   所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419640" y="134136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692280"/>
            <a:ext cx="4643280" cy="616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4572000" cy="360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4643280" y="4292640"/>
            <a:ext cx="4500720" cy="2565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3564000" y="189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课文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5508720" y="2240640"/>
            <a:ext cx="34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善良”是什么意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个善良的孩子是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为什么说他是个善良的孩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580000" y="119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1116000" y="285048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个男孩，他有许多愿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愿望是什么？小男孩有些什么愿望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132000" y="162864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点句子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402920" y="184464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男孩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赶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他说：“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快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熄灭，你回天上找你的兄弟姐妹去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把句子中加横线的词去掉后，意思会有什么不同。从这里体会到了什么？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"/>
          <p:cNvSpPr/>
          <p:nvPr/>
        </p:nvSpPr>
        <p:spPr>
          <a:xfrm>
            <a:off x="2484360" y="2349360"/>
            <a:ext cx="33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476360" y="1341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想一想，说一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1979640" y="2924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星星飞回天空以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会对伙伴们说些什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6:11:33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23:39:29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