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20.jpeg" ContentType="image/jpeg"/>
  <Override PartName="/ppt/media/image15.jpeg" ContentType="image/jpeg"/>
  <Override PartName="/ppt/media/camera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7090-C609-4421-B750-84E624A03C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D066-7FE5-4B38-A372-06BE72B61A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391-FBE1-4490-9EB4-8C0E656F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023-EFA3-49C9-930C-039676CD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2A1-FB5D-4432-B189-6486016D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7F6-0DCE-437C-BA44-05F7FDBE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82D-FDFA-4A69-999E-74095F28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93A-F660-4BBE-BC05-CE02CB7A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E3D-6774-4EA8-B4E8-3924B1C2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B0EA-A6E9-48BC-BF5F-26C19E94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DF1-8288-456D-94F2-B3BAE3A5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56F-EDF1-4957-A3D6-943D615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C3A-7AB1-400A-99E0-5743AF9B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8A0-F1D1-488C-BD8F-0B692B04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F7D4-D289-466A-8C4C-2A3FDF14DA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16"/>
          <p:cNvPicPr/>
          <p:nvPr/>
        </p:nvPicPr>
        <p:blipFill>
          <a:blip r:embed="rId1"/>
          <a:stretch/>
        </p:blipFill>
        <p:spPr>
          <a:xfrm>
            <a:off x="3419640" y="15840"/>
            <a:ext cx="5705280" cy="586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Text Box 4"/>
          <p:cNvSpPr/>
          <p:nvPr/>
        </p:nvSpPr>
        <p:spPr>
          <a:xfrm>
            <a:off x="179280" y="1341360"/>
            <a:ext cx="32403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Arial"/>
                <a:ea typeface="华文新魏"/>
              </a:rPr>
              <a:t>勇气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85720" y="40845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狄斯尼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美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1693440" y="607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792800" y="765000"/>
            <a:ext cx="30610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来分析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11280" y="270828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课文写了哪两种“勇气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幼圆"/>
              </a:rPr>
              <a:t>这两种勇气各表现在哪些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t"/>
          <p:cNvPicPr/>
          <p:nvPr/>
        </p:nvPicPr>
        <p:blipFill>
          <a:blip r:embed="rId1"/>
          <a:stretch/>
        </p:blipFill>
        <p:spPr>
          <a:xfrm>
            <a:off x="281160" y="1125360"/>
            <a:ext cx="2209680" cy="4075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1495440" y="1946160"/>
            <a:ext cx="70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着陆失误大胆求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95280" y="357336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09480" y="5486400"/>
            <a:ext cx="794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文鼎中钢笔行楷"/>
              </a:rPr>
              <a:t>因急迫和智慧产生的勇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578480" y="685800"/>
            <a:ext cx="20095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美国伞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315200" y="190512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信任勇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315200" y="30481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机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7315200" y="41911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智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895480" y="3048120"/>
            <a:ext cx="54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不幸被捕越窗逃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971800" y="41911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身陷绝境再返农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16"/>
          <p:cNvPicPr/>
          <p:nvPr/>
        </p:nvPicPr>
        <p:blipFill>
          <a:blip r:embed="rId1"/>
          <a:stretch/>
        </p:blipFill>
        <p:spPr>
          <a:xfrm>
            <a:off x="7016760" y="0"/>
            <a:ext cx="2127240" cy="364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Rectangle 3"/>
          <p:cNvSpPr/>
          <p:nvPr/>
        </p:nvSpPr>
        <p:spPr>
          <a:xfrm>
            <a:off x="0" y="5486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文鼎中钢笔行楷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因渴望和平，信仰和平产生的勇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57400" y="152280"/>
            <a:ext cx="3306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文鼎行楷碑体"/>
              </a:rPr>
              <a:t>法国妇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0526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Arial"/>
              </a:rPr>
              <a:t>外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1143000" y="1143000"/>
            <a:ext cx="5661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（１）她长得并不漂亮，虽不是笑容满 面，但是她的眼光却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善良而镇定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（２）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满脸苍白，泪眼模糊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Arial"/>
              </a:rPr>
              <a:t>语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1116000" y="256536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１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哦，当然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”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２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哦，当然啦。快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1143000" y="3581280"/>
            <a:ext cx="753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（１）带进屋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（２）没有向她丈夫的尸体看上一 眼，直直的注视着这个美国青年的眼睛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幼圆"/>
              </a:rPr>
              <a:t>毫不迟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把他送回壁炉边的碗橱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0" y="364500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Arial"/>
              </a:rPr>
              <a:t>动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39640" y="2781360"/>
            <a:ext cx="842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美国伞兵和法国妇女的勇气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更赞赏哪一种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755640" y="765000"/>
            <a:ext cx="45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来交流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513800" y="2602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美国青年：拼命求生的智慧和勇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0920" y="1052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法国妇女：痛恨战争、渴望和平而产生的不怕牺牲的勇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949920" y="2276640"/>
            <a:ext cx="378720" cy="581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Verdana"/>
              </a:rPr>
              <a:t>作者更看重法国妇女的勇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50920" y="292428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一方面，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Verdana"/>
              </a:rPr>
              <a:t>作者不厌其烦地引述将军的话褒扬这位法国妇女</a:t>
            </a:r>
            <a:r>
              <a:rPr b="1" lang="zh-CN" sz="2800" spc="-1" strike="noStrike" u="sng">
                <a:solidFill>
                  <a:srgbClr val="336600"/>
                </a:solidFill>
                <a:uFillTx/>
                <a:latin typeface="Verdana"/>
              </a:rPr>
              <a:t>，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Verdana"/>
              </a:rPr>
              <a:t>用意很明显</a:t>
            </a:r>
            <a:r>
              <a:rPr b="1" lang="zh-CN" sz="2800" spc="-1" strike="noStrike" u="sng">
                <a:solidFill>
                  <a:srgbClr val="336600"/>
                </a:solidFill>
                <a:uFillTx/>
                <a:latin typeface="Verdana"/>
              </a:rPr>
              <a:t>。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另一方面，美国青年身上所体现出的更多的是一种个体的智慧与勇气的力量。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Verdana"/>
              </a:rPr>
              <a:t>法国妇女身上所体现出的因为渴望和平，痛恨战争而产生的信仰的勇气和力量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则更多地体现出人类由于对和平的渴望而产生的巨大的精神力量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。这种勇气是人类向往自由、光明、幸福的美好品质，是人类由野蛮迈向文明，不断发展进步的强大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1440" y="350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Verdana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Verdana"/>
              </a:rPr>
              <a:t>这位法国妇女是一个有信仰的人，对和平的渴望，对和平的信仰给了她勇气和力量，使她变得美丽而高贵，令人仰之弥高。这种信仰使她能够在危急的时刻做出正确的选择，因而他是幸福的女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01400" y="404640"/>
            <a:ext cx="3061080" cy="91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来探究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24000" y="162864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文中空军将领评价法国妇女说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她是一个幸福的女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她懂得她信仰的是什么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对此你怎样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董"/>
          <p:cNvPicPr/>
          <p:nvPr/>
        </p:nvPicPr>
        <p:blipFill>
          <a:blip r:embed="rId1"/>
          <a:stretch/>
        </p:blipFill>
        <p:spPr>
          <a:xfrm>
            <a:off x="5003640" y="3573360"/>
            <a:ext cx="2808360" cy="2551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刘胡兰"/>
          <p:cNvPicPr/>
          <p:nvPr/>
        </p:nvPicPr>
        <p:blipFill>
          <a:blip r:embed="rId2"/>
          <a:stretch/>
        </p:blipFill>
        <p:spPr>
          <a:xfrm>
            <a:off x="324000" y="18900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邱少云"/>
          <p:cNvPicPr/>
          <p:nvPr/>
        </p:nvPicPr>
        <p:blipFill>
          <a:blip r:embed="rId3"/>
          <a:stretch/>
        </p:blipFill>
        <p:spPr>
          <a:xfrm>
            <a:off x="5003640" y="0"/>
            <a:ext cx="2738520" cy="2657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黄"/>
          <p:cNvPicPr/>
          <p:nvPr/>
        </p:nvPicPr>
        <p:blipFill>
          <a:blip r:embed="rId4"/>
          <a:stretch/>
        </p:blipFill>
        <p:spPr>
          <a:xfrm>
            <a:off x="324000" y="3514680"/>
            <a:ext cx="2630160" cy="236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1343880" y="2781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刘胡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384240" y="6165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董存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948360" y="2852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312600" y="2781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邱少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1116000" y="6093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继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838080" y="289548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知道新时代中体现了非凡勇气的事例吗？请简要地讲给大家听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765800" y="112536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来拓展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0019b91edf721146745a06"/>
          <p:cNvPicPr/>
          <p:nvPr/>
        </p:nvPicPr>
        <p:blipFill>
          <a:blip r:embed="rId1"/>
          <a:stretch/>
        </p:blipFill>
        <p:spPr>
          <a:xfrm>
            <a:off x="5148360" y="549360"/>
            <a:ext cx="3816360" cy="2544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03050501"/>
          <p:cNvPicPr/>
          <p:nvPr/>
        </p:nvPicPr>
        <p:blipFill>
          <a:blip r:embed="rId2"/>
          <a:stretch/>
        </p:blipFill>
        <p:spPr>
          <a:xfrm>
            <a:off x="2700360" y="3933720"/>
            <a:ext cx="370836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20101214185642624501"/>
          <p:cNvPicPr/>
          <p:nvPr/>
        </p:nvPicPr>
        <p:blipFill>
          <a:blip r:embed="rId3"/>
          <a:stretch/>
        </p:blipFill>
        <p:spPr>
          <a:xfrm>
            <a:off x="250920" y="3860640"/>
            <a:ext cx="2154240" cy="2581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xin_5931208301039968158566"/>
          <p:cNvPicPr/>
          <p:nvPr/>
        </p:nvPicPr>
        <p:blipFill>
          <a:blip r:embed="rId4"/>
          <a:stretch/>
        </p:blipFill>
        <p:spPr>
          <a:xfrm>
            <a:off x="6764400" y="3500280"/>
            <a:ext cx="2050920" cy="302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xinsrc_432040602105471829574"/>
          <p:cNvPicPr/>
          <p:nvPr/>
        </p:nvPicPr>
        <p:blipFill>
          <a:blip r:embed="rId5"/>
          <a:stretch/>
        </p:blipFill>
        <p:spPr>
          <a:xfrm>
            <a:off x="179280" y="189000"/>
            <a:ext cx="44863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39640" y="184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我们中学生的勇气可以表现在哪些方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复件 世界地图11"/>
          <p:cNvPicPr/>
          <p:nvPr/>
        </p:nvPicPr>
        <p:blipFill>
          <a:blip r:embed="rId1"/>
          <a:stretch/>
        </p:blipFill>
        <p:spPr>
          <a:xfrm>
            <a:off x="3851280" y="404640"/>
            <a:ext cx="5292720" cy="389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0" y="18900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故事背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4630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具有革命传统的法国人民没有屈服，而是拿起武器，同世界向往和平的反法西斯的人民一起英勇斗争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4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早晨，</a:t>
            </a: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盟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个伞兵师在德军防线后方空降，本文的故事发生了。之后就是著名的诺曼底登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179280" y="1268280"/>
            <a:ext cx="367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93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，德、意、日和</a:t>
            </a:r>
            <a:r>
              <a:rPr b="1" lang="zh-CN" sz="2600" spc="-1" strike="noStrike">
                <a:solidFill>
                  <a:srgbClr val="ff9900"/>
                </a:solidFill>
                <a:latin typeface="Arial"/>
              </a:rPr>
              <a:t>英、美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法两个帝国主义集团为争夺世界霸权而爆发的第二次世界大战，很快蔓延全球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，短短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周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后，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号称欧洲“第一陆军强国”的法国就宣布投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u=3584878081,869350815&amp;gp=1"/>
          <p:cNvPicPr/>
          <p:nvPr/>
        </p:nvPicPr>
        <p:blipFill>
          <a:blip r:embed="rId1"/>
          <a:stretch/>
        </p:blipFill>
        <p:spPr>
          <a:xfrm>
            <a:off x="2340000" y="260280"/>
            <a:ext cx="4572000" cy="41497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"/>
          <p:cNvSpPr/>
          <p:nvPr/>
        </p:nvSpPr>
        <p:spPr>
          <a:xfrm>
            <a:off x="630360" y="4656240"/>
            <a:ext cx="7991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做一个有正义感的、有智慧的、有勇气的中学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637440" y="808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Verdana"/>
              </a:rPr>
              <a:t>总结全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5360" y="3012840"/>
            <a:ext cx="889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和平与发展是人类永恒的主题，然而，在漫长的人类历史上却不断地发生战争，血腥和暴力浸透了人类的历史。在未来的岁月中，人类仍然需要警惕和反对一切非正义的战争。让我们记住：和平是一种信仰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23640" y="4220640"/>
            <a:ext cx="784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搜集有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勇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信仰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幼圆"/>
                <a:ea typeface="幼圆"/>
              </a:rPr>
              <a:t>的名言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79280" y="2349360"/>
            <a:ext cx="84250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幼圆"/>
              </a:rPr>
              <a:t>试用美国伞兵的口吻讲述这个故事。 比较有什么变化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4360" y="620640"/>
            <a:ext cx="30956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Verdana"/>
                <a:ea typeface="华文行楷"/>
              </a:rPr>
              <a:t>作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A805-2AC5-4A8A-9AFA-C4555A932E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49040" y="836640"/>
            <a:ext cx="30610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  <a:ea typeface="华文行楷"/>
              </a:rPr>
              <a:t>给下面生字注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132000" y="324972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新魏"/>
              </a:rPr>
              <a:t>颀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新魏"/>
              </a:rPr>
              <a:t>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796000" y="335772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新魏"/>
              </a:rPr>
              <a:t>熹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新魏"/>
              </a:rPr>
              <a:t>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26920" y="4689360"/>
            <a:ext cx="208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新魏"/>
              </a:rPr>
              <a:t>勋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新魏"/>
              </a:rPr>
              <a:t>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940360" y="4724280"/>
            <a:ext cx="17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新魏"/>
              </a:rPr>
              <a:t>闩</a:t>
            </a:r>
            <a:r>
              <a:rPr b="1" lang="zh-CN" sz="6000" spc="-1" strike="noStrike">
                <a:solidFill>
                  <a:srgbClr val="000000"/>
                </a:solidFill>
                <a:latin typeface="Verdana"/>
                <a:ea typeface="华文新魏"/>
              </a:rPr>
              <a:t>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76720" y="2590920"/>
            <a:ext cx="93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5867280" y="2781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x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651640" y="4292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hu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042920" y="270828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j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686160" y="4191120"/>
            <a:ext cx="114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x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755640" y="335772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拘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348000" y="501336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276720" y="472428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132000" y="429264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579600" y="6132600"/>
            <a:ext cx="65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747800" y="703440"/>
            <a:ext cx="5400720" cy="81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看谁对又快</a:t>
            </a:r>
            <a:endParaRPr b="0" lang="en-US" sz="1800" spc="1" strike="noStrike">
              <a:ln cap="sq"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21440" y="1628640"/>
            <a:ext cx="11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拘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031000" y="1700280"/>
            <a:ext cx="4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（言语、行动）过于谨慎，拘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21440" y="2349360"/>
            <a:ext cx="11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颀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821320" y="241776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（身量）高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68360" y="314172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孔武有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822640" y="3213000"/>
            <a:ext cx="6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威武而有力量。（孔：很、甚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1440" y="3933720"/>
            <a:ext cx="115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熹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4529880" y="4076640"/>
            <a:ext cx="66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天色微明。熹，放光明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701280" y="4797360"/>
            <a:ext cx="10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悉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667960" y="4869000"/>
            <a:ext cx="12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全心全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926280" y="551664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寥寥可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850920" y="5661000"/>
            <a:ext cx="19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形容数量非常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1789920" y="1844640"/>
            <a:ext cx="38840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我能简要讲述故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ic058"/>
          <p:cNvPicPr/>
          <p:nvPr/>
        </p:nvPicPr>
        <p:blipFill>
          <a:blip r:embed="rId1"/>
          <a:stretch/>
        </p:blipFill>
        <p:spPr>
          <a:xfrm>
            <a:off x="34920" y="189000"/>
            <a:ext cx="5562720" cy="63244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6844320" y="1371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  <a:ea typeface="华文中宋"/>
              </a:rPr>
              <a:t>（开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5724360" y="2362320"/>
            <a:ext cx="34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空投出现意外，美国伞兵试着去敲一家法国农   户的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ic061"/>
          <p:cNvPicPr/>
          <p:nvPr/>
        </p:nvPicPr>
        <p:blipFill>
          <a:blip r:embed="rId1"/>
          <a:stretch/>
        </p:blipFill>
        <p:spPr>
          <a:xfrm>
            <a:off x="304920" y="304920"/>
            <a:ext cx="5410080" cy="6248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6324480" y="106668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  <a:ea typeface="华文中宋"/>
              </a:rPr>
              <a:t>（发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095880" y="2590920"/>
            <a:ext cx="27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法国农妇和农夫救了他，结果被发现，农夫被德国兵当场击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012000" y="144792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中宋"/>
              </a:rPr>
              <a:t>美国伞兵出逃被围捕，智慧和勇气使他再次奔回农妇家，而勇敢的农妇再次隐藏了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727680" y="533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Verdana"/>
                <a:ea typeface="华文中宋"/>
              </a:rPr>
              <a:t>（高潮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WWII002"/>
          <p:cNvPicPr/>
          <p:nvPr/>
        </p:nvPicPr>
        <p:blipFill>
          <a:blip r:embed="rId1"/>
          <a:stretch/>
        </p:blipFill>
        <p:spPr>
          <a:xfrm>
            <a:off x="304920" y="533520"/>
            <a:ext cx="5638680" cy="585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699240" y="907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Verdana"/>
                <a:ea typeface="华文中宋"/>
              </a:rPr>
              <a:t>（结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651640" y="1916280"/>
            <a:ext cx="316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中宋"/>
              </a:rPr>
              <a:t>躲了三天而安全脱险，两种勇气战胜了残暴的敌人，诺曼底解放，美伞兵重返部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zzp62"/>
          <p:cNvPicPr/>
          <p:nvPr/>
        </p:nvPicPr>
        <p:blipFill>
          <a:blip r:embed="rId1"/>
          <a:stretch/>
        </p:blipFill>
        <p:spPr>
          <a:xfrm>
            <a:off x="380880" y="765000"/>
            <a:ext cx="495144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33:53Z</dcterms:modified>
  <cp:revision>1</cp:revision>
  <dc:subject/>
  <dc:title>幻灯片 1</dc:title>
</cp:coreProperties>
</file>