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17FD-A77A-476B-8241-B7308BDE74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7417-972E-4ED7-B7DC-9B6545E2A1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598-4452-4C2C-83E7-6989B2AA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A53-BC01-4B9A-AF44-69993ED3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68B-4081-4C0F-BFA0-22CE9952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51F-95EC-4AF0-B705-2A977FB9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C8F-A4C9-4AA5-8898-D0FE7AE8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108-AD16-483B-9CE0-3A88AA88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58B-B2D5-4FE2-BE4A-7E81910F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5B8-85BF-4B32-9C84-697DE54F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9C1-3170-4799-8D9D-3426B5C4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B4C-5D26-410F-A334-9034F55B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412-BE59-432E-A518-5CFF3B77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883-22E0-4111-9B60-5F3B5F99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F0D3-B74D-48D2-9F9B-6617AF20F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108160" y="1341360"/>
            <a:ext cx="4896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隶书"/>
                <a:ea typeface="隶书"/>
              </a:rPr>
              <a:t>元日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2270520" y="43545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009030419450090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924360" y="1484280"/>
            <a:ext cx="122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噼噼啪啪的爆竹声中，旧的一年过去了，新的一年来到了。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N$D[GAIT9)FHDI~$@0SUG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迎着和煦的春风，开怀畅饮屠苏酒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84f3640ca2c1bdf27acbe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50920" y="227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孩子们喝着屠苏酒，会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-108000" y="620640"/>
            <a:ext cx="939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迎着和煦的春风，品着新年的吉祥酒，他们可能会说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324000" y="4205160"/>
            <a:ext cx="68040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老年人喝着屠苏酒，会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50920" y="3268800"/>
            <a:ext cx="82296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年轻人喝着屠苏酒，会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891bc7ca8fb4a32f7e3e6f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-181440" y="188640"/>
            <a:ext cx="748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在王安石担任宰相之后，积极推行新法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元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就写于这一年的春节。在他的心目中，新的国家政策好像春风浩荡，阳光普照，一定会给国家带来了欣欣向荣、人民安居乐业的新气象，此时此刻，王安石的心情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55640" y="4365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兴 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411280" y="4365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激 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140360" y="4365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充 满 信 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891bc7ca8fb4a32f7e3e6f59"/>
          <p:cNvPicPr/>
          <p:nvPr/>
        </p:nvPicPr>
        <p:blipFill>
          <a:blip r:embed="rId1"/>
          <a:stretch/>
        </p:blipFill>
        <p:spPr>
          <a:xfrm>
            <a:off x="-181080" y="0"/>
            <a:ext cx="9433080" cy="6994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671480" y="1346040"/>
            <a:ext cx="47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84360" y="10047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在噼噼啪啪的爆竹声中，旧的一年过去了，新的一年到了；人们迎着和煦的春风，开怀畅饮屠苏酒。旭日的光辉普照千家万户；为庆祝新春，人们总要拿新的春联换下旧的春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228600" y="5111640"/>
            <a:ext cx="57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梅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93f3ff8886cc9c5acafc7a6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-3600" y="907920"/>
            <a:ext cx="3502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为  有  暗  香  来 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764800" y="1844640"/>
            <a:ext cx="42440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  安  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184560" y="907920"/>
            <a:ext cx="20192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凌  寒  独  自  开 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051280" y="1052640"/>
            <a:ext cx="3781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墙  角  数  枝  梅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7087680" y="1125360"/>
            <a:ext cx="1470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梅   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198440" y="907920"/>
            <a:ext cx="27925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遥  知  不  是  雪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复件 1190013376_bcg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547640" y="1341360"/>
            <a:ext cx="374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泊  船  瓜  洲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55640" y="2060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953880" y="21337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王 安 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11280" y="2781360"/>
            <a:ext cx="56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京  口  瓜  洲  一  水  间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4360" y="357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钟  山  只  隔  数  重  山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11280" y="429264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春  风  又  绿  江  南  岸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84360" y="515772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明  月  何  时  照  我  还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8d93c20c791959176259f3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 rot="1845000">
            <a:off x="1479240" y="1558080"/>
            <a:ext cx="10033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谢    谢   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A285-9DF6-4A54-A4AF-9A060D6AD9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06987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7529040" y="4840200"/>
            <a:ext cx="729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舞  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xin_282010620113471819121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4748400" y="126828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放 烟 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86206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086960" y="189000"/>
            <a:ext cx="15634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挂  灯  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%E8%BF%87%E5%B9%B4%E4%BA%86%EF%BC%88%E5%A7%9C%E5%B0%91%E5%8D%8E%E6%91%84%EF%BC%89_JPG_jp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-220320" y="1773360"/>
            <a:ext cx="1277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贴  春  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61_8944_46e5374cb1583aa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5611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900000" y="580392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隶书"/>
              </a:rPr>
              <a:t>全 家 人 围 坐 观 看 春 节 联 欢 晚 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d81a3c5460e25f2d10060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009042317575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403280" y="620280"/>
            <a:ext cx="66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在字典中的解释有以下六种，你认为在这里是哪种解释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开始的，第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为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主要、根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元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构成一个整体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货币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>
            <a:hlinkClick r:id="rId3" action="ppaction://hlinksldjump"/>
          </p:cNvPr>
          <p:cNvSpPr/>
          <p:nvPr/>
        </p:nvSpPr>
        <p:spPr>
          <a:xfrm>
            <a:off x="1258920" y="38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元日：农历正月初一，即春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2009042317594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3560" y="17114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自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900000" y="4292640"/>
            <a:ext cx="781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边读边把不懂的字或词用圈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24922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把整首诗读通、读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900000" y="3573360"/>
            <a:ext cx="7954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通过自己的朗读，试着把节律画出来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2009042317575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1403280" y="76500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4000" y="189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资料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971640" y="1052640"/>
            <a:ext cx="619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一岁除：一年已尽。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71640" y="1700280"/>
            <a:ext cx="694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屠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指屠苏酒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古代习俗，大年初一全家合饮这种用屠苏草浸泡的酒，以驱邪避瘟疫，求得长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042920" y="2924280"/>
            <a:ext cx="69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曈曈：太阳初升时光亮耀眼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042920" y="3357720"/>
            <a:ext cx="705636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新桃，旧符：古代一种风俗，农历正月初一时人们用桃木板写上神茶、郁垒两位神灵的名字，悬挂在门旁，用来压邪。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现在则指春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5:26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1:21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